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A33-F460-4356-8F71-12B9079B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8E1-CC5B-4ABD-BAA0-8B32F88D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C0354-CB3B-4276-A2F6-9C2FF856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6B44A6-B4E7-46BA-A616-37EFA73A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82251-0D96-4E9B-B698-9367CC04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237DA-AAFE-4B80-ADAB-01AA22D6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83725-D681-4CFC-871C-93ACEFDE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74707-F558-4A9C-84E8-4E1D36F4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63708-28DC-4150-9AEF-35062291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2A655-9E96-4016-A1A8-5DED2BE49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F3555-8E8A-4E92-8DF3-50E77AEB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29DB0-A471-42B1-89C9-36791C97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EC59-7173-4573-86AA-BD385BFF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ECCA2B-D296-4875-A94A-1ABF1670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04832-DA95-4BF7-B092-8CF857B4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D4C8C-4733-41C9-8EA8-99E35B36E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3D576-77EC-49E9-A710-1B32200A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1B04E-E1E4-49E8-A870-290E0582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522E5-CE76-4AD4-B023-F81AE743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E1840-3034-4038-9C02-5FF2BFB7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96C8AE-E421-42FB-969C-CE55726F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3C215-E878-4DA6-90C4-304160DD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F1784-61A4-4FCB-A0E5-D070F633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FA88-503E-4638-87E7-F7B20628C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5655B-CF0A-41DD-A52D-41A6DCFB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5FAD5-1496-4BF2-9A79-F8A84418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B2B95-2933-4577-8889-20398020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AA8BB-75B7-4531-B7FF-E7BA08E5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F290A-77E6-4016-8E8C-C2137FA8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366D2-EA86-4DE4-90B6-4C63D868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F30E3-9F8D-4198-9FB9-EE1AA263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7A9B5-CBDB-4930-B9D8-A3208EE8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C578B-AF4F-4E0D-AD05-D04E0933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CD1047-F552-4714-BBDD-8E1D06F2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A84F-E973-4A47-B03D-DCF51043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39972-A365-4E70-9944-2CD5CD2D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0BC7D-5DC8-4E3E-9A4F-28006BAA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5D81C-B819-46D9-BD65-D27EA46C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839626-FE34-4025-B0EE-A1246A356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3A97E-7110-4B43-AEB8-7C555C9F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7CF2D-DB76-4E8F-8D1F-99861D32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CD9B5-BEB3-4791-9340-146271E5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C1C54-DDDB-46B9-9217-B6BCDD46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F3530-B8B7-4D6B-82C9-C9152325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BA715-03FE-4E49-8191-6CD72A45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1330-A889-4FDB-AC5C-87904837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A1243-CFEC-498A-9EFD-B6A61E9E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415A6-B5E3-458A-A85F-03DEED83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3E396-33C6-4F77-93C2-3901779C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204B7-A78B-4577-B002-1733E295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946F7-096D-445B-B697-12F45CEB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058BA7-361E-484C-A09B-2CF35B95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1E8A1-7C79-41BB-8924-17BDC034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3D49C-0889-456A-8D71-104F4CA6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EE3A4-FA96-4994-8967-9709A124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D67FD-1525-47B9-BED2-21A2D2C7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B41AF-8B6A-4A15-9B2B-1061051E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E8CA4F-1929-438A-8E55-A467EA9D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CDBEF-EDAB-47F9-A25D-2136A1CB1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CFFF6-E806-48EF-B6A0-40AC3AE2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1CFDAF-26C0-479A-A999-0F9777A3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4CF8A-F37D-408A-A097-D3A98FD2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A2D389-2D48-4AE2-BDD2-159A9559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CDCD12-3785-4CBE-AA52-9FB02B58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B65E6-3C2D-480C-8828-28B83861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9A05A-C9FC-4231-A923-7AA61157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8AC4F3-0C67-4DDD-8F53-975CAD75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00C1-376A-4F78-92B4-6ED1A287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5716B2-F208-439B-A399-7B62415F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84496-6455-44C9-A3FC-B46C343D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328797-9B81-4EAA-A182-97A1D722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0AD843-0189-455C-BC1E-9A243034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0B5D4-3C7C-493B-9BC3-0D548570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B356F0-EB0A-4409-AFAD-26F1FDDB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75287C-28A1-4D78-B8CA-6633858C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9B4452-7F30-47A4-A928-8DCCC218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259292-672C-4CD2-8C9F-CFFAB52E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81CB-7568-4098-841F-94D48C2E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6FAC-5F6B-4CED-AA10-1EA0206B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DA81-8429-4D62-AC18-42E7FE55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D61-83B9-4286-84F2-E17F7CEE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C43A-A281-439D-920C-FAF494E4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8AF9-17FF-48C6-B5D7-2A687487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A6C5-E154-4921-A583-790B434A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7C1D-2B15-4156-9A72-753D8207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DFBD-A36A-4B2F-9307-A04A64B9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CCB05-882B-489D-AABD-1365C50B3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76F32-EED0-4BE1-803E-B3B117BF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730AA-B04E-4D26-8F14-753F516F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B4F81-2D7C-459C-9F4A-0F830893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5DD08-1459-48CF-BC2A-A87268B2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E0C5-A4CA-46EC-841D-EFE5EA2B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726B5-C681-4F05-957A-4D9B8AEB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47B79-F398-4BE6-AD32-A5132FEE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5ADDA-2F34-4DEF-B4B6-F152E83E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71AEA-30C0-4591-A8E0-785E51FD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D5FBC-3070-4531-A4B9-C5CA3EA50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E60F8-FAC7-4DA8-B7C9-50C8829F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BDBE7-167F-4565-A730-75A7E19D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7603C-75DB-4EFF-A0DC-8B162153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10BFF-65B8-41CA-B5DA-0CE9CA2D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8BB3B-0A88-44E1-8322-3E777FF0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C09F-AACA-4E07-86EC-1211EB87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FE453-480A-45E8-88F0-24B1B773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EC592-6CA2-4271-B0AF-70E8441E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A0878-9ECC-46EA-8F0D-42F6C40B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45C81-C95E-4140-AAF9-6D085FA0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B5143-345F-449A-B8AF-53F3964E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4662A-B8A0-4814-BA0F-9368F14E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79EB8-6F1A-441C-A495-5698B25F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A1F6A-EFA2-4FF2-8D58-419F7F2A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56F5E-8B99-4175-A918-5C0ACA60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79EE0-6707-4ED8-9212-7F37F1F9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634A-9308-411B-BBBA-13584F9D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338A2-2100-4D1C-AF82-C374BDE5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51C72-BED9-4C13-8156-38889460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C1943-2097-42A0-BE3A-27C2D559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85A54-17DD-4BD5-974C-F12218E9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C4D49-F8D2-40B8-86D3-19FDFED2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D3F7F-E8B9-4900-A357-62743844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43939-0C55-430B-B47E-18F9CF73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8931A-41E9-4288-AA2C-3ED9D564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23A9F-41A2-444C-B61D-26D54AED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AFAC6-C60E-46BC-BC31-8642CD78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B42F-DAA6-4E5E-8CA0-D10D05BD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26975-E7B7-4314-9B75-2CE3384B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07660-72E1-4E01-B5DC-E6E77CA5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2C954-C8AC-4667-80AA-D83CA353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51AB9-83BE-46AB-87B8-B18EB47D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0867C-FCF8-4387-A01F-0A7E1715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A9A12-8F95-413E-96A5-63E0F476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85592-5945-49D6-BE6A-7FABE753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A8935-0D75-4708-B38A-564D0260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D772D-4394-40CF-9151-D0D08A3F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51CDE-D0EB-44A5-9D1A-3A847ECA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287D-C13C-4B2A-A9E2-6B748FB3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DA374-992B-4962-82F1-403FCC49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90555-19A3-4F91-B856-8255CA67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434D6-401C-4FD9-AFC7-D649F326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BB9BE-7AAD-4459-AB10-6737B954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776F9-DC55-4B50-8DDD-9C296BFD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31DB0-0D2A-4514-ADD1-B3248847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2CF6D-D7B1-4606-B423-63C78864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B223C-BBF4-4EED-BEAB-A59558A5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38865-DA79-43DA-92EF-0F63C6F3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2C6E5-9CFB-462F-838C-3519948F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ED69-FEF3-4E33-AE4A-0533C920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87FBD-7DE6-49D8-B9A1-62BBC297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21423-4D17-4CF4-914E-B9CB570D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37F9B-4BA5-446F-9E13-86BDAC91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CE53C-E5FA-44CA-9EB5-F8E706B8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C3247-4944-43FC-B6EE-B4C2F9E5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ECA4A-6C4C-41AA-B737-F748AA84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54790-39F5-4992-9289-4A13AD17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5140A-1AC8-4B5D-9A58-B14ED60A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5379C-500A-4498-92EB-0AA27A85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60E96-3B4C-4B33-AB5E-4BCCFD27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52A9-A47B-407D-A188-542C4463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9E544-54EE-4D80-8253-FBB517FF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1377C-97DB-46E3-B408-71DC480E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847D1-A7A8-4D3E-9AE8-28F2938B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56E0B-24F7-46BD-8630-22F5EDC3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A3D99-9023-45E6-8A86-03E6946E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7BE4A-680A-4ABE-8700-41100E67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738A8-E2BC-4EDE-88D8-36B3B307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D8833-F8F3-47A5-90E2-C37D2E92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A4867-EC5A-4A01-9608-052A36F8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16468-CDCF-4F71-B168-7DB1EAB7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EADC-B6B9-481C-B041-D76DC54117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A030-8D23-4D41-8975-53D1CB83DF17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434C-A179-4443-BD4E-D33331B2DF26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44D8-5F32-459D-85AF-16EBDE9951E4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8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6568-EEA1-4EFB-9361-9FAFE987977F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3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3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8F91-A513-422B-B1A5-9AF64797314D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5339-9D8E-4E3B-9687-7F7F5882CC1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C76C-4948-45EE-A094-E7F38191F3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26C5-D3BB-4688-931D-60B6AD419BDD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4105-C0A8-4537-ABDB-B973125B799F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3129-B954-424A-917E-4ADBA367DEB7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AC16-FB15-4D8D-9982-FD6AB5402C8A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3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3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3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689A-05BD-4CB2-B65A-207F45A49079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8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8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8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C634-0B24-4EC4-BE45-AEB035A8DE3C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54200" y="234900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a50021"/>
                </a:solidFill>
                <a:latin typeface="Calibri"/>
              </a:rPr>
              <a:t>Организационно-педагогические условия повышения эффективности деятельности школьных спортивных клубов в направлении формирования культуры здоровья обучающихс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Прямоугольник 2"/>
          <p:cNvSpPr/>
          <p:nvPr/>
        </p:nvSpPr>
        <p:spPr>
          <a:xfrm>
            <a:off x="449280" y="4724280"/>
            <a:ext cx="835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Ведущий научный сотрудни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отдела научно-методического сопровождения общего образова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Calibri"/>
                <a:ea typeface="Calibri"/>
              </a:rPr>
              <a:t>ГАУ ДПО «Институт развития образования Пермского края», кандидат педагогических наук, доцент Чедов Константин Васильеви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2" name="Picture 5" descr="logo2"/>
          <p:cNvPicPr/>
          <p:nvPr/>
        </p:nvPicPr>
        <p:blipFill>
          <a:blip r:embed="rId1"/>
          <a:stretch/>
        </p:blipFill>
        <p:spPr>
          <a:xfrm>
            <a:off x="395280" y="189000"/>
            <a:ext cx="1874880" cy="1243080"/>
          </a:xfrm>
          <a:prstGeom prst="rect">
            <a:avLst/>
          </a:prstGeom>
          <a:ln w="0">
            <a:noFill/>
          </a:ln>
        </p:spPr>
      </p:pic>
      <p:sp>
        <p:nvSpPr>
          <p:cNvPr id="683" name="Прямоугольник 7"/>
          <p:cNvSpPr/>
          <p:nvPr/>
        </p:nvSpPr>
        <p:spPr>
          <a:xfrm>
            <a:off x="2799000" y="404640"/>
            <a:ext cx="510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Краевой вебинар для учителе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физической культу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Прямоугольник 5"/>
          <p:cNvSpPr/>
          <p:nvPr/>
        </p:nvSpPr>
        <p:spPr>
          <a:xfrm>
            <a:off x="1332000" y="36972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ое организационно-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дагогичес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слов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Прямоугольник 6"/>
          <p:cNvSpPr/>
          <p:nvPr/>
        </p:nvSpPr>
        <p:spPr>
          <a:xfrm>
            <a:off x="539640" y="83664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ализац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комплекса мероприятий, направленных на формирование 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кольник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представлений об эталонном здоровьеориентированном поведен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смотр обучающимися тематических видеоматериалов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зъяснение важности соблюдения двигательного режим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беждение в значимости для здоровья физической культуры, подтверждающегося примерами выдающихся людей и общественно значимых деятелей прошлого и современности, которых отличает высокий уровень личностной физической культу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Прямоугольник 5"/>
          <p:cNvSpPr/>
          <p:nvPr/>
        </p:nvSpPr>
        <p:spPr>
          <a:xfrm>
            <a:off x="1187280" y="40464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торое 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539640" y="1052640"/>
            <a:ext cx="806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тренером-преподавателем из числа занимающихся в учебно-тренировочных группах актива спортсменов, проявляющих склонность к организатор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сновной функциональной обязанностью членов актива является организация коллективной творческой деятельности участников спортивного клуба на основе принципа формирования личности через коллектив, который регулирует все виды коллективной деятельности участников клуба: процесс разработки положений о проведении физкультурно-спортивных мероприятий, и распределение ролей, и организацию репетиций перед подготовкой к соревнованиям и показательным выступлениям, а также подготовку и проведение различных других клубных мероприятий. В результате у обучающихся нарабатывается опыт социально-ориентированного поведения, развивается инициативность, личная активность, чувство долга перед товарищами и ответственность за успех коллективного дел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Прямоугольник 5"/>
          <p:cNvSpPr/>
          <p:nvPr/>
        </p:nvSpPr>
        <p:spPr>
          <a:xfrm>
            <a:off x="971640" y="404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еть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Прямоугольник 6"/>
          <p:cNvSpPr/>
          <p:nvPr/>
        </p:nvSpPr>
        <p:spPr>
          <a:xfrm>
            <a:off x="539640" y="1052640"/>
            <a:ext cx="806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имодействие всех субъектов образовательной деятельности: «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обучающийс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школьный учител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тренер-преподавател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етский спортивный коллекти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родител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ы работы для обеспечения необходимой и достаточной осведомленности учителей физической культуры, тренеров-преподавателей, родителей и классных руководителей в вопросах формирования культуры здоровья обучающихс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 информирование о целях и задачах каждого этапа процесса формирования культуры здоровья обучаю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 взаимодействие учителей физической культуры и тренеров-преподавателей с родителями и классными руководителями для отслеживания динамики становления здоровья обучающихся и развития у них культуры здоровь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 групповое и индивидуальное консультирование родителей по вопросам воспитания у обучающихся навыков здорового образа жизни и корректировки при необходимости индивидуального стиля жизн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ельным здоровьесберегающим потенциалом обладает организация различных совместных мероприятий с участием детского спортивного коллектива, школьных учителей,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Прямоугольник 5"/>
          <p:cNvSpPr/>
          <p:nvPr/>
        </p:nvSpPr>
        <p:spPr>
          <a:xfrm>
            <a:off x="1042920" y="404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тверто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едагогическое услов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Прямоугольник 6"/>
          <p:cNvSpPr/>
          <p:nvPr/>
        </p:nvSpPr>
        <p:spPr>
          <a:xfrm>
            <a:off x="539640" y="105264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т индивидуальных особенностей здоровья обучающихся – участников школьного спортивного клуб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зультаты диагностики позволяют педагогу посредством педагогического сопровождения выстраивать индивидуальную траекторию здоровья каждого обучающегося и осуществлять выбор форм и методов формирования тех компонентов культуры здоровья, которые менее развиты у данного школьни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323640" y="2565000"/>
            <a:ext cx="81723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Чедов Константин Васильевич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ведущий научный сотрудник отдела научно-методического сопровождения общего образовани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ГАУ ДПО «Институт развития образования Пермского края», кандидат педагогических наук, доцен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6a3"/>
                </a:solidFill>
                <a:latin typeface="Constantia"/>
              </a:rPr>
              <a:t>г. Пермь, ул. Бородинская, 35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Тел. 8922649817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6a3"/>
                </a:solidFill>
                <a:latin typeface="Constantia"/>
              </a:rPr>
              <a:t>Адрес электронной почты: </a:t>
            </a:r>
            <a:r>
              <a:rPr b="0" i="1" lang="en-US" sz="2400" spc="-1" strike="noStrike">
                <a:solidFill>
                  <a:srgbClr val="0076a3"/>
                </a:solidFill>
                <a:latin typeface="Constantia"/>
              </a:rPr>
              <a:t>chedovkv@yandex.r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916000" y="620280"/>
            <a:ext cx="52419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Контактная информация</a:t>
            </a: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743" name="Picture 5" descr="logo2"/>
          <p:cNvPicPr/>
          <p:nvPr/>
        </p:nvPicPr>
        <p:blipFill>
          <a:blip r:embed="rId1"/>
          <a:stretch/>
        </p:blipFill>
        <p:spPr>
          <a:xfrm>
            <a:off x="303120" y="836640"/>
            <a:ext cx="198144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Rectangle 8"/>
          <p:cNvSpPr/>
          <p:nvPr/>
        </p:nvSpPr>
        <p:spPr>
          <a:xfrm>
            <a:off x="905040" y="857160"/>
            <a:ext cx="770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alibri"/>
                <a:ea typeface="Calibri"/>
              </a:rPr>
              <a:t>Клуб </a:t>
            </a:r>
            <a:r>
              <a:rPr b="0" lang="ru-RU" sz="3600" spc="-1" strike="noStrike">
                <a:solidFill>
                  <a:srgbClr val="a50021"/>
                </a:solidFill>
                <a:latin typeface="Calibri"/>
                <a:ea typeface="Calibri"/>
              </a:rPr>
              <a:t>– это объединение людей на основе общих интересов и потребностей; форма взаимодействия в среде их жизнедеятельности, обеспечивающая им условия для личностного самовыражения, самоутверждения и личностной самореализ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Рисунок 6" descr=""/>
          <p:cNvPicPr/>
          <p:nvPr/>
        </p:nvPicPr>
        <p:blipFill>
          <a:blip r:embed="rId1"/>
          <a:srcRect l="28053" t="14352" r="10500" b="7482"/>
          <a:stretch/>
        </p:blipFill>
        <p:spPr>
          <a:xfrm>
            <a:off x="395280" y="476280"/>
            <a:ext cx="8353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Рисунок 5" descr=""/>
          <p:cNvPicPr/>
          <p:nvPr/>
        </p:nvPicPr>
        <p:blipFill>
          <a:blip r:embed="rId1"/>
          <a:srcRect l="28236" t="20304" r="10844" b="13893"/>
          <a:stretch/>
        </p:blipFill>
        <p:spPr>
          <a:xfrm>
            <a:off x="826920" y="62064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Рисунок 7" descr=""/>
          <p:cNvPicPr/>
          <p:nvPr/>
        </p:nvPicPr>
        <p:blipFill>
          <a:blip r:embed="rId1"/>
          <a:srcRect l="33189" t="26719" r="15398" b="18320"/>
          <a:stretch/>
        </p:blipFill>
        <p:spPr>
          <a:xfrm>
            <a:off x="1258920" y="404640"/>
            <a:ext cx="6769080" cy="3961080"/>
          </a:xfrm>
          <a:prstGeom prst="rect">
            <a:avLst/>
          </a:prstGeom>
          <a:ln w="0">
            <a:noFill/>
          </a:ln>
        </p:spPr>
      </p:pic>
      <p:sp>
        <p:nvSpPr>
          <p:cNvPr id="700" name="Прямоугольник 8"/>
          <p:cNvSpPr/>
          <p:nvPr/>
        </p:nvSpPr>
        <p:spPr>
          <a:xfrm>
            <a:off x="611280" y="458136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рамма соответствует целям и задач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го проекта «Спорт-норма жизни» национального проекта «Демография»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дерального проекта «Успех каждого ребенка» национального проекта «Образование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ратегии развития физической культуры и спорта в РФ до 2030 года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Прямоугольник 8"/>
          <p:cNvSpPr/>
          <p:nvPr/>
        </p:nvSpPr>
        <p:spPr>
          <a:xfrm>
            <a:off x="684360" y="4221000"/>
            <a:ext cx="7920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В характеристике современного состояния развития школьного спорта отмечено, чт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общее количество школ в стране 40,4 тыс., из них 23 тыс. находятся в сельской местности;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 в 14 тыс. школ нуждаются в ремонте спортивного зал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633 – в перепрофилировании помещений для уроков физкультур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- в 22534 школах отсутствует ШСК (</a:t>
            </a:r>
            <a:r>
              <a:rPr b="0" i="1" lang="ru-RU" sz="1800" spc="-1" strike="noStrike">
                <a:solidFill>
                  <a:srgbClr val="17375e"/>
                </a:solidFill>
                <a:latin typeface="Calibri"/>
              </a:rPr>
              <a:t>школьный спортивный клуб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Picture 2" descr="dop.pskovedu.ru"/>
          <p:cNvPicPr/>
          <p:nvPr/>
        </p:nvPicPr>
        <p:blipFill>
          <a:blip r:embed="rId1"/>
          <a:stretch/>
        </p:blipFill>
        <p:spPr>
          <a:xfrm>
            <a:off x="1403280" y="260280"/>
            <a:ext cx="5832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Рисунок 6" descr=""/>
          <p:cNvPicPr/>
          <p:nvPr/>
        </p:nvPicPr>
        <p:blipFill>
          <a:blip r:embed="rId1"/>
          <a:srcRect l="19811" t="15115" r="7835" b="10688"/>
          <a:stretch/>
        </p:blipFill>
        <p:spPr>
          <a:xfrm>
            <a:off x="108000" y="620640"/>
            <a:ext cx="88916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3" name="Picture 2" descr="В России к 2024 году планируют создать спортклубы в каждой школе"/>
          <p:cNvPicPr/>
          <p:nvPr/>
        </p:nvPicPr>
        <p:blipFill>
          <a:blip r:embed="rId1"/>
          <a:stretch/>
        </p:blipFill>
        <p:spPr>
          <a:xfrm>
            <a:off x="1547640" y="115920"/>
            <a:ext cx="6480360" cy="428940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4" descr="https://avatars.mds.yandex.net/get-zen_doc/4368340/pub_60394c99732f3c7f624342d7_60394cf2732f3c7f6243dd3f/scale_1200"/>
          <p:cNvPicPr/>
          <p:nvPr/>
        </p:nvPicPr>
        <p:blipFill>
          <a:blip r:embed="rId2"/>
          <a:stretch/>
        </p:blipFill>
        <p:spPr>
          <a:xfrm>
            <a:off x="2916360" y="4941720"/>
            <a:ext cx="5095800" cy="1810080"/>
          </a:xfrm>
          <a:prstGeom prst="rect">
            <a:avLst/>
          </a:prstGeom>
          <a:ln w="0">
            <a:noFill/>
          </a:ln>
        </p:spPr>
      </p:pic>
      <p:sp>
        <p:nvSpPr>
          <p:cNvPr id="715" name="Прямоугольник 7"/>
          <p:cNvSpPr/>
          <p:nvPr/>
        </p:nvSpPr>
        <p:spPr>
          <a:xfrm>
            <a:off x="468360" y="4365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аспорте программы в перечне ожидаемых результатов указан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AutoShape 12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AutoShape 14"/>
          <p:cNvSpPr/>
          <p:nvPr/>
        </p:nvSpPr>
        <p:spPr>
          <a:xfrm>
            <a:off x="449280" y="1602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Прямоугольник 5"/>
          <p:cNvSpPr/>
          <p:nvPr/>
        </p:nvSpPr>
        <p:spPr>
          <a:xfrm>
            <a:off x="324000" y="189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рганизационно-п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едагогическ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услов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овокупность объективных возможностей содержания, форм, методов и материально-пространственной среды, обеспечивающих решение поставленных образовательных задач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Picture 3" descr="https://avatars.mds.yandex.net/get-zen_doc/3957194/pub_5fb62222541585566c40d623_5fb62540d60cd1779220f51c/scale_1200"/>
          <p:cNvPicPr/>
          <p:nvPr/>
        </p:nvPicPr>
        <p:blipFill>
          <a:blip r:embed="rId1"/>
          <a:stretch/>
        </p:blipFill>
        <p:spPr>
          <a:xfrm>
            <a:off x="971640" y="1844640"/>
            <a:ext cx="738972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4T16:27:00Z</dcterms:created>
  <dc:creator>Лядова</dc:creator>
  <dc:description/>
  <dc:language>en-US</dc:language>
  <cp:lastModifiedBy>Администратор</cp:lastModifiedBy>
  <dcterms:modified xsi:type="dcterms:W3CDTF">2021-05-27T06:38:16Z</dcterms:modified>
  <cp:revision>126</cp:revision>
  <dc:subject/>
  <dc:title>Достижение и оценка результатов воспитания и обучения здоровому образу жизни  младших школьников  в контексте требований ФГОС НО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6020</vt:lpwstr>
  </property>
</Properties>
</file>