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8B23-BB9F-4CB6-ACDF-1EFBD390C4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160C-8567-455D-AC18-6D3B2C1C27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AF0F-F7D7-4A09-9819-D7E5F5DC1F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83D-FE66-49AE-B8A5-B21F867B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22C-883F-48B0-839A-EBF04AC4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83A-9E1E-4FC6-88EA-3DAED085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EB1-B218-4A3A-A640-04AC29BA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C6B4-EA23-49A1-A892-543BC556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11F1-53F8-485E-8040-FF053FD5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6FEC-3D1F-48F7-9662-345299CF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9903-590E-4827-9BBB-F762F614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583A-1D6A-4A03-A108-0BF6C129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3C3C-0222-4C14-A3EF-3B1B4284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6479-2701-42FD-8267-01EAC309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7C1B-4CEB-4E88-9D9D-6D66A052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1B82-A01D-41F9-A083-03200373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361E-6DCB-48DC-BB61-5D9CA446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53BE-8DF6-47A4-8669-2F6EB1D4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296C-18F6-4950-877B-51FC0F5D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D9E1-45C3-4A6E-A602-71F733F7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F4B50-E40F-45B3-B134-47C8C835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7A7E0-7B9E-4381-9A45-BF9061F3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0F5B5-E905-4173-857A-ECB3C69F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B466-976D-41DF-8E2C-B9974FDA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3BEE2-9FA6-43DF-BB70-3317D561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49FD-3356-4474-BAE4-DE412253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E646A-927F-4C92-AB99-76372F80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2AE3-5311-4980-9C13-33F56699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0C424-E8B2-4A9C-9A95-59D319E2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C3697-5BC0-4F29-B4B3-D34C8B75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8A25A-4967-40CF-AF0E-67E98B85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A67D8-B56F-434C-8AE9-4EE231B6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A3E03-4F6A-41BE-B7DF-902B1365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009E8-49B1-420F-94D1-68DCBA4B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8D19E-781A-4418-9357-336F9728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634FA-F6C2-4E2E-95F4-105C81C1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33C-625A-4CC1-94AF-6AAF1DF2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A52BB-C289-40AA-BDC1-800D436F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BD85C-C62C-456C-95BA-FC07FF2A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71479-87C5-466C-9345-7655453E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D90B6-E1FA-4C47-836A-D9480026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A2122-B49D-4C49-A386-45CEC748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BA910-F651-4853-8E84-08ABAA05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A2BA3-4DAF-4218-8B38-A0881172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552B4-8F94-4D16-835D-CCCAEE0C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D0C88-BE69-47B9-BA63-B48C43A6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18827-3175-4E23-8851-BC658197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3DB-5B51-4EB2-9AD8-21FE8949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B5635-F487-4E2B-A82E-DEDB38C4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7EFB1-37C7-4259-AFFB-86EB7F03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7B2B2-F10C-4FFD-BB15-DA4D3A6E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BF0A6-FB8F-4830-92F9-F0CC6DAD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E2451-08C1-49AD-A78C-490D108C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CADC1-FAE3-4717-A2B4-60DA7AFE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59575-FAC9-4428-8810-5F006A8C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6311A-8C28-475E-9064-79026675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526F0-FAAC-4408-A80B-CB5030C7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ACFC1-E1B3-4F65-8487-AD9B9698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86F-43F3-476D-BCA8-8AEDAD79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745FB-B4D2-41B5-8463-7054F8B5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CBB5-EA7D-44E9-B6E7-34A7D029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509-3809-4E69-9836-CD008FF0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DFC-58E2-4861-8332-9375ECEC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B53F-1FCD-46D3-B60A-75EE5583A2D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187E-DBAB-403E-ABB2-C44B49D2191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6889-F617-47E4-AB65-A88D4E4CFB0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338C-68C4-46FF-A885-9DF48254E04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В.А.Власенко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9F2B-CA8D-4C97-87AC-4F95A3E2C2D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зможности физической культуры как средства повышения моральной и психологической устойчивости  к экзаменационным испытаниям</a:t>
            </a:r>
            <a:br>
              <a:rPr sz="40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ОПЫТА РАБОТЫ ПО ПРИМЕНЕНИЮ ФОРМИРУЮЩЕГО ОЦЕНИВАНИЯ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47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тагарова Люция Рифов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ОУ «Гимназия № 33» г. Пер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 формирующей оценки - способствовать улучшению результатов каждого отдельно взятого ученика</a:t>
            </a:r>
            <a:r>
              <a:rPr b="0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ожидаемые результаты формирующего оценива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52440" y="1339920"/>
          <a:ext cx="8510400" cy="5227560"/>
        </p:xfrm>
        <a:graphic>
          <a:graphicData uri="http://schemas.openxmlformats.org/drawingml/2006/table">
            <a:tbl>
              <a:tblPr/>
              <a:tblGrid>
                <a:gridCol w="3003480"/>
                <a:gridCol w="550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потребност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субъек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интереса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неправильного понимания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ь саморегуляцию и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навыков к самостоятельной работе и сотрудничеству для использования разнообразных ресурсов и инстр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ить мониторинг прогр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и самоопределение учащимися слабых сторон, подтверждение сильных и обеспечение более глубокого по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понимание и поощрить мета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применению знаний в новой ситуации, обобщ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Ebrima"/>
              </a:rPr>
              <a:t>Что такое формирующее оценивание или оценивание для обучен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ивание это больше, чем маркиров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ивание — это обратная связ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ивание направляет 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для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учающихс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учиться на ошибка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важно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у них получает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знаю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умеют дел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позволяет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ителю</a:t>
            </a: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228564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формулировать образовательный результат, подлежащий формированию и оценке в каждом конкретном случае, и организовать в соответствии с этим свою работ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чащегося субъектом образовательной и оценоч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и формирующего оцени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(минутный) обз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обзор (проводится в конце урока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изучали? Назовите тему урок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какими заданиями ты справлялся без помощи учителя, одноклассника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наиболее важное в этом уро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то вызвало трудности, осталось неясным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Что хотелось бы узнать по теме дополнительн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Что у меня получилось лучше всег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мне необходимо усовершенствовать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Развитие силовых качеств. Подготовка к сдаче норм ГТО испытания «Сгибание-разгибание рук в упоре лежа»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контрольно-оценочную деятельность по выявлению точечных затруднений при выполнении техники  через работу в парах и  анализ видеозаписи собственного выполнения технического действия (обязательный норматив  «Сгибание-разгибание рук в упоре лежа»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ить критерии оценивания выполнения  техники норматива ГТО  - «Сгибание-разгибание рук в упоре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полнить таблицу самооценки  выполнения техники  выполнении сгибания и разгибания рук в упоре лежа («Отжимания») по выработанным критериям, применяя личные гадж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, для устранения ошибок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ют контрольные точки техники «Отжимания», безопасного для здоров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иксируют контрольные точки у партнера при работе в парах  и определяют свои затруднения при просмотре видеозаписи собственного выполнения приседа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меют объективно оценивать, по выработанным критериям, технику «отжимани», безопасного для здоровь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самооценки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1109" t="28110" r="32367" b="14444"/>
          <a:stretch/>
        </p:blipFill>
        <p:spPr>
          <a:xfrm>
            <a:off x="826920" y="2060640"/>
            <a:ext cx="7740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26163" t="34218" r="25804" b="39724"/>
          <a:stretch/>
        </p:blipFill>
        <p:spPr>
          <a:xfrm>
            <a:off x="250920" y="620640"/>
            <a:ext cx="84978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rcRect l="24174" t="27470" r="23253" b="34798"/>
          <a:stretch/>
        </p:blipFill>
        <p:spPr>
          <a:xfrm>
            <a:off x="73080" y="2997360"/>
            <a:ext cx="9070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ическая устойчивость — это личностная черта, которая во многом определяет, насколько эффективно мы справляемся с проблемами, стрессами и давлением, независимо от обстоятель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 - состояние сильного и длительного психологического напряжения, которое возникает у человека, когда его нервная система получает эмоциональную перегруз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витие Физических качеств. Подготовка к сдаче норм ГТО норматив «Поднимание туловища из положения лежа»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познавательную  деятельность по выявлению точечных затруднений при выполнении норматива 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 в выполнении норматива ГТО по силовой подготовке «Поднимание туловища из положения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ить группу упражнений, направленных на подготовку учащихся к выполнению норматива ГТО по силовой подготовке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конце урока учащиеся при выполнении различных упражнени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яют группы мышц, которые задействовано в данном упражнении на стан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основе работы мышечных групп выделяют 3 вида упражнений, при систематическом выполнении которых смогут подготовиться к результативной сдаче норм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7 станций. Работа в группа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12185" t="27470" r="21410" b="8548"/>
          <a:stretch/>
        </p:blipFill>
        <p:spPr>
          <a:xfrm>
            <a:off x="250920" y="1700280"/>
            <a:ext cx="8508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35244" t="20910" r="36166" b="10192"/>
          <a:stretch/>
        </p:blipFill>
        <p:spPr>
          <a:xfrm>
            <a:off x="2340000" y="333360"/>
            <a:ext cx="4535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28400" y="17845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ивается не только результат, но и проце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сит системны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раивается в личностно-ориентированное об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иентировано на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леживается прогресс каждого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иентировано на формирование личностных и метапредметных ум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амят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о применению формирующего оцени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м п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цесс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ение отметки и оценивани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– разные вещи!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яя своему ученику отметку  за работу на уроке или в четверт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его работу по определенным критерия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знаком с теми критериями, по которым его оценивают (причем они доступны для его понимания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 процессе работы сам пытается оценить качество своей работы, сверяясь с этими критериями и получая  комментари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учителя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идит, где конкретно он пока не достиг нужного результата и корректирует свою деятельность,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.е.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щ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ет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пути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ррекции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вленны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едостатк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 психологическом и поведенческом уровнях занятия ФК полезны и могут способствов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и и упорядочиванию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ению действий и мыслей в поряд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ению ощущения контроля над ситуацией, дефицит которого испытывает человек во время стре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ышению самооценки и уверенности в 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ятия спортом могут приносить радость и удовлетворение от достижения даже небольших результатов         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Повышение самооценки и уверенности в себе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 у Вас  в работе  проблемы в оценивании обучающихся на уроках Ф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а, то как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технология оценивания может повлиять на повышение самооценки и уверенность в се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проблемы в работе со старшеклассницами и старшеклассниками? Кака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оценочной деятельност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бъективизм школьной отметк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недостаточная разработанность критериев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ществующая система оценивания отражает </a:t>
            </a:r>
            <a:r>
              <a:rPr b="0" i="1" lang="ru-RU" sz="2700" spc="-1" strike="noStrike">
                <a:solidFill>
                  <a:srgbClr val="ff0000"/>
                </a:solidFill>
                <a:latin typeface="Times New Roman"/>
                <a:ea typeface="Verdana"/>
              </a:rPr>
              <a:t>результат развития физических качест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, а не процесс их усвое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 оценивании техники двигательных действий зачастую ставим отметки не выделяя критерии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отсутствие в отметке конструктивной информации о том, что именно является причиной низкого или высокого бал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оценив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ффектив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межличностных отношен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Ebrima"/>
              </a:rPr>
              <a:t>Зачем мы оцениваем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Чтобы выяснить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стигнуты ли поставленные учебные цел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ли быть разные цели у учащихся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– это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ующее (внутреннее) оценив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определение индивидуальных достижений каждого учащегося и не предполагает как сравнения результатов, продемонстрированных разными учащимися, так и административных выводов по результатам обуче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им данный вид оценивания называется потому, что оценка ориентирована на конкретного ученика, призвана выявить пробелы в освоении учащимся элемента содержания образования с тем, чтобы восполнить их с максимальной эффективностью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критериального подхода к оцени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34936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требов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остижений учащихся с эталоном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ветственности учащихся за результат своего труда;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оценки, самоанализа, самоконтроля учащих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0:14:57Z</dcterms:created>
  <dc:creator>TATJANA</dc:creator>
  <dc:description/>
  <dc:language>en-US</dc:language>
  <cp:lastModifiedBy>Ljadova-NV</cp:lastModifiedBy>
  <dcterms:modified xsi:type="dcterms:W3CDTF">2019-11-18T06:51:39Z</dcterms:modified>
  <cp:revision>27</cp:revision>
  <dc:subject/>
  <dc:title>Педагогический совет по теме:  «Технология формирующего оценивания»  12.02.2015 г. МОУ СОШ №19  г. Комсомольск -  на - Амуре</dc:title>
</cp:coreProperties>
</file>