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58A-3B89-45B7-AF83-AB4681E1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888-3E35-420F-AA8F-80099E5D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D9A48-12D5-43C9-B897-34DBF6BA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7C0A9-DE2E-4D01-A484-BDE0F577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614F0-F546-4392-9C32-821B6F3F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A227C-9AC4-4999-88B3-2BCC5671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8AF7B-79E8-4B0B-9ADF-F916810B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DEA92-1F86-477E-8B27-ECAC995A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F551C-5FB6-4A48-8684-B3C6CFDE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650B3-E068-41C8-8820-55A8D80D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0BA8C-A71C-4A5D-8B56-ACEA97E0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D9F8F-7E2D-4F27-AE4D-3FF8FA30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01C-86D5-49DF-A630-91B34F71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CE39C-D1CC-4D14-837C-26ED9CD4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91D98-F6E0-448B-93F6-192866F9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6EB18-CA5C-4E8E-9C75-C4EC1676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A5B21-2028-4584-B861-B906BD51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492EA-04D3-46DF-97C8-CD6A2ACF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ED488-5DA4-424C-B387-79DDFE3E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D2DA6-3B90-4FAD-95F2-3F5EF264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96E67-8406-45BF-88ED-32DDAB33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A0976-F123-4E7B-B27E-3692C2D8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18340-87F1-49E5-8767-D886987E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42B6-B747-48DC-AF24-22C55DF4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CAE98-DD58-47A1-89E2-92D3A342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C116A-7E14-41DB-B08A-D5F9B3DD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026F2-9261-4DB5-B486-2BC4942B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5B1AD-7D53-4157-B1D3-701FE9BC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75E9A-3887-41CB-9259-198E371C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B6010-67E2-4013-86C5-D7FCD364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77A80-98ED-4FC3-BCA4-2D833878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1DFFD-9ED4-4FCB-9434-5BE700AE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ED30F-C5AA-4668-8154-8108B66D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F1C08-BD5B-49AD-A803-0EF88A2B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3421-BD2A-4818-A019-F3885C17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E2DB5-E335-4E7C-8273-B86DF0BE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0F8BA-8C20-4537-B781-22341FAA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32309-E816-4445-AD58-525B924C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46477-E2CE-4261-8FC4-FFD16BB4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F364D-42A0-4AC3-B70A-92C534FF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192C6-4DB5-4E56-8637-8427DD77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F5D68-2C1F-4B70-8B5A-3DD9A5C3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95374-10D8-42D5-B810-874C23EB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28523-6F50-4360-9E21-9680CCB4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C5AEE-6F55-43A5-9589-B10D08EF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83D6-B4FB-4710-BA1B-4069CB2E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B3D1B-2791-4E55-B054-C2270767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33EB3-1A8F-4E01-84BF-3E3A670F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E07EF-511B-4554-B95C-8152BCF3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8DF80-0DFB-42A5-AD43-F679396E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EDCE6-9829-4D03-8B3A-B895010B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1F583-9480-4431-A4E8-13706B74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57A21-5C29-4161-AF8F-D35F82AF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D2418-9C30-4650-8F42-AA882B23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E3629-1C34-40E2-9D34-A98CDAC0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1DE28-A265-4C22-95B1-797C0479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13EE-24BD-4D80-97CD-D9608A95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17684-7F1E-4181-8C71-147ECD27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F9818-E2E6-41D7-9854-39334A76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DAEB5-5DDC-4DB1-87C1-4EEED39C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DADB2-EB95-41BF-BDFB-98F39A61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B9CBB2-A6B8-42D5-B269-0F902CD5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C4A1D-A74E-437E-A16E-BBE20810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5442C-704D-4B73-A310-E4CCC569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F2690-5B64-4BA7-A94C-AF633999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789F4F-0907-4888-BDAF-B6E2E2BD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4D32B-8136-42EA-9BD6-26039281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B3E7-64DC-4DB6-88BD-5D71A882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0815E-5CBD-4109-AEC8-14C9998F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D71AD2-A9D4-4EF3-92BB-90DDEB98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2EE10-0622-4884-A245-D6119C07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42C10-E486-4494-9A71-229287E2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B003A-7FF2-44CA-AAAE-572C03D9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FEA88-E106-45D4-8A59-6102C6EC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2744C-BEC2-45D6-80B7-FB6C3D5D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C5218-C377-4E34-B8E0-01164DC1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B8E73A-2A5F-498A-B33C-533D7628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E621B6-6ACA-4720-B14B-339B6A60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AC60-ABD7-4D7A-8640-B1AB7F81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46C554-1901-4BF7-B121-BE31610A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CC5EC7-9C6A-49DD-B689-710EB6B6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2F170F-1A09-40D2-B288-A4829B20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960589-F98B-431C-A56C-96EF3B0F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EA4E6-E5D5-4A6F-9A72-866EB425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DE984-ACA7-4C16-AC74-1C8DDD34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8CEAC-9D4E-42B6-B355-2837A9F0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4B4C64-D274-4E03-A9AC-935B3FB1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164D9A-316D-4B86-ABF7-D88C3073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F0BB4-3E0B-4F0A-99D1-7123E5A1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7D65-3CBC-41E4-9B72-555759D9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6A317B-1E96-45CB-9605-94B1284E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EF6762-5B1E-499F-BABB-01F6B5C4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69EB02-64B8-444A-A9FB-5F4EE06C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2EFFA3-86BB-4E4B-B30B-C93A65BB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D27E3B-8875-45F5-B0F3-FEFFB75E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49A3AD-FF33-4BBE-92F4-0219638A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FC588F-8599-42F8-9916-800E6C6E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5DBBAF-4E2C-45AC-8578-70510544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F141FF-72F7-4E33-B4D3-9E122C1A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3649A6-B4D8-4FFA-AB7D-3EE6662C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B781-25BD-441F-897D-6663E377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496B90-4E79-49DB-A522-2770B82E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E0EB89-CF6A-40B5-9939-AB4EB478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B3BB93-3D02-4537-BDF4-BFDF8AB6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CBBB09-000C-4ECF-A3BD-03213117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D67328-D291-4419-8061-F3B8E6CC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6711EF-476F-46E2-9801-0886FE92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F7169D-0A59-4394-8783-33EFE55B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3ED80D-2C82-4646-AA72-DAC50794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187BBE-DED1-487F-9761-3E613C2B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795EBE-518D-414C-9F63-FC869158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914-FDC4-4D3E-9176-19CEF6BE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A37E-372C-4289-8F94-43E73123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2B3981-C3C5-41B6-B38F-ABA7B2AA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F4EDD-C7FB-447A-AF01-CB510319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BC0AE1-1D4F-416A-9651-89CD5763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0D5631-D43E-43BC-B2CA-CC5EE5DD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D191F0-8F12-4297-8819-D8D12154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AFF043-D070-4B98-BEA1-C87877FE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A3A534-5C82-4EAE-AA3B-869DFAAE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AD70BF-CC33-411A-9088-9BA6173C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AD59AA-1FFA-472D-B70B-E1BC48B9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570E42-EE49-4A3A-AAFB-EE5F681A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319D-06B0-4A7D-AF3A-77C42DFC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058F9F-D766-4DB4-A717-863A09B9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DD0D81-9957-4528-BFE8-28677FC1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4C48AB-0E51-46F5-965B-E57DBE9C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84D320-6590-41AB-8BDA-ED4C18C6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8770DD-C443-4934-99A0-A9F01F6E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0C2AD8-95D1-49EC-87AA-0DC5F441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4F17D-FD21-41D0-93F6-E23AF2EE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A01A9C-8573-42C5-8F0E-F29A47EE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AA6483-A59A-41E5-BDE8-CFE7AB77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B266CF-0016-435E-9179-21106576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A315-D0E7-4457-AFBB-9E21388D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E85EDC-E4DC-451F-9107-79F96A4F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482E8B-73FB-4FD4-86B1-23626F91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090A6F-C6F6-4866-80CF-8DBAFD1D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8942AE-4825-472E-9172-13EF98DA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081BAE-FD77-42F1-A39E-9F270365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C4A2A6-086A-44E5-80B7-A1B99725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71BB5-EF77-4EFD-BF88-1013A4D8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6EC3C1-C7FC-4242-AB3A-81112785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C471C7-A513-4247-BAE5-7F6BF7C0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264201-708A-443F-855C-10CFD6B3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47AD-282A-4671-BAD0-83332667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8A2896-8DAE-4EFD-A990-74B7FF96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DEB3B1-CF14-4E7D-84B1-DC96C21B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F4DD0-C74B-42D6-A7CE-E646D313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97AFAA-69A5-4C6C-B953-5BCE292F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C8B48F-4CB2-4CB0-B843-C770E4B0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F9F110-BA42-4370-9A0C-CE004169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57AC4A-79CC-40E1-991A-78C5DA88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8F223D-3CBB-4538-A272-F2D68DC4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65F25A-728D-4F5E-B3EE-688330FA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1FB746-809C-4B4F-9693-A507988A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71B5-738B-4094-887D-0CD1954E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3371C1-0DFD-47BE-9D99-E9E49816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7C8314-0590-4D52-9E64-148A21DF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3DB0A7-DC69-43DC-835A-D143FE35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918658-46D8-497E-AA0D-ABB4BBF8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16C9CA-B46E-4C6F-84AE-20FF0CDB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27B332-A169-4C0D-AD66-5BA11B64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1A10E9-E5C6-430B-B5EF-5F4A6F4E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CDBA95-D787-4AA8-BD28-93A89475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3DBE1C-FAF0-4857-AE18-193C16C8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24F106-D107-41EB-A333-5F8D8CE7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89CB-84DE-4A5A-9320-4D5817C8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C911B0-FB8F-4096-B596-89EC21FE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C0BE9D-558F-4DBF-9766-039DA85C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D4152D-85E5-4A07-9728-238E11A4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915660-EE7E-46A6-B822-A4AE7020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17FFAB-3492-45DF-B223-4B477275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D39D4B-845A-4844-8015-2C0FD493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63B9F1-C668-4F66-BB91-05346314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8D1960-3471-4662-B9B3-E08E69D3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4F549F-B41C-4D6B-9F4B-AF5D6FC5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1C8E94-426E-46F4-BD78-D79B2D60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15867-7111-4F52-9686-77B76E7B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CCF4A5-0BFF-42F8-BD8D-54CB2561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44EF22-A2C8-4E38-8011-02635C2B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E449CB-80A1-47E5-98AB-C283100D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0EAACC-DFBA-4193-8D7D-18993091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7E5032-CDB8-4802-AA28-B96F7AFA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A84869-B559-4CD6-BBF3-510A10C7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16FA26-31BC-4A4F-9738-2255AA27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21B82E-8127-4DBF-886E-7C7398F6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4FE703-64A6-439F-9DBE-75E29528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4B900E-5D1E-4970-92C7-85A9A87A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8B1DA-7DF3-4457-AF6E-4E8FD55D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FFDE3E-0D9E-4171-AEA6-EFC58EEE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D9A835-7BC8-4221-8872-217CC758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D35491-DEE9-4DA1-893F-CE1B7C85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D750EA-1A7C-4BA3-974A-97DBFD48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BE8784-7804-4E21-B85C-EBF10581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4C03B5-973E-4206-9BE2-33152CB4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D27F30-4723-441E-9D1B-CA45F387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0FAA91-577E-4E32-B495-E4C75508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7178D4-006E-4D62-AD18-8BCF729C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BECD42-6295-4B0B-A0CB-5F4AC28A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338C-800E-4B32-A765-D066F86D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F6FC65-2DA9-47EF-B9E6-367C6010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021157-BADB-47EC-BBD7-5205573F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61470C-C01A-48F1-BC7A-6B881E0D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6FFDA2-DE97-41C4-89A8-A73F3387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9F2506-5B7C-41F6-884E-7A2BA32D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056800-4B91-4433-BDF4-CF2DA600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63B3B6-B711-4586-AF43-98106FE0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CCA034-09B6-4224-84FA-02C015B7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364A23-D74A-4D58-84F9-A46EB843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200FE0-E3B3-4DE8-86A9-908FA6FF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616EA-40C3-4AF2-90E2-99864B92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DC2C89-F476-4F2C-BA5C-01604943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BC88AC-B9AE-491A-8979-78C538F1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546FFB-B8E3-4D1A-AB97-396A586C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A39A5E-C9DF-4609-ACF2-BCEB687A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1EB82A-F0DE-4D35-85AE-5BAEFE51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0048F1-44C7-4F6C-A973-90FBB731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ABB140-7531-4AD0-AE60-B7244856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A61CD1-8E69-49C4-8C46-520794FC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FDBD74-674A-412B-B9AF-2BA0D721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6201EC-6B7F-415F-9E5C-78CDD199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7D9-C51B-4C1E-9ED5-45307A71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42582-2011-4BDA-B7D5-EFC2612E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3B2943-35CF-43C3-B044-8FA3EC91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11D748-BF51-49B4-AE6B-ABE4CDD5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2F2649-1790-435C-A289-1E6FAB7F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744CE8-93A1-4D40-A9A8-2A582C49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5D31B4-DEBD-4E14-84A4-2959E5D8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7856CC-E0FA-4EF7-897D-55B66166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5A32AF-A1CE-42CA-994A-08A1D9F9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02F104-BBB3-4F12-BB19-4A20671D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00CC03-AAA4-42F9-9712-276C62AD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86C1C9-93B7-4B3E-A19C-D68BF7A8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DC6FF-4099-4D3F-AE42-DCB49BE1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A7AD83-3491-4279-8A03-2B041CB7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F3953D-E3D1-4644-BA5D-73602719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1F84EA-7796-4CBC-BF70-78079E4F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34A7B0-24F0-439B-ABA4-53C39939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5C8A9E-A0D6-4322-9BBD-2158FA62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98EAB3-DC90-421C-BD20-69FB4066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89A83C-932D-4C60-84D3-429BA641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3714EB-4F34-409E-8089-9E3F67CF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628748-90EE-49EF-96E7-F0BA9CF3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D8CC3C-DB0D-42D7-A59A-83B7D88D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7AA66-2879-4A3B-A5EC-D985A9B4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912330-F64C-41FF-AA8B-2BFD4CC8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E92012-4C42-429E-AD5E-6905AC7F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661E2C-B4C3-46E4-96C5-AAEB4EE1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BDA0E2-60BC-4F0C-AED6-522DD9EE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3AEE65-8FB1-4DF0-853E-43410F13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95DFFE-A797-4874-94D7-47167AE9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82036B-4F40-45FC-9A5C-10B6E74D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4BFD2A-7B43-422F-9BB5-85C870C5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9D6712-5C66-453E-931C-A2714894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192F8B-89AA-461A-B7CC-E8BBF210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C78A4-FA21-4B0A-AF8C-1834515F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69BA59-3D8E-48CD-B7C6-4632C241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32DBFC-0126-4B3D-A14C-9FC08473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B7ADBA-2185-4093-A0C0-C0D24631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31FF24-2973-4FE6-AD9D-2792B7AC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6C50C2-4B6E-439D-9004-8FB85B5E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078F08-56E3-4D40-AFC0-8CE71607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0EB8C5-C1F2-4A65-A359-01269AC6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060D55-D8C0-497F-95A4-888ABE6F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8952FA-283C-449F-91D3-FB2B3B94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A2D8ED-4FDF-4A77-9955-9DCD3B8E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5A838-FB54-4E7F-BFF0-1EB0CE77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2E6212-B93E-4488-95C7-CF511959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4AC1D4-A7ED-4EF5-96D0-E2072BEB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EAA6E1-F34E-404B-9814-7CC998B3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71C14B-A1CF-4A5C-A3E4-B9180E29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D53B01-9CEA-4844-85A3-570638FB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B8E131-54E9-4D2D-9DA0-1BC74879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E36853-246D-46DE-A15F-DE9C95A2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9F91A6-6C6E-40FB-A188-360D5AAA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343AFF-E80D-4643-BD22-271D8620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654A1E-87EE-4943-93C2-857E674E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9972A-C76E-4788-9924-54A8EAA1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D8E571-0FBB-492A-8FF8-2A114379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BC042A-9BA0-45A1-84DD-C793407E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5CC074-BAD7-4ACD-A137-C63B2A4D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E933E2-DC53-4C2A-9D5A-DBBD27CE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7DCB13-4F64-426B-922A-B0CF4EC9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7EC01A-EA41-4EF6-9A0B-F876525B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E32F1A-25A8-4C23-9577-A5745C2A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496EBE-28A1-4B4E-B217-0A2E768D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9B679F-2D22-4AA2-A1B3-88BE2581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18F1E1-947D-431B-A6C9-3BAD5799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B48DD-E32C-4108-8736-3E1B3AD8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122BEE-241D-4DDC-9524-2808DEDC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3AD4DF-AD9B-4816-A8DF-D09BE619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56E0CD-5018-4021-9F66-16BDA9AC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34CBC6-DC06-41F8-A281-4F55B38E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E5F240-41C1-48B3-B2FB-D463BE55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E507B9-5B14-4D8E-BC40-32BF471A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BE027B-EF47-4CE2-AD21-BE7AE166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5F5923-0F29-47C5-AAE2-42C8A896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22FD08-022F-426C-86A1-196F9857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9BCDF9-348C-42BB-BE9A-BF747D8E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2E290-A1A4-44EE-818C-2344659E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22772D-E814-4BC2-BF92-4EF084D0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E37966-20C0-427C-AF2D-3154F5B8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E8F43D-DF35-4F13-B55B-41B03C1E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6A137E-CBDE-47A8-8EA4-3739C88D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DF0757-04EC-4069-BCA7-F7C34110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9CE4D9-2940-48F6-AB2F-228A5781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19269E-70CB-4344-8863-43463DFA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B5CBBA-9ABA-4042-B943-95D8DBD4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8780C2-6631-4605-B0A0-BFF74788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B7D7A2-DC5D-4681-8F2A-D497FB2C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542F8-140A-4343-B03F-376FEE86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028B0E-7004-44F1-9DC1-D20EA52B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1F6061-A165-4AC1-AC94-0E1F3813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740DC5-D752-4DD9-95DF-EBF47A79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5E68C6-336E-42EF-8512-1AB86678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29EEA7-F728-4F36-BE50-8B4114DD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FAE068-C20C-4884-B46E-3C95B485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6CC3F0-AE90-46C4-A12F-899256A8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09041AC-0E99-4135-B8A0-898A4C0A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BDBCF1B-C499-40EB-BA9E-D3B56125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ACA416-2719-4544-9FD7-69D93AC7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E34D8-80EC-444B-82B7-AD9A99EC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BF9B885-4921-4DCF-BC48-48948F7F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7F9CE7D-3DE0-4E17-A22C-DAA24669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779897-AB91-4F38-8426-2DC2C241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A994BC-A7B8-4794-893E-374EB839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31B547-C78A-4872-B6B6-57952ABF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432E97-15CE-44DD-B535-01442FE1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56C1058-3D51-45FC-993F-08F032EA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8D0060-7C22-49B8-8F7A-C1579AAC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CB948DB-415E-45BD-8F7B-1A815A9C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136786-9D44-442D-AD0F-52308314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CA8-589F-4DB7-9BCF-185E9A5F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59560-1D83-449D-BD49-9EE3D58B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7F74B2-1214-4DB5-B1E9-7A84BD6F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2B4A6C-69FC-4D63-B2DE-66EE3513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0EA950-3051-4642-85F3-AD06C8A7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8CBC46-D184-4D8D-9238-3E76F72A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CB2B8E-B709-4AAD-82C4-413493D9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36919B-2968-4B0D-9ADA-D3F71A50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11BB1D-F0AA-47AC-AD50-1CB2F104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903DC7-E39C-47DA-83CA-6D535E92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725A25-079B-48EE-94E9-668D8DBF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DA6E03-8F19-4970-ABD4-B1758791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AC4F6-B06E-48CD-AE4E-0E194056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3B46437-ACE5-41B3-BAE2-D5006CCA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2AACFD1-F221-45B8-8FCE-D1794100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10BF72E-B6DB-412B-9F42-2778793C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DFD470-9829-424F-BEF6-7CED1077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DBD9DC-E776-4070-AC8F-3FDC4E96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BD4D6EB-B0C7-4F16-85C4-08A0E36D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CE2867-845D-4C18-8320-B57F1E0D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FE101F6-2CFA-49CC-8F46-DA56EC6A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CE9088F-EADA-4EAC-9D99-D050CB6D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2A94F3-4F9B-4EF3-A4A3-074F35E0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24A96-464B-4204-8E5D-2F8B66E4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CE18B5C-403A-4AA1-99E2-FC928676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10757A-E9DA-4C18-87E8-75EACA64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10C03D-1770-4534-84A9-7491B873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1E71928-320A-4888-B5B1-D32D0F3C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F1828E-27D9-4C17-B203-45A97607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AD8123-BBC5-44DF-BC12-F1F5A8AA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9B49D18-728C-415E-A521-42E5A6BD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D07967-7D5C-4C72-B282-0ACDDE59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2B6037-EE35-409B-8243-70277970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8E46CB-591E-4EBA-993A-F2AD6006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0674F-5F33-4B62-A33A-DF79B2A6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F559E9-C53D-496D-B249-79A7FCEF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2BB7CD-6E56-4EDA-BEC0-908810A9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8BA593-9220-4E97-848D-836CE334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895694E-E78D-4296-939F-187CCA1C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85CF37E-5132-4A70-87C0-9EA29440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0507975-CAA5-416C-9C54-5F7C5616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5CBE21-BECA-4E81-8928-C1FFDD3E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B3DC90-4F69-4275-8E4E-AC86C33A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F692C86-9DAF-4A32-9299-EF68ADFE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6C983FF-E8E0-49B6-B5C1-DFE2E445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FB4FF-1010-4729-A30F-CB977606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9CE426E-C65C-4AA6-B917-13BBDCE2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E76CFCE-941A-4C40-AE72-A6462DE8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087754F-5EDD-4758-8E9A-2B9CD138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4A00443-3764-4B68-B0CF-75F457CB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11BF099-E08A-472B-86CC-9DE54901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6E249FB-7111-4BBD-8EE8-A2614E9A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2EBB28-9064-4567-8ADF-6AEC510E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2ADEF49-C380-4A3F-A743-FC99CDC6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05DA082-C3F9-4738-98A8-69F11E57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E0BAB1E-B74A-4FD1-887A-94E6B420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62EF7-F93A-4CF2-80FB-2E3C367D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4162D69-0D58-48E4-AD61-6085AEE6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5F27473-655A-4BC4-9F33-D4F1FCD3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3E6DEA0-8527-4365-B493-CB5BD45D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5A147B-60B0-43E3-88DA-D38A3960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C60696-E483-4F88-9C0E-8596ED31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7B5935-33A6-42C1-9E86-2DF31EE2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B9C5035-FF98-4E9E-9CD7-9E270F93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BEAF84B-D7B8-4127-8E28-1AAA3696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DA4DC91-E7D6-4CBD-8DFA-7B7E1670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0BB3AD5-6A80-4ADE-AA0E-B4F003AE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7ED85-BFF9-4117-B079-61F58F33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F4114FE-05B8-4F58-9D47-29DA61F4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667B35F-1601-403D-82F6-28A045CF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23A36A8-E441-4772-9347-70538102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3F34807-C7E8-421A-B3F6-477B7134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1E6B64B-84FB-46B4-888A-4DB2366F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7F3BC25-9495-4262-A9A4-8A81114E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0CC9E27-D51A-4A90-BFF8-C9953396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FC52E03-4BC9-4271-9178-50291AEB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1D57191-6BEC-49AA-ADA5-51A44635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8CF514-5AAA-4091-95E0-4A57D61B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F9255-6596-43F6-B481-12240DFB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C31E1A7-58D4-4EA2-B133-A0E77ED2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29122BF-B7EA-4CAD-932B-AA3146CE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0D7F58C-E98C-4C24-88D1-C04C9FCD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3270E82-193A-402C-A66A-AED434AA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8879AD1-1DF7-48F2-9BCF-82DC7923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195CAF6-248B-483D-9EE5-90FCD51A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C4ACA53-7C93-436D-9BA6-809BBDA9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ACE96C0-62E9-48F5-BBB3-B3317D75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D336E77-F398-4605-BB8C-CA78F0AB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DAB27F6-4743-434B-9E51-A4A7296B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A9F76-C111-474D-9BD4-F21E1D59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29B047C-F8E7-4F18-8FE4-7304BDD0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5F7A42B-D5CC-429C-BBD3-D575114D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308C314-CD02-49B4-BCDC-AC484D7C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D5A840C-9C23-4716-9C80-587F7EA4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9039A4D-854F-4234-8D4A-14157BA5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5A3D36C-A8DA-441F-AA28-8AB8766B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1B020EA-0AD8-4E23-AB3C-E7F673A7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1F3A330-F263-485F-B799-4193692F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21C6A3F-64BF-4165-A66D-DA422D4B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6AC2FC6-717D-4B84-A37C-989C82C2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DB04D-97FC-42E8-83E1-FFF04CB5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F8E2968-ADA4-4C78-BD52-680F9B98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3F626CB-5F24-447C-9B85-86D751C9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1C14B2A-EB63-4229-8CC9-B8E84233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088C631-ADE8-4DA9-8F26-148A1964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E8807FD-5673-41AC-801F-710ADF68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D4C4EBC-57FD-49C1-A27C-69FB9FD3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9A8C432-F5A9-4B06-B049-D0D1B534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61BB6C0-D6A1-46CB-87E6-836CD7E2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C2350E5-AEFA-4E73-A10E-BAFD6F7F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C9AB4EA-E09A-4D86-A2B3-87BE7D1E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9F3-F452-4286-B202-C329F9C0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30936-5FF1-4006-A8E4-FC223A5B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CD3BC9B-C71F-4368-A7C8-224550AB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45DED00-4C26-4B6A-AC1C-46D98070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854A16F-81BA-47F4-8339-9AAD7E27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51214DB-A607-4D27-B376-4B11716A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789358C-D0F4-4F89-B482-E8A7AD87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A7ED8-2B3F-4A03-A7B5-C0EE8829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1EC2F-2D77-4EC7-B627-0C1407E4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5CA87-2A6A-43FB-A45C-4BA212DB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2B6C0-7497-4CCE-ADBA-1511FE33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1436A-F1F6-4AEA-8A44-3D1285F7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67E09-9239-4B92-AF7A-3C627942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71E5E-7F47-447D-B581-5F3D5A26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AB3F5-233A-4682-8E41-21A96896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743DC-CC77-4E98-90C2-D40A70DF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ABE-32EB-4FF3-88D6-F8F7C225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7540B-6C93-4352-A558-3AE27791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123C8-B4D3-44EE-8EB7-E1E3CB78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A7959-D3CD-4168-BC38-6519EB6D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E3C35-F5EA-471C-A9A0-B29607CD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2A356-D3E8-41E7-AA21-E0BDC9FA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7BC75-E25A-49D2-A09C-BF11C431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B3564-66F1-47D7-B0B8-01A19290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0444B-73B3-4707-9030-3E61D11E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D5848-A9A4-40FC-9D15-74EAAD30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14C33-0CA6-44B1-983E-537323E5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C90-7336-4B2E-9505-CC4256FD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9D5E6-E06A-41BA-9F89-A0A1DCF5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491ED-8DC3-4F7B-8AC1-FE000E95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9E011-991F-401B-AAF9-AC808601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6B73C-C656-485E-9556-8C9296B4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B1052-A69A-4997-A6A4-0DB5CF81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EB6E4-51CF-4E54-8960-ED71DF97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95300-F408-4560-815C-C4C1AE09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3A47D-F016-4F23-9B5B-29930DC0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C8906-03A5-4FCB-9F45-A0BF7565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0BD23-A732-4D39-A26C-5B3C3A26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AED-C35D-48A1-866C-A6E363D9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A9EF1-749C-488A-A97A-C4175C51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C1D00-03CF-451D-BB2C-407852A1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A3C4E-E42D-4550-96B5-E6B6BFC8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95B0C-FCF7-47A3-A0B1-237E638E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68D41-B96D-43D6-8111-0658DA3F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4B837-7169-4CB3-BB68-CFBE53A8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8B35A-846D-4774-B36E-A63294E3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83A31-6258-4F7D-88C0-090FB7C3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5FE1B-F87A-46A9-937A-D54C24CA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F1FF0-B012-4097-9D08-1247A4D6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148D-9A0F-4CA7-8342-0F756FA7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83D0E-E84C-4509-9E72-B3F6330B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A13D2-9E27-494A-A4F8-462B33C8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03F1F-08F1-4B4F-B153-87BE1B64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46D9E-2F42-4EFD-BAB1-D0EC59E2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76CFF-AA03-4633-B362-A9D8168F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37A28-B422-4F92-AAA6-52BFE5BE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2F451-B133-47E3-8BF5-912803CB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0482C-6587-4105-99AF-70DC6262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8EF68-C233-4E76-97FC-30C61C37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005FD-93B2-4474-91B9-7B66FBD3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3395-182C-4C77-8D12-621DAE9A71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3335-4044-446C-927C-F8F0B8646C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01C7-A7F6-4301-B03A-644B7DEBDE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4498-1A4B-401F-8F57-1679DF50B8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2530-F96F-4DEE-AC9C-ACB119BE45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5323-3B5F-4929-89BB-9E2C249729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D766-33C7-4B63-A73D-14C26F3895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37BF-C073-4E0A-AFD0-02D6B1F318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C5A1-0572-47A7-9D44-3F7D6C6DC3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D15B-580F-4528-A7FB-0BC8BD0ADC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3493-BAD6-4944-9EEE-2C29EF733D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85A1-DAC3-4EC1-83C4-0032F09D90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7247-8312-462D-9EB7-EAAF31C07C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2A86-2653-428F-BE99-E768435B99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C09D-F578-45F8-BE46-A372028C4C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AC10-A511-4C5E-B1D9-879BCFD111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4B88-64AF-496E-9575-5E149389777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AEA6-9A8A-43D7-AD6A-5C480CEB7F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6973-B3AD-444F-8604-147A7D5405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D54E-8065-47BF-98D7-186D835A51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19CB-E7C1-4068-8AFB-AF884AA473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162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165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7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0FB2-70EF-432E-A3B6-3EA62D5AB9B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20F8-5EE3-42EB-8AC7-74BC1383FA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1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545A-06F8-4C59-88D8-8BFA4D6788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6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8C38-6C65-4B0E-9D35-F58049A474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04B9-94E6-4560-8740-F9410A575B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4655-6E19-4C41-A63C-683794C012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DE5F-4528-4BC3-A778-55AF482C0A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3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1153-7307-46AE-B3BC-776AE22BE7F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85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48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30D5-384E-435C-B0BB-BF3AAED491E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3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A512-20A6-4174-934E-5B39B05C796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6440-49C7-42EC-84A0-E6D84AD527E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F561-D6F8-4043-B907-B31CC4147C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ACDA-906C-425E-AC54-7FB5FB7F5D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80B6-07A9-44AA-BA0F-DECD2FD9555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1552-FCD3-45B3-918B-E15A0F3A93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921A-BF1A-41CE-96E5-AD908AF63FF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E3B8-CDAD-439B-9D44-5B01B7FE92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763D-E7E2-493B-B42D-FB1B5A8528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DD70-3E75-4741-AFE6-08B5BB71B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009A-E25E-4792-AA65-3B764CDACA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E4FA-7886-47FC-BC4E-641D33195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Культура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- это часть общей культуры личности, включающая систему знаний о здоровье, методах самодиагностики психофизического состояния, компонентах здорового образа жизни; осознание личностной значимости ценности здоровья и здорового образа жизни как необходимости личностного саморазвития; способность сознательной выработки индивидуальной стратегии сбережения и развития здоровь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кольный спортивный клуб (ШСК)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 – это форма внеурочной деятельности общеобразовательной школы, ориентированная на формирование физической культуры личности, характеризующаяся физкультурно-спортивной и общественно значимой направл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СК может создаваться образовательными организациями в качестве их структурных подразделений или в виде общественных объединений, не являющихся юридическими лицами. Деятельность ШСК регламентируется Положением о ШСК, которое самостоятельно разрабатывает и утверждает образовательная организац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Скругленный прямоугольник 1"/>
          <p:cNvSpPr/>
          <p:nvPr/>
        </p:nvSpPr>
        <p:spPr>
          <a:xfrm>
            <a:off x="611280" y="404640"/>
            <a:ext cx="8137440" cy="1656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едагогические условия формирования культуры здоровья обучающихся в рамках функционирования школьного спортивного кл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Скругленный прямоугольник 2"/>
          <p:cNvSpPr/>
          <p:nvPr/>
        </p:nvSpPr>
        <p:spPr>
          <a:xfrm>
            <a:off x="638280" y="2276640"/>
            <a:ext cx="8136000" cy="979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1" name="Прямая со стрелкой 4"/>
          <p:cNvCxnSpPr>
            <a:stCxn id="1809" idx="1"/>
            <a:endCxn id="1809" idx="1"/>
          </p:cNvCxnSpPr>
          <p:nvPr/>
        </p:nvCxnSpPr>
        <p:spPr>
          <a:xfrm>
            <a:off x="610920" y="1233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2" name="Стрелка углом вверх 8"/>
          <p:cNvSpPr/>
          <p:nvPr/>
        </p:nvSpPr>
        <p:spPr>
          <a:xfrm>
            <a:off x="611280" y="12333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32198"/>
                </a:moveTo>
                <a:lnTo>
                  <a:pt x="29368" y="-32198"/>
                </a:lnTo>
                <a:lnTo>
                  <a:pt x="29368" y="11113"/>
                </a:lnTo>
                <a:lnTo>
                  <a:pt x="23812" y="11113"/>
                </a:lnTo>
                <a:lnTo>
                  <a:pt x="-30611" y="0"/>
                </a:lnTo>
                <a:lnTo>
                  <a:pt x="-19499" y="11113"/>
                </a:lnTo>
                <a:lnTo>
                  <a:pt x="-25055" y="11113"/>
                </a:lnTo>
                <a:lnTo>
                  <a:pt x="-25055" y="-21086"/>
                </a:lnTo>
                <a:lnTo>
                  <a:pt x="0" y="-21086"/>
                </a:lnTo>
                <a:lnTo>
                  <a:pt x="0" y="-321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Соединительная линия уступом 11"/>
          <p:cNvCxnSpPr/>
          <p:nvPr/>
        </p:nvCxnSpPr>
        <p:spPr>
          <a:xfrm flipH="1" flipV="1" rot="10800000">
            <a:off x="599040" y="525240"/>
            <a:ext cx="27720" cy="4907520"/>
          </a:xfrm>
          <a:prstGeom prst="bentConnector3">
            <a:avLst>
              <a:gd name="adj1" fmla="val -87763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4" name="Прямая со стрелкой 15"/>
          <p:cNvCxnSpPr/>
          <p:nvPr/>
        </p:nvCxnSpPr>
        <p:spPr>
          <a:xfrm>
            <a:off x="371520" y="417636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5" name="Прямоугольник 28"/>
          <p:cNvSpPr/>
          <p:nvPr/>
        </p:nvSpPr>
        <p:spPr>
          <a:xfrm>
            <a:off x="644400" y="4834080"/>
            <a:ext cx="81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вышение профессиоальной компетентности педагогов в вопросах формирования культуры здоровья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Прямоугольник 29"/>
          <p:cNvSpPr/>
          <p:nvPr/>
        </p:nvSpPr>
        <p:spPr>
          <a:xfrm>
            <a:off x="611280" y="5722920"/>
            <a:ext cx="81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азработка и реализация индивидуальных программ сбережения и развит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Скругленный прямоугольник 24"/>
          <p:cNvSpPr/>
          <p:nvPr/>
        </p:nvSpPr>
        <p:spPr>
          <a:xfrm>
            <a:off x="657360" y="3686040"/>
            <a:ext cx="813564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роектирование индивидуальных программ сбережения и укреплен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27"/>
          <p:cNvSpPr/>
          <p:nvPr/>
        </p:nvSpPr>
        <p:spPr>
          <a:xfrm>
            <a:off x="635040" y="4941720"/>
            <a:ext cx="813600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еспечение взаимодействия всех субъектов учебно-воспитательной деятель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Прямая со стрелкой 31"/>
          <p:cNvCxnSpPr/>
          <p:nvPr/>
        </p:nvCxnSpPr>
        <p:spPr>
          <a:xfrm>
            <a:off x="371520" y="278424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смотр мультфильмов, тематических видеоматериал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Обсуждение примеров известных людей прошлого и современности, обладающих высоким уровнем культуры здоровь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ведение рефлексии с целью выявления мотивов поведения рассматриваемых перс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роектирование индивидуальных программ сбережения и укрепления здоровья обучающихс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Индивидуальная программа сбережения и развития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– это составная часть индивидуальной образовательной программы, комплексно описывающая деятельность по сбережению и развитию здоровья, содержащая индивидуальные цели, этапы и способы их достижения, результаты, анализ и оценку результа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9528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 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1. Анализ индивидуального опыта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2. Индивидуальная карта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3. Цель и задачи деятельности по сбережению и укреплению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395280" y="188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4. Индивидуальный план деятельности по сбережению и укреплениюздоровь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индивидуальный план двигательной актив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закаливания, дыхательной гимнастики, отказа от вредных привычек и др.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рефлексивных ситуаций (мероприятий), в том числе представление индивидуальной программы сбережения и развития здоровья, достигнут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5. Оценка эффективности реализации индивидуальной программы сбереж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19" descr=""/>
          <p:cNvPicPr/>
          <p:nvPr/>
        </p:nvPicPr>
        <p:blipFill>
          <a:blip r:embed="rId1"/>
          <a:srcRect l="24215" t="30963" r="18744" b="14575"/>
          <a:stretch/>
        </p:blipFill>
        <p:spPr>
          <a:xfrm>
            <a:off x="1547640" y="1484280"/>
            <a:ext cx="6048720" cy="3889440"/>
          </a:xfrm>
          <a:prstGeom prst="rect">
            <a:avLst/>
          </a:prstGeom>
          <a:ln w="0">
            <a:noFill/>
          </a:ln>
        </p:spPr>
      </p:pic>
      <p:sp>
        <p:nvSpPr>
          <p:cNvPr id="1825" name="Прямоугольник 18"/>
          <p:cNvSpPr/>
          <p:nvPr/>
        </p:nvSpPr>
        <p:spPr>
          <a:xfrm>
            <a:off x="755640" y="47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еспечение взаимодействия всех субъектов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ебно-воспитательной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деятельност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8:55:57Z</dcterms:created>
  <dc:creator>Venera</dc:creator>
  <dc:description/>
  <dc:language>en-US</dc:language>
  <cp:lastModifiedBy>Пользователь Windows</cp:lastModifiedBy>
  <dcterms:modified xsi:type="dcterms:W3CDTF">2019-11-16T07:53:27Z</dcterms:modified>
  <cp:revision>178</cp:revision>
  <dc:subject/>
  <dc:title>Слайд 1</dc:title>
</cp:coreProperties>
</file>