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40D-F5B3-425E-B9B7-10982355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AC38-52CA-464C-819F-2C3527624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23AC6-4F0E-4681-8127-A2845939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34250-8B8F-42B8-9350-2D6CF0A6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CC503-1C1D-4BF2-81F4-66A9C8C8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845E8-29F1-4A68-82BC-90939A5C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A64FF-736D-411E-83BB-68383E17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CC076-9680-4D9F-A980-62F77F46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33CB4-FE3E-4AF9-9202-98CFE195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6E83F-E8B2-4210-8E79-C112188B4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222AF-C5C3-42FC-957B-EB2976E1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C13A9-51FA-443F-9E41-55472031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CE3E-7A9F-4752-AF1F-F2528C21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F3E8A-9FAA-424C-AEC7-6E43A1E8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FAFAA-8414-40C3-9DF7-F93621B9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FFDCC-E502-4C1A-B506-B33A21DB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34667-9114-4D8D-9BD4-2A21BBBD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76E89-82AB-4A97-8BE8-EDF33768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991EC-7B7E-45B1-BBF8-CDA4B345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F9949-B294-49DF-9807-8E0222A4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5E028-20FF-4958-A665-8E6651F2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8DAAC0-4DB4-4B0A-B7F2-1A3872BA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1A20C-42A2-4672-ACAC-25A9BA0A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649-12B5-4E0E-987B-29130E539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AF117-562B-4A8D-8384-5097C8B7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85DC5-59BA-4A2E-B184-AA1AFDA5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9C3F7-0111-4EBE-8CEF-2A411432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73E35-E464-4E22-9854-E836E7FD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18293-A61C-42DC-AB88-D0E73FE6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AEE27-FA93-4D48-95A6-0879BFBA2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65ED1-7D11-4B4A-9625-C8F1FDB7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C0E40-F65F-496B-BFAA-B935A99E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E5898-FB94-4492-A6FE-0BD4F47B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A4CAA-D0AA-4F04-A613-6CE2EDCA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15F5-06C3-4888-BD38-1C04FDC4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C6DCE-0EF1-450E-BA8F-6027BD6C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6C5E8-74AC-46BC-9ECF-AE2AF1B8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A7528-8EB4-4BCC-8648-234DCDA2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6C0DAD-A9D1-4DE7-83BD-648BAF9D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4FA60B-9C47-4BC0-967D-AF2514D5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600E1-1DCF-4CAF-8390-2BF6BD1F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B1499-C796-4E14-85AD-620A6B2B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1074D9-9527-47F4-9DCE-FFD35EBF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4C46B-C052-45F1-B074-FF1904A6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28739-E622-4A96-9BBE-672F405B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CAF7-E298-4089-9FD9-25455EEF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C40A5-540A-4058-B65D-54E5DE4F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BD8EE-0766-4FEF-B5DD-A3916EB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EC8DF-3AAA-4043-A5F8-77EB25D2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B2313-9D8B-403A-8DE7-321DB73C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6E75C-3864-4FF9-8F3F-0482F1CD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08A16B-23E6-4F39-A855-0CA8CA14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9FD1E-32AC-4BE1-B98C-072FC169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828FF6-F696-4589-9D54-275E334E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30AE9-5721-4B89-9057-AE6E37BD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8B38E-D3E0-4C60-BAA2-C1CAC124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7BD0-C8A2-46C5-B305-FBC90FC6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76EABA-A2B8-49BC-8FFF-3A89C37F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6DF972-7529-4F11-B2EB-CD9B0674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9AF10-12A5-4A1E-A4E5-9AD73B06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6759C-FE9A-4F21-B703-1572C38B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F78C47-6276-4DA7-963B-7642C17A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94F99-783B-4E77-8679-1FCFC7A7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169F7-F5B0-41AF-A4C5-D7D3F548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784F61-C872-4D7A-9E06-281FD51A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FD7894-F51B-43A0-9CAE-069A7EC1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A6E05-1D61-44D3-8CEF-F0C16EAE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4F88C-E524-44EB-9F67-61E97EE5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BDBD6A-7CAB-474B-A3D4-42956C01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B6796-3399-415C-B7D3-EDCBBC8C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03A65-E41C-40CC-B37E-AF475AAE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83CAC8-02C7-4FEF-BDB0-AABD1283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924F4B-261F-40BB-B919-5E1BC519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C1998-B007-4668-86C1-D14A1113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15D3CC-FD15-4577-A1A6-98D0C6C7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A2D460-658C-43F6-9BFC-C360A19E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556B4-5277-481D-AFC0-2A6BD918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1975C9-A51C-4B55-9CC3-FE4D1E0D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8945-5B35-4FE2-BB8E-F478D59B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C05101-5806-4D61-8C6B-A1DE2030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623520-8B25-4339-9CD0-530E6083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5382B-0884-4DA6-ADB6-B82509F8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6A4989-5F05-40C1-B3C6-D1C5A8F4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85059-A0BD-4DDB-9AF0-B05A916F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D17D9C-02B7-44E3-9195-648C86D2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D108F-EE48-4967-8D89-A3503663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E7AADC-A485-44D4-84C1-0423C7D5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71FED-EC14-4969-BF74-8829E485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E5A6E-37DA-4D83-8478-F3166577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0DA2-17DE-4D86-94D3-15D92490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E2066-7124-4DD7-9D0C-1334CA37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C3BCE-220D-4FCA-A45E-4CF6BAC21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DE1C5-7D36-482B-88AA-64246350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B69D2-485B-4C9F-B51D-9DC5EB99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511FE3-BC53-4BBA-935F-435D044E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9709B0-0804-48D7-BDA6-25164E18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3A44C-C981-4A91-A536-846EC306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7DCB79-B461-4A6F-8DBD-675BFA59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E1EBD-FEA0-4E9D-9276-676D259F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4F9E2-9D6A-4B41-BBB5-E9FF1CE9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93B6-3731-4C4D-B5AC-0A145A3B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F640F9-3C5C-47E1-87F0-50DE5B08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06994-35F2-491D-A1BD-FC307F07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D4F4E-470D-4455-8630-32889727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39E083-2D0C-4836-AE52-BA4CAED9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5490C-96E2-415E-9475-097B8E68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5845C-0AC8-4008-9D3F-17452841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5EAD88-102C-4B13-9F9E-9A312939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CB7373-1FA6-417D-9490-C17DCB5E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57E0B-B865-4D45-90B6-746B0F85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7FB722-872D-4647-BD36-058FE6C3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EB3-C2A5-4218-82BC-1AAEF553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A507-D0AE-4F02-8E92-96C34A1B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9DFE2-779D-4603-959E-39D9D59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99E1B-C661-4FAF-8084-034DADA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428037-DE13-4F8D-9142-A1EF5D10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48EF77-8766-4997-81FA-AFA061CB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D076A6-217C-4246-AE94-B3430C13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77385F-5FA6-4F4A-BBAF-D2893FB3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E83C1C-B1AB-4B53-89A2-75A7577C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C9DED6-0C41-4DF5-93A1-818D0C92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A71C7B-EFFC-4065-B048-D87A4F11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04547-F6A1-4C6E-A88C-1DD65653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CCC8-1CDD-44B8-AA38-985BC0D9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FD8EC8-4AFD-45CE-99E0-F691C264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E0B52-AA95-4F18-9D5C-81C721B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A058C-E4A7-45ED-AC72-F847B557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322CB7-63FD-431A-BF59-45CF752E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4E04E-F3A3-41AB-82E8-EB01280C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53654-AFBE-4B8D-88D8-752E0C79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6426D3-3BD2-4A52-9CE5-9EEC1CCE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BDB335-3468-4C65-BD65-BE2D88BD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0116DB-B528-499E-859C-297851E4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258606-6E32-41ED-B521-F3FEE43F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E9C9-E636-4BCC-93A9-2A295510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FC894-DAAA-4D15-BEEB-B8DA8F9C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637C6E-BDE1-49F9-9DB1-C4E31607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FD83FE-08C8-4A64-BEAF-1F8102E7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D5A92B-4638-4468-95DC-A80722C6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78FAF-D92F-4185-83F9-BA4B80EC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CB88A-C210-41DD-91FB-E37AFC92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FF496E-CED7-475A-859D-99BF9A3F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468590-5BF4-439D-8B0B-1A1EECFD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96AA8-8A5E-46D2-BD4F-CB4337B6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D6750C-EBD9-43D3-BAA3-B4F6320D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2CFD-C701-48F9-937D-FCB395CF9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7645B5-8F47-4269-AA57-5184820A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54035E-3F21-4370-A151-C0BD9542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FB51A-75C8-444E-8B85-C5CAE860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128E6-88E0-4521-904B-B60F0BDD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369C0-860E-4F0E-98A4-65885CAB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191B5-171A-4946-B4B4-7DE4BF5F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84BBA-D8B3-4C2F-A244-D1D0B936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CCD33-493F-4066-AC64-6E72878F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794FA-5A20-4EF7-AB28-3A772E40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A2D00B-72F9-4C4C-80F4-E2CCF675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4A1F-5EA0-4CA2-9AAF-04D77456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18FFE6-C8F0-4E9D-B1E9-BAC6CBB4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0043F4-0D85-4955-ABF3-90ECFC7D2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F6275F-1592-4421-A9CE-0F3A9362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0E83D4-8CB1-4C39-9CF3-3ED1D1EA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69CB59-6192-417B-8600-E1095164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81ECF7-FD22-4E10-8301-B56431434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BB8243-5222-4410-A86C-ECD0DEAE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1FF891-A191-4BD1-B55B-81424594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0E8ADE-7C5F-4EDF-8CA2-3303DBBB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F470F0-A60C-4DBA-B1A6-E8E0C277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0411-1A42-4DE8-9F98-C5D95989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FA9AC3-19C9-4BCE-9FD3-08D9D8FF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3C8B2A-4ED2-4398-9B80-A341FAAA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BCC9A-E4EE-44E0-844F-BFE2531D1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B8B1AF-71B7-4DC5-8992-7B615FE9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65C4AC-B064-4599-AF48-253029A6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DE0025-BFE6-4973-A546-22696C1F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1D1BCA-2FBB-46E2-82B6-E4FF77A9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D3AC0E-7A44-4EB9-80EE-BE22538E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732800-9E19-49C8-9797-FEB61095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2DA252-1A5C-4576-8A1D-D8F30A6D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05A3-07B9-4DA5-B3B7-C0E59D25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5E6AB9-EAB9-418C-85AE-7DDDCCA4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BCE6FF-6C9B-4A99-96BD-A5BFCF81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10839F-7D2A-488B-9606-7D6504B6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6B8EF7-21A5-4812-8870-8AD404A6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8A6871-C00F-4487-B2D0-5693567C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5E7D2F-1B9C-401A-A71D-8C3A5A8A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B36509-5660-4641-8DCA-8ACF3987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34E9E3-3DD4-4ABA-88CD-376F4506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42C14F-16AD-4B5D-8C21-C1D28BB1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85A358-6D85-401E-9240-2A36ADA9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BCE9-540F-4CD4-93F8-C4579697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8235A1-5ED6-423C-A346-7B6B319C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76E79B-BFC4-411A-8E47-35FD27B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E10923-59E3-475D-B164-13F41F58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A95C40-3305-4D09-9442-1F0DC29C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FE15FB-957C-4F24-B064-A5340E19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A9BF9E-9F01-408E-8E9B-13915415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2F57B5-6F4D-4554-A35B-8B119B660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648A32-E253-41FC-957E-90535E71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363825-4ACF-40B8-B83F-C274C8F9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D0AD27-EE26-45FE-8CBB-20AF900C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002C-1B5A-4B13-9EA4-BBAAA528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4018D5-FC97-4AA4-8F9B-0E7A0CE6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8DC0E9-8D07-4308-978B-F4D59AE4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EE1972-E8D7-4FD9-A920-11D343BF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A1EC20-7A7B-472F-BD61-217EBE44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E8BD58-EFF6-4BDE-A366-083D941A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898B8D-85BA-4C0D-8CB4-6970F67B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AD3A38-7774-43A4-921F-1E70BBA7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5DA999-B5BD-4408-8428-EF56387F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79D5B2-9A06-4D0A-BA07-A8AD7EFE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D411BD-6C59-425E-A0CA-D4CAE4FC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7B9FC-510A-4B1A-B39F-EBAC94D7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B79E26-EF80-46D7-9688-97A49AA3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3DEE61-10AE-442A-82B0-5804FBC0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EC6860-B12E-444F-96E4-F44D215B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0B21A1-6308-4276-A259-E04DED6C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0B1D65-174F-46D1-A535-1A6A53FA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6E11D1-4E2A-4E58-95A7-0173E324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C30662-D86E-4012-8BCA-D6ECCF2C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F24024-6176-459F-A65D-6E2F6B93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10F6C7-B2D9-43DD-9802-ECDBEBD0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71441E-0D78-428E-B42F-ACBD3793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34C-A9CB-4EA7-9229-1DA67C8D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E7FF-A75B-42E4-93DD-CCBACE3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72DE82-AAF2-476B-88A2-6C8B06A4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190D16-DB85-4895-851A-0B53A556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8FEEDB-3A57-4AB9-B945-DA92B997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46BB63-7B01-4A71-BFFD-854AA0A6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D40A15-5761-48D1-BC29-98D48245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1F6131-99DD-4FE5-9244-7FDCC0B9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587EB3-EC14-4B76-8D8B-8BC76640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9556F9-9AE8-4AD6-AAA0-B45DF68D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ECC4B8-8CD0-4B8B-8F5B-57372F8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A8B237-6C32-40DA-88AB-49CB39EF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DA35-4D8C-4ACE-ACB7-40AE7229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00E1E7-394C-486E-B4C6-67646366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3DD568-9EF7-46C0-90B4-7C2D1395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FBCD7E-E36D-4014-A4EF-88C9D6D0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9979DD-9250-4282-846A-BFEC002E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935687-AB2A-4801-BD80-6E410247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086CFE-F8BF-4656-901D-3F791BE2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CCB6BA-A784-4957-BC19-73A277C1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F03A52-3D0C-4E9D-9664-E5D456F6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AC1361-C025-483D-8A6E-F45E92D1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7E009D7-C4A2-42FD-AAA2-C2CE40D1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7D60A-26F1-478B-A56A-0D37BFF6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B5B5F8-32A5-495F-AF62-AE9314D4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4790F9-0B8D-4555-AFBB-25D66F1A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E693D0-AC35-455D-82BD-62B1C04A5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C9B8B8-8756-45D8-806A-5983A4CA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B42681-5909-4F03-8351-34043A6D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E2F047-84E9-4DED-86A5-2FCB73587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3B8268-73C8-45E9-865B-E6EF56E1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D87FF9-E6A5-4FBD-9E5A-03B24B2E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378ED9E-215A-4C37-840A-433D7AA3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B28864-09C5-4C5C-8DB5-27E1FD6E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59F8A-D92F-4613-AD7E-542ED077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069C54-7B12-4536-9437-386CA8C8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86F360-E0B9-4A2A-A702-34A64E4A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827BECF-6A10-46DB-8061-99D18440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8155DB-A109-4D59-8EAB-7E00147A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E04EC1-D154-4CBB-91E9-B97FC6BD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2CC31D-F5A1-4361-84B6-49E44DFF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DC25540-FA9D-496F-A1B0-8BB0ACD4E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583481-8AD1-4515-8909-C63EB115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2DC76F-52D4-4A66-951B-078FB949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0E32A4-E76D-4458-B158-1B8E9861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8ADEA-F550-4E1C-B4DB-B5704413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39D3D2-B3D8-4561-BCB7-33D9BD08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73B1B9-6830-40A2-B7FD-78446488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32399D-8C87-41ED-977C-393F43CB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71EF3C-D5C0-4188-B3EC-5850E23E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9B3416-EEF8-4645-887D-4EA4EC0F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A99C3F-00D5-43FE-91ED-CF99767D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9E394B-325F-430A-ACA5-A74DE560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374625-7ECB-4838-85DC-6EAD4A5F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897203-2DC3-45E5-B692-73A6CACC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70BD98-515A-4C4E-B29A-A33E76BD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1439-89F3-425E-AABA-D1A23E6BB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9AC83B-8C2B-4D2B-8258-4780E52F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2DDA155-3DA7-428C-BDCB-E824D3E7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6F60C7-1BCA-47BA-911D-3FB42A18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FCC42C-7CC8-4A68-A41A-D21E55E1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BD10E9-2FB9-448B-AB85-767360CD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AD6346-C365-4227-9209-D69D0AB0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A4D770-8031-42CA-8464-CB4E1291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7894491-7A6A-4638-B3B5-EB57AAA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029789-66F9-4E17-8EE2-447DE727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9EE165-3D45-473D-8003-F7F4F459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DC396-A774-4388-B1F3-8C20A5250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42AE8E6-1BAD-4D54-8316-D95E8B38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2AEDFE-B61A-4072-9F7C-C920E478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70D530-F4DB-458A-ADBC-06ABA31B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C7FAF9-0C06-47C9-B606-17AEE534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554274-6BD3-4CDB-BC26-9D2FEF26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35E26F-E54B-4332-AB1F-901FB3AF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392FD1-FDB6-4BED-93B8-C17F8A9F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5B52BA-5A11-48DA-ABB9-4B99B293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5598E8B-5ED2-451B-9BF0-969985A3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9DAF4F-7FBA-40D9-8A52-468E036A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5E59D-1840-42DC-B0C9-A1F506EF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7804BF-0277-4973-AB4D-38E51DFA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10F2AC-B3B6-4563-B8E6-3747D8BE6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E8B242-04A9-48D2-950A-7E02599C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F8BC9D5-2F91-4D13-A7B3-135DF20D8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C21F4D-387F-4975-92C3-AF3C9683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C17627-9F67-4849-A7FB-CBAB76EF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387159-5B63-4493-9924-358F4D4E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07B2BD-FB19-4917-AFD0-CC8377B7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7A5D3E-8929-4BC8-ACC9-2537F023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51A72F-AEA1-4F6B-99E5-7160BD57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E9004-93C8-4A74-910F-DE1AA1C57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B72F42-D1C1-4B74-98F8-025E71DE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87214A-4692-48EC-ADA1-186738B3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65550C-52E4-426A-B26F-67CB14D7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8C1F20-C52D-432B-80A2-48D4BC83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D301FD-BAFE-4299-B156-EB34B846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A46E9A-E724-4F73-8E64-3913D1DA1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7EDAE7-AB07-417D-9690-CE15772F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24F951A-AC4B-494B-9F4B-5AB49926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970FD4-67C5-459E-8553-4245DD0C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C19E45-2F1A-409C-9578-D3514BC9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6E567-D7D9-4748-BE59-4E930C47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A9983E-4918-41A2-844D-7B250465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43367E5-46AB-4627-8D1C-8B62B2BA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B933A4-A78D-4742-85BE-B0175E51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8C7A40-ABB7-477A-8E27-007A59B9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4169E25-C925-4B59-9528-524A3B20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77DBC1-9C21-41A1-AD72-33B9CA5F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70614B-4D2C-493D-9E1C-37658AA9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76F79C-37C5-48DA-8FAB-25055A60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5D4980-3F80-410D-A68B-CBF29E2D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3D65DD-9943-42C0-938B-0D2DEC1B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93B-2F51-4A02-A9CC-F045D85B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BD3DA-4AEE-4F7F-94B7-A6B4D46F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18C0CB-1686-40FF-88BC-6BC25FAB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956333D-7065-4B26-A407-CF4C1040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B32AA4-584B-47C8-B1D6-A6D16F64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65F22B-6756-46CD-9B29-DE185E84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4C45E9-B22B-4D37-B67F-4FAE3BD1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D19479-E9FB-4191-9D2B-7A80D471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C7F4F0-809A-4178-A66A-4E59CB4A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D70016-460E-4720-91DB-DBDC4480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DD1A4C-1C5B-42D6-A985-BFF9F44F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D78B740-E0C0-4261-9B0D-EA9D7C69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22786-7913-41B2-926F-AEB6EA5F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2CF8309-F5A5-46E3-9652-E238870E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5106FAA-B0E1-45A3-822F-25DF8B70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42972EE-5C71-4330-836E-62A8BC4F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1101FF-AF19-4BAA-9AD2-5BD55068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1779D2-1BB7-4787-A3BE-620F2346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850290-A6CA-4146-BBCF-51ED0F23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11EC2B-31BF-4FD1-9011-3346D4AB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A78B7F-7724-4534-9645-B9A88487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5C35CE9-5E04-4FF4-8E7D-A8E8583E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E5104D-F065-4CCE-94BC-F98EC5AF3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2B6B0-C2C3-4ED6-AFD2-AD741045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D03D2FA-6EB2-40AA-BE7C-ACA9F4A9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2DE6CC-C567-4473-8F28-EB5CC87F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9E7A75-156D-4DCC-895B-A2919331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78145E-F578-4AD1-8D4C-C079AEEA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EEF2B9-36FE-4BA0-B3FA-C2ACFDBD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5F0FDF-1CE8-464F-AB31-20A0CE6C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DBE7FA-C438-4998-A89C-B62146AE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628EEF7-A84D-46F0-B98D-D956F2E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60C101-8939-4257-B7D0-AB624A20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A2C016-A7C2-4184-BDFC-43A4F911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42A6D-064F-47ED-B8BA-0BB159F1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733BDB-DD65-4077-817B-43F87316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94E9FA-532C-4348-8787-DC3D13CB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9DD52B-BC42-463A-9266-DE6DADD3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E54FD0-F4D6-4263-9F5B-AAEF02929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216D9F-395C-44BA-B026-B0CF7A34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C0101E-FF94-4066-8D36-EF28BA9E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7973353-9EA5-42CE-AB84-846F4F0B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2430FE0-E8E4-40A4-8B8A-50DBC133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E8B04D-8804-4515-BAC2-0A65C99C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20BB72F-FF96-4F1D-9203-B8CEFA50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7B01E-A4E9-4A34-99AD-74B04390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220042-C404-4B76-82E1-8BAB829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7F11E0F-3838-434B-8020-51D50974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BAC700-1F57-4E74-AA32-9F81664B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9AF8EE9-AB0C-486C-803C-56896140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610212-583B-48D4-8377-ABFF58D6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AF7D6A-F846-4A9C-BF15-ACE0C533E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293FF0-D3B7-46A2-9A3E-02D361C0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900BA7-1F8C-4993-ABFB-9B814B47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5AF88C-5A92-43F1-A97F-73F108C4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8AE79F0-7A34-47EA-AA68-1B016BE5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8C607-EC83-4CB4-81CE-723980B2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5E6D8DC-9DE8-4818-8775-D10B8FAC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92CB84-D750-441C-BF29-399FB70E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CB356F-3FA8-4562-8409-5BDC8646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15F2DFF-5834-47DF-9C36-08A84E2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9B9B85-B1B4-4362-AC2D-EC89E6FC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DC18F6-844E-469D-B25B-505BF6F9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4ACEEFD-5C39-48CB-9DF8-F71020F3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CB51B3-837C-4441-843B-2CF633A7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F3454E6-F886-41AA-948A-80258E14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C7BEC5A-D93D-4190-B053-39232CF9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FAC7-1C55-448A-A430-288A54CE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7E26827-C023-4840-8ADA-E8DE7E71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606741-C8C3-43F4-B75B-22345879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5444E07-0016-4FB8-BDB3-92BA98A5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B851C8-45CC-4C37-9006-146B42F4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122838A-8D98-46AC-B6D5-2E6C6D3D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6E84C7-D224-4069-8903-AF606520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B6A115-84D7-4F2F-8FAD-A90A7AF3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B08FF3-0B26-45E4-930D-9065E34E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657AC0F-A89B-4038-B272-EBF949B2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B8D387-AE65-4109-BE65-3FD65EE9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E136F-3F70-4E19-BB92-9E33FC0D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AF517C-FCB9-46A2-8F88-CD9AEDFB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E075FD7-86B8-4551-A202-89AB36FF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AA7C1B-F790-4121-83EA-A8F7B9A6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7F6C3AD-735F-4A79-A4A3-8F960250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3D2B57-F691-4448-A857-1E81E6A8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17E5F2A-5551-46CE-8789-1A8A453C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5054E6C-AD6F-43EA-A082-BD523931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6B0FF6-087C-44CE-96BA-F14EDD8B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1DE3BCF-925C-43B4-817A-D25456CF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9038C24-4303-41F7-9CFD-B4721581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21A87-9B42-45F7-A952-4D193BA8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1C34244-A4BF-4785-8D3F-580FBD4C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A93CC6A-44D3-453B-9193-FFC46658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9842421-BED1-486E-B020-7E91E82F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5E5B965-03CA-43B7-B643-7732EB2B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C3BE07-854D-46C5-9AAE-AB2730B3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2367833-76BB-4B49-BC2E-262EE245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617630-8D0A-4736-BE94-473B201D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0C16F7F-5B16-49C8-BC82-78A9AB6F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8862A31-9F33-40E9-84AC-91CDF96A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19E5E48-336F-4578-9235-A2FA47ED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96470-22C6-4C5D-849C-D802EE16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5732506-FD7A-43E7-8345-0EC3D9A0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600C784-58A2-4589-A97D-E6E0A92D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553DC7-78C5-4423-BEC7-75F13D28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C5E33D-747E-417F-A776-02A2EB01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FC4AEC-A1B7-49AA-A6CE-80F4C189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1F29C4D-457A-4940-BA29-94A397A9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ADD9169-AD85-4E5C-9181-4BBD8869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4D339E6-0CA8-4DE5-8956-BA3CAFCF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948CE30-CF1E-4E43-B6C0-702795EF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335D1BB-60B3-4227-BDF0-DAD9F0F0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195-80BA-45C9-9944-B8676E01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2ED41-B9B0-413A-BEBB-BCF69852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9317D11-3E2F-4CB3-8981-F35C2685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1E874BD-3F31-4014-87EA-84959724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D13CF2D-5428-4D29-8B8C-C5CADEC5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1CA05FA-ECAF-4A92-911E-D8CA4497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EB7FD3-2977-4AC7-B8EF-4904B895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605F-D8CB-402E-BCC2-0FB81248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DF6F4-B9BE-42FD-8FC4-C0C639CA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45AA3-1EEE-4060-A989-2B9DBABF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439A7-28FA-491D-A1BA-A52B53EB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C8A8D-0813-4BCB-80F6-FA9A3F52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79E93-CAA0-4BBD-9473-88F4084C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7C33F-8B2D-4F67-9D83-553BDE0D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71FFE-6257-4AC9-A112-5408F699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853FD-8A58-4659-BD16-9596D8F68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06E-9AD3-41C9-B3A2-0AA8BC44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1DB60-BEE6-4358-B026-796AEBFD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3C1EF-A539-4100-9E05-9B27DC98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FA7BC-61DA-43A9-9CC7-60B126A0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AE061-B826-434D-A9EE-2F3C3C40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BE0A2-9003-47E2-BB23-FF11CDF4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1A487-A2C2-4082-AD81-4E2765E9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48BFB-CD55-4327-8F17-2574DF7D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4336-ACC1-43A5-81C5-FBFCEC6E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BACDC-3880-44DD-8259-C68C601E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C0FE2-3779-4C1F-8DF0-5669DD26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BF2-9332-4E95-88B2-1CF90BB9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D85F9-279F-4E70-BA38-7C571798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A59AE-336A-4203-A276-4F64453D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E9B8C-F6CF-4696-86A9-6C9011350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B3988-FC83-4B72-AC0A-E86610F5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DE10A-D3B1-47FD-9DCD-7A89702B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009CC-3042-4099-979E-0F675117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DACF9-2889-48C2-8530-1309990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7394B-611D-4C80-BD50-4DEBC506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BC48C-6084-44F7-B7BB-BBDCF90E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A346E-6F27-411A-9ED0-8E0CFF55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41D-C9D2-4B36-A33B-54412147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11AF5-ED54-4847-AE7B-E453F25F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6F28F-FA11-4756-ABB1-A5C88B5D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B7D61-3C08-4729-B61D-6CD91CAC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2C56D-5CBA-45B5-A34E-5BC0182E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F7F46-B27B-425F-A529-3BD87CF0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00A37-D5C2-432D-A9CC-406267E2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3C708D-CB41-4412-85F1-6B56644D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A9208-70B1-4367-8957-33D74936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E772B-18DB-45F8-8C5A-6523AD11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A5240-8E0F-4176-A009-BD79B244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07B-3B8F-4410-9293-710E4499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DA960-5453-4A32-AE70-F8430F15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F2024-0D9D-48B1-9E9A-582BB3D0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5F8A4-2182-47DF-838E-6C515AC8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9CAB6-2FF3-44E3-B2F1-81D869A8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75C92-C647-46BD-89E1-A25010E1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2A321-7B24-4B61-9DB9-B60ACEEA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40697-412C-439A-B701-CACCF5D5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7DD07-D3E8-430C-AB94-5A251FF5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83F96-36F8-4DDA-863C-50F0DE06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F799E-A8C9-4C88-8F02-B6A5B945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45.xml"/><Relationship Id="rId6" Type="http://schemas.openxmlformats.org/officeDocument/2006/relationships/slideLayout" Target="../slideLayouts/slideLayout446.xml"/><Relationship Id="rId7" Type="http://schemas.openxmlformats.org/officeDocument/2006/relationships/slideLayout" Target="../slideLayouts/slideLayout447.xml"/><Relationship Id="rId8" Type="http://schemas.openxmlformats.org/officeDocument/2006/relationships/slideLayout" Target="../slideLayouts/slideLayout448.xml"/><Relationship Id="rId9" Type="http://schemas.openxmlformats.org/officeDocument/2006/relationships/slideLayout" Target="../slideLayouts/slideLayout449.xml"/><Relationship Id="rId10" Type="http://schemas.openxmlformats.org/officeDocument/2006/relationships/slideLayout" Target="../slideLayouts/slideLayout450.xml"/><Relationship Id="rId11" Type="http://schemas.openxmlformats.org/officeDocument/2006/relationships/slideLayout" Target="../slideLayouts/slideLayout451.xml"/><Relationship Id="rId12" Type="http://schemas.openxmlformats.org/officeDocument/2006/relationships/slideLayout" Target="../slideLayouts/slideLayout452.xml"/><Relationship Id="rId13" Type="http://schemas.openxmlformats.org/officeDocument/2006/relationships/slideLayout" Target="../slideLayouts/slideLayout453.xml"/><Relationship Id="rId14" Type="http://schemas.openxmlformats.org/officeDocument/2006/relationships/slideLayout" Target="../slideLayouts/slideLayout454.xml"/><Relationship Id="rId15" Type="http://schemas.openxmlformats.org/officeDocument/2006/relationships/slideLayout" Target="../slideLayouts/slideLayout455.xml"/><Relationship Id="rId16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3.xml"/><Relationship Id="rId6" Type="http://schemas.openxmlformats.org/officeDocument/2006/relationships/slideLayout" Target="../slideLayouts/slideLayout494.xml"/><Relationship Id="rId7" Type="http://schemas.openxmlformats.org/officeDocument/2006/relationships/slideLayout" Target="../slideLayouts/slideLayout495.xml"/><Relationship Id="rId8" Type="http://schemas.openxmlformats.org/officeDocument/2006/relationships/slideLayout" Target="../slideLayouts/slideLayout496.xml"/><Relationship Id="rId9" Type="http://schemas.openxmlformats.org/officeDocument/2006/relationships/slideLayout" Target="../slideLayouts/slideLayout497.xml"/><Relationship Id="rId10" Type="http://schemas.openxmlformats.org/officeDocument/2006/relationships/slideLayout" Target="../slideLayouts/slideLayout498.xml"/><Relationship Id="rId11" Type="http://schemas.openxmlformats.org/officeDocument/2006/relationships/slideLayout" Target="../slideLayouts/slideLayout499.xml"/><Relationship Id="rId12" Type="http://schemas.openxmlformats.org/officeDocument/2006/relationships/slideLayout" Target="../slideLayouts/slideLayout500.xml"/><Relationship Id="rId13" Type="http://schemas.openxmlformats.org/officeDocument/2006/relationships/slideLayout" Target="../slideLayouts/slideLayout501.xml"/><Relationship Id="rId14" Type="http://schemas.openxmlformats.org/officeDocument/2006/relationships/slideLayout" Target="../slideLayouts/slideLayout502.xml"/><Relationship Id="rId15" Type="http://schemas.openxmlformats.org/officeDocument/2006/relationships/slideLayout" Target="../slideLayouts/slideLayout503.xml"/><Relationship Id="rId16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8D48-5C2B-402F-9DC0-216F5987DA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6913-EE21-42BC-9F1E-E4F09A9772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5783-47E3-4469-9E4E-3412E7858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65A2-9AEE-4CC6-B230-8F1E4A248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0E8B-E4BF-408A-A091-DF72486E49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6B6B-2481-408B-B379-D09749BBDD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F297-0C72-4CC1-AD88-32AAB1966B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289D-8217-4825-B7FE-241AADD525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428F-71CE-4307-B882-4F9F10AC37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287F-44FB-42E8-9D50-9B3BECF172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7BAB-AD98-4419-953F-0AF4713E81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1AD4-447C-4293-B65B-D026AC9CD3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60CC-4B22-4DCD-84B9-CE81AE62642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C2C0-0530-4DBD-9F48-3E9A7CD8B8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1457-E060-4595-B283-E0D548DCBB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B760-AC58-487B-99FC-0369EF9987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60E4-483F-4B63-A82C-F6F5022AC4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2411-C3F3-43AE-9233-8E0D356788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B93A-BBFC-4378-8D35-1454C919A18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B410-5D63-4F20-B5AA-6B8D2BF6CE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C28A-EFA7-4F01-ADCD-BD8B49BE90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162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165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6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67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10DE-2912-4400-A93D-12950328A8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8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659F-15F7-485F-BA61-BA6A75D45B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1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15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752C-3847-47E6-BC5F-3EF7D5E095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0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261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3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5F92-2326-4D7D-A6AF-B772B7AB50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7B4D-5EF9-4C4F-85B6-66D4B45496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4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77B5-0EF2-452E-BC11-728B33B267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0E3AC-8B80-4E91-8983-8076522F50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37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9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440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35B6-7244-476A-9C2D-3134322E18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485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7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1488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90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dt" idx="10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 type="ftr" idx="10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95BA-87CA-4889-8657-EFAD09F5DF7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3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3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 type="dt" idx="10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 type="ftr" idx="11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C708-5865-4B0A-B2A3-55F5D65151E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3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4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6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1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1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1D85-7955-461D-89F9-6F54B814AA5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5"/>
    <p:sldLayoutId id="2147484131" r:id="rId6"/>
    <p:sldLayoutId id="2147484132" r:id="rId7"/>
    <p:sldLayoutId id="2147484133" r:id="rId8"/>
    <p:sldLayoutId id="2147484134" r:id="rId9"/>
    <p:sldLayoutId id="2147484135" r:id="rId10"/>
    <p:sldLayoutId id="2147484136" r:id="rId11"/>
    <p:sldLayoutId id="2147484137" r:id="rId12"/>
    <p:sldLayoutId id="2147484138" r:id="rId13"/>
    <p:sldLayoutId id="2147484139" r:id="rId14"/>
    <p:sldLayoutId id="2147484140" r:id="rId15"/>
    <p:sldLayoutId id="2147484141" r:id="rId16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 type="dt" idx="11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 type="ftr" idx="11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8F11-68EA-4577-9C23-4F5ECF2AA97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3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EA2B-B37A-4939-863E-78EA80D7CEB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1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672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4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C845-90E4-4069-99A9-FBCEC8A2F6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12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12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9793-55DE-4C1C-9FF6-D6527C6199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76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76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EDFB-EE0D-42A7-8D7A-3310960000E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5"/>
    <p:sldLayoutId id="2147484183" r:id="rId6"/>
    <p:sldLayoutId id="2147484184" r:id="rId7"/>
    <p:sldLayoutId id="2147484185" r:id="rId8"/>
    <p:sldLayoutId id="2147484186" r:id="rId9"/>
    <p:sldLayoutId id="2147484187" r:id="rId10"/>
    <p:sldLayoutId id="2147484188" r:id="rId11"/>
    <p:sldLayoutId id="2147484189" r:id="rId12"/>
    <p:sldLayoutId id="2147484190" r:id="rId13"/>
    <p:sldLayoutId id="2147484191" r:id="rId14"/>
    <p:sldLayoutId id="2147484192" r:id="rId15"/>
    <p:sldLayoutId id="2147484193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533C-AB35-4B94-ADF2-E7D57541F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9488-745D-41A7-B2D7-93739596BE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8ED1-4547-434B-84C8-65A1D6DD4C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F875-4402-4560-AF6A-A2B491DEB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0585-5363-40A1-8736-12C9B9B6D5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500040" y="2858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ПЕДАГОГИЧЕСКИЕ УСЛОВИЯ ФОРМИРОВАНИЯ КУЛЬТУРЫ ЗДОРОВЬЯ ОБУЧАЮЩИХСЯ ВО ВНЕУРОЧНОЙ ДЕЯТЕЛЬНОСТИ ПО ФИЗИЧЕСКОМУ ВОСПИТА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Чедов Константин Васильевич</a:t>
            </a:r>
            <a:r>
              <a:rPr b="0" lang="ru-RU" sz="1800" spc="-1" strike="noStrike">
                <a:solidFill>
                  <a:srgbClr val="002060"/>
                </a:solidFill>
                <a:latin typeface="Arial Unicode MS"/>
                <a:ea typeface="Arial Unicode MS"/>
              </a:rPr>
              <a:t>, к.п.н., доцент кафедры физической культуры и спорта ФГБОУ ВО «Пермский государственный национальный исследовательский университет»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Культура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  <a:ea typeface="Calibri"/>
              </a:rPr>
              <a:t>- это часть общей культуры личности, включающая систему знаний о здоровье, методах самодиагностики психофизического состояния, компонентах здорового образа жизни; осознание личностной значимости ценности здоровья и здорового образа жизни как необходимости личностного саморазвития; способность сознательной выработки индивидуальной стратегии сбережения и развития здоровь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кольный спортивный клуб (ШСК)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 – это форма внеурочной деятельности общеобразовательной школы, ориентированная на формирование физической культуры личности, характеризующаяся физкультурно-спортивной и общественно значимой направленностью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ШСК может создаваться образовательными организациями в качестве их структурных подразделений или в виде общественных объединений, не являющихся юридическими лицами. Деятельность ШСК регламентируется Положением о ШСК, которое самостоятельно разрабатывает и утверждает образовательная организаци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Скругленный прямоугольник 1"/>
          <p:cNvSpPr/>
          <p:nvPr/>
        </p:nvSpPr>
        <p:spPr>
          <a:xfrm>
            <a:off x="611280" y="404640"/>
            <a:ext cx="8137440" cy="16560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Педагогические условия формирования культуры здоровья обучающихся в рамках функционирования школьного спортивного клуб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Скругленный прямоугольник 2"/>
          <p:cNvSpPr/>
          <p:nvPr/>
        </p:nvSpPr>
        <p:spPr>
          <a:xfrm>
            <a:off x="638280" y="2276640"/>
            <a:ext cx="8136000" cy="9792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1" name="Прямая со стрелкой 4"/>
          <p:cNvCxnSpPr>
            <a:stCxn id="1809" idx="1"/>
            <a:endCxn id="1809" idx="1"/>
          </p:cNvCxnSpPr>
          <p:nvPr/>
        </p:nvCxnSpPr>
        <p:spPr>
          <a:xfrm>
            <a:off x="610920" y="1233000"/>
            <a:ext cx="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2" name="Стрелка углом вверх 8"/>
          <p:cNvSpPr/>
          <p:nvPr/>
        </p:nvSpPr>
        <p:spPr>
          <a:xfrm>
            <a:off x="611280" y="1233360"/>
            <a:ext cx="46080" cy="44640"/>
          </a:xfrm>
          <a:custGeom>
            <a:avLst/>
            <a:gdLst/>
            <a:ahLst/>
            <a:rect l="l" t="t" r="r" b="b"/>
            <a:pathLst>
              <a:path w="46037" h="44450">
                <a:moveTo>
                  <a:pt x="0" y="-32198"/>
                </a:moveTo>
                <a:lnTo>
                  <a:pt x="29368" y="-32198"/>
                </a:lnTo>
                <a:lnTo>
                  <a:pt x="29368" y="11113"/>
                </a:lnTo>
                <a:lnTo>
                  <a:pt x="23812" y="11113"/>
                </a:lnTo>
                <a:lnTo>
                  <a:pt x="-30611" y="0"/>
                </a:lnTo>
                <a:lnTo>
                  <a:pt x="-19499" y="11113"/>
                </a:lnTo>
                <a:lnTo>
                  <a:pt x="-25055" y="11113"/>
                </a:lnTo>
                <a:lnTo>
                  <a:pt x="-25055" y="-21086"/>
                </a:lnTo>
                <a:lnTo>
                  <a:pt x="0" y="-21086"/>
                </a:lnTo>
                <a:lnTo>
                  <a:pt x="0" y="-3219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Соединительная линия уступом 11"/>
          <p:cNvCxnSpPr/>
          <p:nvPr/>
        </p:nvCxnSpPr>
        <p:spPr>
          <a:xfrm flipH="1" flipV="1" rot="10800000">
            <a:off x="599040" y="525240"/>
            <a:ext cx="27720" cy="4907520"/>
          </a:xfrm>
          <a:prstGeom prst="bentConnector3">
            <a:avLst>
              <a:gd name="adj1" fmla="val -877631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14" name="Прямая со стрелкой 15"/>
          <p:cNvCxnSpPr/>
          <p:nvPr/>
        </p:nvCxnSpPr>
        <p:spPr>
          <a:xfrm>
            <a:off x="371520" y="417636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15" name="Прямоугольник 28"/>
          <p:cNvSpPr/>
          <p:nvPr/>
        </p:nvSpPr>
        <p:spPr>
          <a:xfrm>
            <a:off x="644400" y="4834080"/>
            <a:ext cx="811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овышение профессиоальной компетентности педагогов в вопросах формирования культуры здоровья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Прямоугольник 29"/>
          <p:cNvSpPr/>
          <p:nvPr/>
        </p:nvSpPr>
        <p:spPr>
          <a:xfrm>
            <a:off x="611280" y="5722920"/>
            <a:ext cx="811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Разработка и реализация индивидуальных программ сбережения и развит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Скругленный прямоугольник 24"/>
          <p:cNvSpPr/>
          <p:nvPr/>
        </p:nvSpPr>
        <p:spPr>
          <a:xfrm>
            <a:off x="657360" y="3686040"/>
            <a:ext cx="813564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Проектирование индивидуальных программ сбережения и укрепления здоровья обучаю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27"/>
          <p:cNvSpPr/>
          <p:nvPr/>
        </p:nvSpPr>
        <p:spPr>
          <a:xfrm>
            <a:off x="635040" y="4941720"/>
            <a:ext cx="8136000" cy="979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Calibri"/>
              </a:rPr>
              <a:t>Обеспечение взаимодействия всех субъектов учебно-воспитательной деятель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9" name="Прямая со стрелкой 31"/>
          <p:cNvCxnSpPr/>
          <p:nvPr/>
        </p:nvCxnSpPr>
        <p:spPr>
          <a:xfrm>
            <a:off x="371520" y="2784240"/>
            <a:ext cx="286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Реализация комплекса мероприятий, направленного на формирование у школьников представлений об эталонном здоровом образе жизн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смотр мультфильмов, тематических видеоматериалов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Обсуждение примеров известных людей прошлого и современности, обладающих высоким уровнем культуры здоровья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Calibri"/>
              </a:rPr>
              <a:t>Проведение рефлексии с целью выявления мотивов поведения рассматриваемых персон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 txBox="1"/>
          <p:nvPr/>
        </p:nvSpPr>
        <p:spPr>
          <a:xfrm>
            <a:off x="285840" y="49968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Проектирование индивидуальных программ сбережения и укрепления здоровья обучающихся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just">
              <a:lnSpc>
                <a:spcPct val="150000"/>
              </a:lnSpc>
              <a:spcBef>
                <a:spcPts val="4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Индивидуальная программа сбережения и развития здоровья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Calibri"/>
              </a:rPr>
              <a:t>– это составная часть индивидуальной образовательной программы, комплексно описывающая деятельность по сбережению и развитию здоровья, содержащая индивидуальные цели, этапы и способы их достижения, результаты, анализ и оценку результатов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"/>
          <p:cNvSpPr txBox="1"/>
          <p:nvPr/>
        </p:nvSpPr>
        <p:spPr>
          <a:xfrm>
            <a:off x="395280" y="83664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 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1. Анализ индивидуального опыта здорового образа жиз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2. Индивидуальная карта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3. Цель и задачи деятельности по сбережению и укреплению здоровь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"/>
          <p:cNvSpPr txBox="1"/>
          <p:nvPr/>
        </p:nvSpPr>
        <p:spPr>
          <a:xfrm>
            <a:off x="395280" y="18864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  <a:ea typeface="Calibri"/>
              </a:rPr>
              <a:t>Структура и содержание индивидуальной программы сбережения и укрепленияздоровья обучаю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4. Индивидуальный план деятельности по сбережению и укреплениюздоровь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индивидуальный план двигательной актив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закаливания, дыхательной гимнастики, отказа от вредных привычек и др.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лан рефлексивных ситуаций (мероприятий), в том числе представление индивидуальной программы сбережения и развития здоровья, достигнутых результа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5. Оценка эффективности реализации индивидуальной программы сбереж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19" descr=""/>
          <p:cNvPicPr/>
          <p:nvPr/>
        </p:nvPicPr>
        <p:blipFill>
          <a:blip r:embed="rId1"/>
          <a:srcRect l="24215" t="30963" r="18744" b="14575"/>
          <a:stretch/>
        </p:blipFill>
        <p:spPr>
          <a:xfrm>
            <a:off x="1547640" y="1484280"/>
            <a:ext cx="6048720" cy="3889440"/>
          </a:xfrm>
          <a:prstGeom prst="rect">
            <a:avLst/>
          </a:prstGeom>
          <a:ln w="0">
            <a:noFill/>
          </a:ln>
        </p:spPr>
      </p:pic>
      <p:sp>
        <p:nvSpPr>
          <p:cNvPr id="1825" name="Прямоугольник 18"/>
          <p:cNvSpPr/>
          <p:nvPr/>
        </p:nvSpPr>
        <p:spPr>
          <a:xfrm>
            <a:off x="755640" y="4762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беспечение взаимодействия всех субъектов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учебно-воспитательной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  <a:ea typeface="Times New Roman"/>
              </a:rPr>
              <a:t> деятельности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8:55:57Z</dcterms:created>
  <dc:creator>Venera</dc:creator>
  <dc:description/>
  <dc:language>en-US</dc:language>
  <cp:lastModifiedBy>Пользователь Windows</cp:lastModifiedBy>
  <dcterms:modified xsi:type="dcterms:W3CDTF">2019-11-16T07:53:27Z</dcterms:modified>
  <cp:revision>178</cp:revision>
  <dc:subject/>
  <dc:title>Слайд 1</dc:title>
</cp:coreProperties>
</file>