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B61B-C11A-4570-92FF-FBF479B8B9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CA66-66C2-49F8-8E98-BEE9B41D13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6D64-70F8-438F-9662-FA977253CD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8F71-B07A-42C8-A29A-877BC424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8AD-D1B0-40D4-ADB4-307823A8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6D6-38F1-4552-9638-DA9EFEA9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FBD9-9448-41B8-9715-650E37EE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B55E-ECE4-4A68-8B2D-BF5982C34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B6E2-5F78-4E90-80E9-0BF21311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0B44-C256-424B-BD33-AE881C09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0AF4-CFA3-463E-9F68-61B2C62B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A6DE-77E2-408E-A854-95BA68A1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43F9-7EAE-4490-9234-F5F36009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A24C-202B-46C7-BC77-D9241CCB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E050-8D57-4ACC-84A2-D89BFF5E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0960-A4E9-4059-A9CF-F7B45923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A1C6-2E2D-4504-BA9C-645C5911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649E-CA7B-4FCB-9A3E-027B1117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7B4D-36E4-40BD-9C16-023EF9F8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B29B-866A-468A-8C0D-8299415F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0745-08D5-4E0B-A8EC-50253566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960E6-BE5B-4AAA-ACF1-1368378E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4B007-3657-45B9-A98D-C12FB37C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01E94-58C2-48FC-B84B-129B960C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BC9C-F8D4-4A90-AFEC-14FF2FFF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1311-5540-4A33-9F98-513327AB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417FA-4CF6-4DC0-9C39-13B5584D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5B4B-AC26-4C95-A435-9A8D6BA5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EE565-35DC-4CFB-B8E7-E4082FF6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9DB7-E4E1-491C-A2AC-70C12AFF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92499-9065-499B-B4E6-C95F104E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B193B-720E-4EB2-8833-3207378D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133DD-B045-441D-9597-6FF86239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88463-9F82-4596-BA83-3F887C3C7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9D249-7F23-45A2-84D0-EEE690FC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9932A-1461-4362-B4B2-4E9EAFEE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9B17-2301-4719-8398-FAC2D0FE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DB381-1FC2-428E-A00C-F195A70D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14F8-E6FE-41CD-8DE7-64811C08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4EC30-D9A4-48F9-8334-54246ABB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84D1E-FAB7-4B63-9671-8F7DA51A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009A0-9B2A-442A-B53C-4DE36B6D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62852-F6F1-4864-B2DD-630CE4FF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79389-1359-47FD-9A9E-F2270C2D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34C7E-11C2-4647-870D-4FD4267D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A1DE-0E39-480A-9B87-4F53C9BD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C9B4B-5901-4F7B-8F61-561A8C945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BE4-2C97-42CE-A33D-F22DAF7A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C58B3-ED3E-456F-AD61-5FDAC238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D4C8A-4EC4-4599-B0AB-75D42A47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DA765-F51D-46EF-8989-D3D15BA8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D923A-B701-4AD3-A557-C499D46E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09089-0F95-4177-AA39-C066F5A0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989AB-A577-47D6-91A4-69050A51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C411F-A455-42BC-9C3E-B78F042F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9FFCC-1458-4A87-82BB-727EF34A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7A887-9CB3-4B7F-BD63-2DC8ECB1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3DBBB-9B33-4E07-B122-88F5ECE5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B71-E4E5-43C3-BF00-F1B31965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6FD9A-20ED-4E1B-BA39-7B7921BF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A5B9-6338-434E-85A8-0A8A5784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796-BEB9-482A-9146-AFAFFC94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AE6-F6FE-49DE-AB57-983CDBA4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8EC2-96A6-4686-9BCD-B14A363A7B4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6272-0781-4396-84A3-F5C2D122693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D4D3-69E9-4366-9E2C-C8280061C249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03B6-6BE1-4994-B9DC-E7B43C128D3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9714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В.А.Власенко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400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06B8-66DF-4950-81A8-236CCFED8B6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23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озможности физической культуры как средства повышения моральной и психологической устойчивости  к экзаменационным испытаниям</a:t>
            </a:r>
            <a:br>
              <a:rPr sz="4000"/>
            </a:br>
            <a:r>
              <a:rPr b="1" lang="en-US" sz="1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ОПЫТА РАБОТЫ ПО ПРИМЕНЕНИЮ ФОРМИРУЮЩЕГО ОЦЕНИВАНИЯ)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4797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утагарова Люция Рифовна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111600" indent="-11160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АОУ «Гимназия № 33» г. Перм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Цель формирующей оценки - способствовать улучшению результатов каждого отдельно взятого ученика</a:t>
            </a:r>
            <a:r>
              <a:rPr b="0" lang="ru-RU" sz="48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ожидаемые результаты формирующего оценивания: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52440" y="1339920"/>
          <a:ext cx="8510400" cy="5227560"/>
        </p:xfrm>
        <a:graphic>
          <a:graphicData uri="http://schemas.openxmlformats.org/drawingml/2006/table">
            <a:tbl>
              <a:tblPr/>
              <a:tblGrid>
                <a:gridCol w="3003480"/>
                <a:gridCol w="550692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ть потребности уче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 по теме, субъектного опы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 интереса к т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твращение неправильного понимания во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ощрить саморегуляцию и 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ивание навыков к самостоятельной работе и сотрудничеству для использования разнообразных ресурсов и инстр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ить мониторинг прогр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и самоопределение учащимися слабых сторон, подтверждение сильных и обеспечение более глубокого пони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ить понимание и поощрить метапозн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применению знаний в новой ситуации, обобщению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Ebrima"/>
              </a:rPr>
              <a:t>Что такое формирующее оценивание или оценивание для обучения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914400" y="2428920"/>
            <a:ext cx="777240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ценивание это больше, чем маркиров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ценивание — это обратная связь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ценивание направляет 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для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учающихс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14400" y="221436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учиться на ошибках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важно;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понять, что у них получаетс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знают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омогать обнаруживать, что они не умеют дела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55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позволяет </a:t>
            </a:r>
            <a:r>
              <a:rPr b="0" lang="ru-RU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ителю</a:t>
            </a:r>
            <a:r>
              <a:rPr b="0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2285640"/>
            <a:ext cx="7772400" cy="40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ко сформулировать образовательный результат, подлежащий формированию и оценке в каждом конкретном случае, и организовать в соответствии с этим свою работу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b5edfd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учащегося субъектом образовательной и оценочной деятельност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и формирующего оценивания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 (минутный) обз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-обзор (проводится в конце урока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Что изучали? Назовите тему урока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 какими заданиями ты справлялся без помощи учителя, одноклассника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е наиболее важное в этом уроке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Что вызвало трудности, осталось неясным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Что хотелось бы узнать по теме дополнительн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Что у меня получилось лучше всего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Что мне необходимо усовершенствовать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Тема урока</a:t>
            </a: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Развитие силовых качеств. Подготовка к сдаче норм ГТО испытания «Сгибание-разгибание рук в упоре лежа»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5280" y="1341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контрольно-оценочную деятельность по выявлению точечных затруднений при выполнении техники  через работу в парах и  анализ видеозаписи собственного выполнения технического действия (обязательный норматив  «Сгибание-разгибание рук в упоре лежа»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пределить критерии оценивания выполнения  техники норматива ГТО  - «Сгибание-разгибание рук в упоре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аполнить таблицу самооценки  выполнения техники  выполнении сгибания и разгибания рук в упоре лежа («Отжимания») по выработанным критериям, применяя личные гаджеты,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, для устранения ошибок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нают контрольные точки техники «Отжимания», безопасного для здоровь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Фиксируют контрольные точки у партнера при работе в парах  и определяют свои затруднения при просмотре видеозаписи собственного выполнения приседани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меют объективно оценивать, по выработанным критериям, технику «отжимани», безопасного для здоровья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12760" indent="-212760"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Таблица самооценки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rcRect l="11109" t="28110" r="32367" b="14444"/>
          <a:stretch/>
        </p:blipFill>
        <p:spPr>
          <a:xfrm>
            <a:off x="826920" y="2060640"/>
            <a:ext cx="774072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rcRect l="26163" t="34218" r="25804" b="39724"/>
          <a:stretch/>
        </p:blipFill>
        <p:spPr>
          <a:xfrm>
            <a:off x="250920" y="620640"/>
            <a:ext cx="8497800" cy="2592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" descr=""/>
          <p:cNvPicPr/>
          <p:nvPr/>
        </p:nvPicPr>
        <p:blipFill>
          <a:blip r:embed="rId2"/>
          <a:srcRect l="24174" t="27470" r="23253" b="34798"/>
          <a:stretch/>
        </p:blipFill>
        <p:spPr>
          <a:xfrm>
            <a:off x="73080" y="2997360"/>
            <a:ext cx="9070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сихологическая устойчивость — это личностная черта, которая во многом определяет, насколько эффективно мы справляемся с проблемами, стрессами и давлением, независимо от обстоятель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тресс - состояние сильного и длительного психологического напряжения, которое возникает у человека, когда его нервная система получает эмоциональную перегрузк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Развитие Физических качеств. Подготовка к сдаче норм ГТО норматив «Поднимание туловища из положения лежа»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2400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Цель урока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ителя    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рганизовать познавательную  деятельность по выявлению точечных затруднений при выполнении норматива 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ля учащихся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явить затруднения в выполнении норматива ГТО по силовой подготовке «Поднимание туловища из положения лежа»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ить группу упражнений, направленных на подготовку учащихся к выполнению норматива ГТО по силовой подготовке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Прогнозируемый результат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конце урока учащиеся при выполнении различных упражнений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ыделяют группы мышц, которые задействовано в данном упражнении на станции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 основе работы мышечных групп выделяют 3 вида упражнений, при систематическом выполнении которых смогут подготовиться к результативной сдаче норм ГТ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7 станций. Работа в группах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12185" t="27470" r="21410" b="8548"/>
          <a:stretch/>
        </p:blipFill>
        <p:spPr>
          <a:xfrm>
            <a:off x="250920" y="1700280"/>
            <a:ext cx="8508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rcRect l="35244" t="20910" r="36166" b="10192"/>
          <a:stretch/>
        </p:blipFill>
        <p:spPr>
          <a:xfrm>
            <a:off x="2340000" y="333360"/>
            <a:ext cx="45356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28400" y="1784520"/>
            <a:ext cx="82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ценивается не только результат, но и процесс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Носит системный характе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страивается в личностно-ориентированное обучени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Ориентировано на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слеживается прогресс каждого обучающего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Ориентировано на формирование личностных и метапредметных умени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амятка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Ebrima"/>
              </a:rPr>
              <a:t>по применению формирующего оценивания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1.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м п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роцесс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2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ение отметки и оценивани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– разные вещи!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3. В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ыставляя своему ученику отметку  за работу на уроке или в четверт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: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ценивае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м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его работу по определенным критериям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знаком с теми критериями, по которым его оценивают (причем они доступны для его понимания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 процессе работы сам пытается оценить качество своей работы, сверяясь с этими критериями и получая  комментарии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учителя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ученик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идит, где конкретно он пока не достиг нужного результата и корректирует свою деятельность,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т.е.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ищ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ет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пути 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коррекции 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выявленны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х</a:t>
            </a:r>
            <a:r>
              <a:rPr b="1" lang="et-EE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 недостатк</a:t>
            </a:r>
            <a:r>
              <a:rPr b="1" lang="ru-RU" sz="20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о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На психологическом и поведенческом уровнях занятия ФК полезны и могут способствовать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рганизации и упорядочиванию ак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иведению действий и мыслей в порядо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лучению ощущения контроля над ситуацией, дефицит которого испытывает человек во время стресс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овышению самооценки и уверенности в себ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Занятия спортом могут приносить радость и удовлетворение от достижения даже небольших результатов             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Повышение самооценки и уверенности в себе</a:t>
            </a:r>
            <a:br>
              <a:rPr sz="2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 у Вас  в работе  проблемы в оценивании обучающихся на уроках ФК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ли Да, то как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технология оценивания может повлиять на повышение самооценки и уверенность в себ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сть ли проблемы в работе со старшеклассницами и старшеклассниками? Кака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059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ы оценочной деятельности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14400" y="157140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бъективизм школьной отметк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недостаточная разработанность критериев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существующая система оценивания отражает </a:t>
            </a:r>
            <a:r>
              <a:rPr b="0" i="1" lang="ru-RU" sz="2700" spc="-1" strike="noStrike">
                <a:solidFill>
                  <a:srgbClr val="ff0000"/>
                </a:solidFill>
                <a:latin typeface="Times New Roman"/>
                <a:ea typeface="Verdana"/>
              </a:rPr>
              <a:t>результат развития физических качеств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, а не процесс их усвое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При оценивании техники двигательных действий зачастую ставим отметки не выделяя критерии оценивания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Verdana"/>
              </a:rPr>
              <a:t>отсутствие в отметке конструктивной информации о том, что именно является причиной низкого или высокого бал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кции оценива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68360" y="227664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ующ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эффектив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адекватной самооценк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мотив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межличностных отношения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Times New Roman"/>
                <a:ea typeface="Ebrima"/>
              </a:rPr>
              <a:t>Зачем мы оцениваем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Чтобы выяснить,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b5395"/>
                </a:solidFill>
                <a:latin typeface="Times New Roman"/>
                <a:ea typeface="Times New Roman"/>
              </a:rPr>
              <a:t>достигнуты ли поставленные учебные цел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гут ли быть разные цели у учащихся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105264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ирующее оценивание – это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8920" y="155700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ующее (внутреннее) оценивание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о на определение индивидуальных достижений каждого учащегося и не предполагает как сравнения результатов, продемонстрированных разными учащимися, так и административных выводов по результатам обучения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b5edf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ющим данный вид оценивания называется потому, что оценка ориентирована на конкретного ученика, призвана выявить пробелы в освоении учащимся элемента содержания образования с тем, чтобы восполнить их с максимальной эффективностью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206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имущества критериального подхода к оцениванию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2349360"/>
            <a:ext cx="7772400" cy="42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тревожност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о требов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сть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ение достижений учащихся с эталоном;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тветственности учащихся за результат своего труда;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самооценки, самоанализа, самоконтроля учащих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00:14:57Z</dcterms:created>
  <dc:creator>TATJANA</dc:creator>
  <dc:description/>
  <dc:language>en-US</dc:language>
  <cp:lastModifiedBy>Ljadova-NV</cp:lastModifiedBy>
  <dcterms:modified xsi:type="dcterms:W3CDTF">2019-11-18T06:51:39Z</dcterms:modified>
  <cp:revision>27</cp:revision>
  <dc:subject/>
  <dc:title>Педагогический совет по теме:  «Технология формирующего оценивания»  12.02.2015 г. МОУ СОШ №19  г. Комсомольск -  на - Амуре</dc:title>
</cp:coreProperties>
</file>