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C59-8B08-4AC1-A817-D00E216B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C94-F119-4841-BC2E-EEBCC9FD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E30-F8F3-4432-AE2D-23CF1DAE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96F-6CC0-4803-A344-D07E3A5C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D9D3-3FAE-4916-B636-3EA2C12A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EBB3-A8B4-43CF-A3F3-FC49B3C7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89B9-2B38-4CC4-A2E1-C03D51DC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BBA9-3CD4-4D8F-8364-A98836B7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C89F-CBDC-45EE-BCE8-C6487C34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F711-3C6F-426A-8BE4-A85BFF79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EAC-1971-4966-A744-803328A0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C2BA-A979-42A2-8878-F419209D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565A-30BF-4D6A-B4F1-8460165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6594-909F-49AD-83BF-6565CE6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68FC-8503-4EFE-8796-3052FBE8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FD0D-BF3E-4ECF-8829-FAB7290A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86BD-0CB2-4005-BBE4-73E85976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E911-52B4-46B6-9900-8E3A09B3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4350-268F-436B-9B82-E742069B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E84D-564B-4897-9ED5-22490D95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C777-61A8-4B68-9F35-EA515188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50159-36FC-4717-A18F-0E0BF970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530-1A07-4212-B733-B735D3F4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AD5B-8EBE-4DC8-BE08-88D62C1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1AFD-E012-4E87-9CE2-5A5EF7B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3B8D9-7BD6-4CC2-9703-9011E88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6A27-54DB-4392-A3D5-D6DEB72A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744E-D910-4A1F-BAA6-FC0CF280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3430-69EE-4F1C-A5FB-D219FFF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4B3C5-8370-4102-AE90-211E1BED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39A-8F2B-4A87-9543-1FC72AA2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56D-12F8-418E-AD00-3337B0DA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2F5B-FAF4-4087-99B8-5741EF1E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25CC-A89C-41FC-82EC-C963F673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4BD-48E7-4AC4-88EE-F124885B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ADF-DF71-496E-A000-7862AC81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DBD-6ABD-4C77-99FC-B724DA4A94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4DCD-B268-446C-B3C3-52EC7846B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" name="Group 15"/>
              <p:cNvGrpSpPr/>
              <p:nvPr/>
            </p:nvGrpSpPr>
            <p:grpSpPr>
              <a:xfrm>
                <a:off x="852480" y="4053960"/>
                <a:ext cx="1833480" cy="1664640"/>
                <a:chOff x="852480" y="4053960"/>
                <a:chExt cx="1833480" cy="1664640"/>
              </a:xfrm>
            </p:grpSpPr>
            <p:sp>
              <p:nvSpPr>
                <p:cNvPr id="96" name="Freeform 16"/>
                <p:cNvSpPr/>
                <p:nvPr/>
              </p:nvSpPr>
              <p:spPr>
                <a:xfrm flipH="1" rot="7102800">
                  <a:off x="1266840" y="3941280"/>
                  <a:ext cx="476640" cy="12268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7"/>
                <p:cNvSpPr/>
                <p:nvPr/>
              </p:nvSpPr>
              <p:spPr>
                <a:xfrm flipH="1" rot="7102800">
                  <a:off x="2336760" y="4975920"/>
                  <a:ext cx="109440" cy="50364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9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0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F699-CA07-47A3-B7CE-6C95102275F7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iro.perm.ru/catalog.html?cid=9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www.educomm.iro.perm.ru/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ucomm.iro.perm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hyperlink" Target="http://educomm.iro.perm.ru/" TargetMode="External"/><Relationship Id="rId4" Type="http://schemas.openxmlformats.org/officeDocument/2006/relationships/hyperlink" Target="http://educomm.iro.perm.ru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425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одель использования комплексных мер для сохранения и укрепления здоровья обучающихся и педагогов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 условиях подготовки </a:t>
            </a:r>
            <a:br>
              <a:rPr sz="2800"/>
            </a:b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к итоговой аттестации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50920" y="3141360"/>
            <a:ext cx="8640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Лядова Наталья Владимиров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руководитель сетевого сооб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учителей ФК Пермского кр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в рамках выполнения краевого проек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«Образовательный лифт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.м.н., вед.научн.сотрудник ГАУ ДПО «ИРО П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201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2732040"/>
                <a:gridCol w="6411960"/>
              </a:tblGrid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Управлен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рациональная организация учебной и внеучебной деятельности обучающихся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проблемной группы по разработке и реализации программы содействия здоровью выпускников и педагогов, готовящих учеников к сдаче ГИ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анкетирования учеников и учителей ФК (Анкеты 1, 2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, обеспечение и контрол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остроения уроков физкультуры на основе системно-деятельностного и здоровьесберегающих подходов, обеспечения субъектности ученик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ционального построения расписания относительно уроков физической культур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тбора содержания обучения, соответствующего интересам обучающихся выпускных классов, традициям школы, а также новым популярным среди подростков, молодежи видов двигательной активности, игр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блюдения требований СанПиН к физической нагрузке, моторной плотности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создания и поддержания благоприятного психологического климата на уроках физкультуры, во внеурочных занятиях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оценивания учебных достижений на основе системы  формирующего критериального оценива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ts val="1925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организации мониторинговых исследований состояния здоровья школьников 9-х, 11-х классов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44280"/>
          <a:ext cx="9144000" cy="6624720"/>
        </p:xfrm>
        <a:graphic>
          <a:graphicData uri="http://schemas.openxmlformats.org/drawingml/2006/table">
            <a:tbl>
              <a:tblPr/>
              <a:tblGrid>
                <a:gridCol w="2054160"/>
                <a:gridCol w="70898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эффективная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изкультурно-оздоровительной работы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оптимальной двигательной активности обучающихся  выпускных классов в режиме учебного дня, на уроках физкультуры, во внеурочной и досуговой деятельности за счет физкультминуток на уроках, двигательной организации перемен, занятий в спортивных секциях/кружках, самостоятельных занятиях физическими упражнениям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учителям-предметникам в разработке и организации проведения физкультминуток для старшеклассников.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занятий физкультурой с обучающимися, отнесенными к специальной медицинской группе (СМГ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ение договоренности со специалистами школы (медработником, психологом, социальным педагогом, приглашенным специалистом) по осуществлению оздоровительно-профилактических мероприятий (организация закаливания, работа фитобара, витамино- и аромопрофилактика, ионизация воздуха (люстра Чижевского), точечный самомассаж, дыхательная гимнастика, релаксационные упражнения  и др., предоставление физиотерапевтических услуг при наличии оборудования и специалиста)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выпускникам и педагогам выпускных классов посещать спортивный зал в вечернее время для самостоятельных или организованных занятий физическими упражнениями, для подготовки к выполнению нормативов (испытаний) комплекса ГТО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476280"/>
          <a:ext cx="8229600" cy="4003560"/>
        </p:xfrm>
        <a:graphic>
          <a:graphicData uri="http://schemas.openxmlformats.org/drawingml/2006/table">
            <a:tbl>
              <a:tblPr/>
              <a:tblGrid>
                <a:gridCol w="1090440"/>
                <a:gridCol w="7139160"/>
              </a:tblGrid>
              <a:tr h="40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оставление возможности посещать бассейн, тир, тренажерный зал для подготовки к выполнению нормативов (испытаний) комплекса ГТО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работы школьного спортивного клуба, спортивных секций, кружков, групп здоровья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и проведение спортивных праздников, Дней здоровья, соревнований, в т.ч. по выполнению нормативов (испытаний) комплекса ГТО, олимпиад, походов и т.п. в соответствии с планом работы учи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влечение выпускников 9-х, 11-х классов в физкультурно-оздоровительные занятия и объединения по тематике ЗОЖ в рамках дополнительных образовательных программ и во внеурочной деятельности, в волонтерское движение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оздоровления выпускников 9-х, 11-х классов в каникулярное время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124000"/>
                <a:gridCol w="702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в т.ч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программ для обучающихся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тематического планирования по включению здоровьесберегающего содержания в содержание учебного предмета «Физическая культура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уроков ФК на основе системно-деятельностного подхода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уществление в ходе уроков ФК и внеурочной деятельности формирования знаний, умений, компетенций в сфере ведения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омощи классным руководителям старших классов в разработке сценариев и проведении классных часов по тематике здорового и безопасного, спортивного образа жизни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сценариев Дней здоровья, составление Положений о спортивных праздниках, проведение их 2-4 раза в год с учениками выпускных классов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и реализация программы внеурочной деятельности по спортивно-оздоровительному направлению.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0"/>
          <a:ext cx="9144000" cy="716112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Образо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(просветительская и организацион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d60093"/>
                          </a:solidFill>
                          <a:latin typeface="Arial"/>
                        </a:rPr>
                        <a:t>с родителями, педагога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разработке планов и проведении родительских собраний по теме здорового и безопасного образа жизни, подготовки к сдаче ОГЭ,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(законными представителями) разработка программы постоянно действующего семинара для родителей «Здоровье наших детей – условие успешного обучения» и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местная с родителями разработка и реализация программы «Родительские инициативы в сохранении здоровья учеников выпускных классов, в т.ч. во время подготовки к сдаче экзаменов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лечение родителей к совместной работе по проведению оздоровительных мероприятий и спортивных соревновани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я эффективного взаимодействия школы (учителя) с родителями для совместного обсуждения и решения вопросов сохранения и укрепления здоровья детей, участия семьи в физкультурно-оздоровительных мероприятиях, психолого-педагогических тренингах, практико-ориентированных проектах здорового образа жизн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еречня рекомендаций, памяток по организации образа жизни, адекватного здоровому, для обучающихся-выпускников и педагогов-предметников, работающих в выпускных класс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библиотечки подросткового здоровья, доступной для родителей и педагогов и т.п.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362320"/>
                <a:gridCol w="6781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Диагнос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Исследователь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критериев оценки качества воспитательного процесса в части формирования ЗОЖ у выпускников 9-х, 11-х класс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анкет, отбор диагностических метод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бор, разработка тестов, анкет для оценки сформированности знаний и ответственного отношения к здоровью у выпускни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схемы проведения мониторинга соблюдения обучающимися режимных моментов, правил здорового образа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эффективности реализации программы (модел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ектов по решению проблем обучения, преподавания, вос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0"/>
          <a:ext cx="9144000" cy="6442200"/>
        </p:xfrm>
        <a:graphic>
          <a:graphicData uri="http://schemas.openxmlformats.org/drawingml/2006/table">
            <a:tbl>
              <a:tblPr/>
              <a:tblGrid>
                <a:gridCol w="2268360"/>
                <a:gridCol w="6875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нсультацио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дение консультирования учеников, родителей, педагогов по вопросам, связанным с сохранением здоровья средствами физкультуры, организацией режима дня в период подготовки и сдачи экзамен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е психолого-педагогической помощи родителям, чьи дети оказались в сложных жизненных ситуациях (в пределах своей компетенции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йствие в организации социально-психологической, медико-профилактической помощи семье, детям, нуждающимся в поддерж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c3300"/>
                </a:solidFill>
                <a:latin typeface="Arial"/>
              </a:rPr>
              <a:t>План проведения мероприятий по разработке и апробации программы (модели) в школе на 2019-2020 уч.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50920" y="1600200"/>
          <a:ext cx="8785080" cy="4525920"/>
        </p:xfrm>
        <a:graphic>
          <a:graphicData uri="http://schemas.openxmlformats.org/drawingml/2006/table">
            <a:tbl>
              <a:tblPr/>
              <a:tblGrid>
                <a:gridCol w="1008000"/>
                <a:gridCol w="2737080"/>
                <a:gridCol w="1584000"/>
                <a:gridCol w="1584360"/>
                <a:gridCol w="18716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ств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ч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 рамках дальнейшей реализации проекта «Образовательный лифт»  планируется </a:t>
            </a:r>
            <a:r>
              <a:rPr b="1" lang="ru-RU" sz="3200" spc="-1" strike="noStrike">
                <a:solidFill>
                  <a:srgbClr val="008080"/>
                </a:solidFill>
                <a:latin typeface="Arial"/>
              </a:rPr>
              <a:t>проведение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еб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семинар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онсультирование участников проек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заимодействие через «Сетевое сообщество педагогов ПК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ages (6)"/>
          <p:cNvPicPr/>
          <p:nvPr/>
        </p:nvPicPr>
        <p:blipFill>
          <a:blip r:embed="rId1"/>
          <a:stretch/>
        </p:blipFill>
        <p:spPr>
          <a:xfrm>
            <a:off x="3276720" y="2981160"/>
            <a:ext cx="259056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83920"/>
            <a:ext cx="9036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://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ro.perm.ru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тевое сообщество педагогов Пермского края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ducomm.iro.perm.ru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разовательный лифт», «Учитель здоров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logo2"/>
          <p:cNvPicPr/>
          <p:nvPr/>
        </p:nvPicPr>
        <p:blipFill>
          <a:blip r:embed="rId10"/>
          <a:stretch/>
        </p:blipFill>
        <p:spPr>
          <a:xfrm>
            <a:off x="826920" y="189000"/>
            <a:ext cx="18288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-366840"/>
            <a:ext cx="824400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-360"/>
            <a:ext cx="9036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Каждый человек должен уметь относиться к любым изменениям в жизни как к новым возможностям, вызову судьбы или уроку, но не как к угрозе сложившемуся порядку.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Verdana"/>
              </a:rPr>
              <a:t>Способы преодоления стресс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Анализ ситуации и выработка плана действи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Эффективные копинг-стратеги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Физическая активность, двигательная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азряд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ыхательные практик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Методы релаксации (расслабления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оигрывание стрессовых ситуаций заранее в голове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Управление эмоциями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ttp://www.psychologos.ru/articles/view/kak_upravlyat_svoimi_emociyami_vop_zn_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твлекающая деятельность, переключение на другой вид деятельности, хобб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F:\USERS\МАМА\Мои рисунки\Стресс\i (8).jpg"/>
          <p:cNvPicPr/>
          <p:nvPr/>
        </p:nvPicPr>
        <p:blipFill>
          <a:blip r:embed="rId1"/>
          <a:stretch/>
        </p:blipFill>
        <p:spPr>
          <a:xfrm>
            <a:off x="6732720" y="242100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763272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Verdana"/>
              </a:rPr>
              <a:t>Некоторые рекомендации педагогам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Здоровый образ жизни: режим дня, питания, физических упражнений и сна. Полезная пища и отказ от интоксикантов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Излечение болезней или хотя бы некоторое продвижение на этом пути.</a:t>
            </a:r>
            <a:br>
              <a:rPr sz="16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релаксационной медитации для сняти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мышечных зажим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актика восточных дисциплин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йога, тай-цзи цюань, цигун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ознавание дыхания и мягкие попытки направить его в правильное русло: дыхание носом, а не ртом, выдох длиннее вдоха и т.д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Жизнь в гармонии с природой и частое пребывание на свежем воздухе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одоление склонности к негативным эмоциям. Для этого можно использовать различные психологические и духовные практик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Эмоциональная открытость и позитивное взаимодействие с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рекращение общения с негативными людьми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Развитие в себе любви ко всему сущему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Остановка ненужных и негативных мысле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6699"/>
                </a:solidFill>
                <a:latin typeface="Verdana"/>
              </a:rPr>
              <a:t>- Понимание, что каждая мысль тянет за собой последствия.</a:t>
            </a:r>
            <a:br>
              <a:rPr sz="1600"/>
            </a:br>
            <a:br>
              <a:rPr sz="1200"/>
            </a:b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3" name="Picture 5" descr="UT0Uc5ArTuQ"/>
          <p:cNvPicPr/>
          <p:nvPr/>
        </p:nvPicPr>
        <p:blipFill>
          <a:blip r:embed="rId1"/>
          <a:stretch/>
        </p:blipFill>
        <p:spPr>
          <a:xfrm>
            <a:off x="6084720" y="1844640"/>
            <a:ext cx="226080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F:\USERS\МАМА\Мои рисунки\Стресс\Njz-fdhC8Ts.jpg"/>
          <p:cNvPicPr/>
          <p:nvPr/>
        </p:nvPicPr>
        <p:blipFill>
          <a:blip r:embed="rId2"/>
          <a:stretch/>
        </p:blipFill>
        <p:spPr>
          <a:xfrm>
            <a:off x="7020000" y="5157720"/>
            <a:ext cx="2124000" cy="1584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F:\USERS\МАМА\Мои рисунки\Стресс\i (2).jpg"/>
          <p:cNvPicPr/>
          <p:nvPr/>
        </p:nvPicPr>
        <p:blipFill>
          <a:blip r:embed="rId3"/>
          <a:stretch/>
        </p:blipFill>
        <p:spPr>
          <a:xfrm>
            <a:off x="6948360" y="-100080"/>
            <a:ext cx="1697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68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Verdana"/>
              </a:rPr>
              <a:t>Некоторые рекомендации родителям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232920" y="1029960"/>
            <a:ext cx="8659800" cy="56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1. Не поддавайться панике других родителей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. Помнить, что успех на экзамене ещё не означает успех в жизн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3. Больше разговаривать с ребёнком на отвлечённые тем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4. Помнить, что оценка за экзамен — это ещё не оценка личност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5. Тормозить фантазии на тему «а как оно будет…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19360" y="1143000"/>
            <a:ext cx="478152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8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Замещающее содержимое 1" descr="1443658720_14"/>
          <p:cNvPicPr/>
          <p:nvPr/>
        </p:nvPicPr>
        <p:blipFill>
          <a:blip r:embed="rId1"/>
          <a:stretch/>
        </p:blipFill>
        <p:spPr>
          <a:xfrm>
            <a:off x="2457360" y="2932200"/>
            <a:ext cx="46292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Calibri"/>
              </a:rPr>
              <a:t>В целях выполнения п. 2.2. ФЦПРО РФ на 2016-2020 г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9280" y="1125360"/>
            <a:ext cx="8964720" cy="56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в 2017–2019 году в Пермском крае реализуется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раевой проект «Образовательный лифт»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- комплекс мероприятий по повышению качества образования в школах с низкими результатами обучения (НРО), функционирующих в неблагоприятных социальных условиях (НСУ) </a:t>
            </a:r>
            <a:r>
              <a:rPr b="1" i="1" lang="ru-RU" sz="2000" spc="-1" strike="noStrike">
                <a:solidFill>
                  <a:srgbClr val="1f497d"/>
                </a:solidFill>
                <a:latin typeface="Arial"/>
              </a:rPr>
              <a:t>(руководитель проекта Новикова О.Н., начальник отдела развития образовательных систем, к.филос.н.,)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, в том числ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   утверждение перечня школ – апробационных площад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проведение аналитических, проектных, обучающих и других мероприятий для учителей школ данной категори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создание постоянно действующих проблемных групп-педагогов-предметников в режиме сетевого взаимодействия с педагогами школ, показывающих хорошие образовательные результаты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бобщение и трансляция лучших методик и практик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образовательный лиф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ключены предметы, по которым выпускники 9-11-х классов проходят ГИА, а также –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едмет «Физическая культур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85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Цели сетевого сообщества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учителей ФК- участников проекта 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009999"/>
                </a:solidFill>
                <a:latin typeface="Calibri"/>
              </a:rPr>
              <a:t>«Образовательный лифт»</a:t>
            </a:r>
            <a:r>
              <a:rPr b="1" lang="ru-RU" sz="2800" spc="-1" strike="noStrike">
                <a:solidFill>
                  <a:srgbClr val="009999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оказать физическое, психологическое и моральное содействие обучающимся выпускных классов и учителям, готовящих обучающихся к сдаче ОГЭ и ЕГЭ, в том числе, за счет повышения качества преподавания уроков физкультуры, особенно в выпускных классах, и создания условий, позволяющих приобщить учеников и учителей к рациональной организации своего распорядка дня, здоровому образу жизни, особенно в период подготовки и сдачи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Изображение 324611" descr="urok-po-tiemie-zdorovyi-obraz-zhizni_3"/>
          <p:cNvPicPr/>
          <p:nvPr/>
        </p:nvPicPr>
        <p:blipFill>
          <a:blip r:embed="rId1"/>
          <a:stretch/>
        </p:blipFill>
        <p:spPr>
          <a:xfrm>
            <a:off x="3808440" y="4689360"/>
            <a:ext cx="21985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 участников проекта «Образовательный лифт» (техническое задание - ТЗ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овести анализ качества преподавания уроков физкультуры, затруднений учеников и учителей в выпускных классах (9-х и 11-х) путем проведения анкетирования обучающихся и педагогов с последующим анализом его результ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модель (программу) содействия здоровью обучающихся и/ил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, включающей планирование проведения физкультурно-оздоровительных урочных и внеурочных мероприятий с обучающимися 9-х и 11-х классов и мероприятий для учителей-предметников, готовящих выпускников к сдаче ОГЭ, ЕГЭ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перечень рекомендаций в форме памятки, стенда, страницы в соц. сетях, др. по организации в период подготовки и сдачи экзаменов образа жизни, адекватного здоровому, для обучающихся выпускных классов и/или педагогов-предметников, работающих в выпускных классах и готовящих детей к сдаче ОГЭ, ЕГЭ, и/или для родителей выпуск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работать систему эффективного взаимодействия с родителями обучающихся выпускных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Модель школы, способствующей улучшению результатов сдачи ОГЭ, ЕГЭ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6666"/>
                </a:solidFill>
                <a:latin typeface="Calibri"/>
              </a:rPr>
              <a:t>предполагае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8000" y="1341360"/>
            <a:ext cx="9036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разработку системы поддержки учителей (например: повышение квалификации, сильный помогает слабому, создание условий для оздоровления педагогов,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ерестройку системы освоения учениками ООП, методической и социально-психологической подготовки ребят к экзамена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 разработку системы эффективного взаимодействия с родителями, особенно выпускных класс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новые управленческие решения, инновационные технологии управления образовательным процесс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запрос помощи извне и использование возможностей внешних фактор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527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особы выполнения задач (ТЗ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8920" y="1125000"/>
            <a:ext cx="8713800" cy="557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тслеживание информации, поступающей на сайт «Сетевое сообщество педагогов Пермского края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ducomm.iro.perm.ru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рубрике «Образовательный лифт (Сальникова Ю.Н.) и «Учитель здоровья» (Лядова Н.В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работка подходов как универсальных, так и индивидуализированных к преподаванию физической культуры в соответствии с требованиями ФГОС основного и среднего общего образования и в условиях внедрения ВФСК ГТО, а также – с целью обсуждения  программ (моделей) содействия здоровью обучающихся и учителей-предметников в условиях подготовки к государственной итоговой аттестации (ГИА) средствами  физического воспитания и физической культуры в выпускных классах (9-х и 11-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бращение  за консультацией/помощью к коллегам, специалистам, руководителю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1600" y="115920"/>
            <a:ext cx="8623440" cy="16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Модель школы (структура деятельности) по содействию здоровью обучающихся-выпускников и учителей-предметников, готовящих детей к ГИА, </a:t>
            </a: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средствами  физической культуры и физического воспитания  </a:t>
            </a:r>
            <a:br>
              <a:rPr sz="2000"/>
            </a:br>
            <a:r>
              <a:rPr b="1" lang="ru-RU" sz="2000" spc="-1" strike="noStrike">
                <a:solidFill>
                  <a:srgbClr val="008080"/>
                </a:solidFill>
                <a:latin typeface="Arial"/>
              </a:rPr>
              <a:t>(как один из вариантов). 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Составитель - Н.В.Лядов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87480" y="1916280"/>
          <a:ext cx="8950320" cy="3531960"/>
        </p:xfrm>
        <a:graphic>
          <a:graphicData uri="http://schemas.openxmlformats.org/drawingml/2006/table">
            <a:tbl>
              <a:tblPr/>
              <a:tblGrid>
                <a:gridCol w="1785600"/>
                <a:gridCol w="1567080"/>
                <a:gridCol w="1693800"/>
                <a:gridCol w="2062080"/>
                <a:gridCol w="1841760"/>
              </a:tblGrid>
              <a:tr h="3814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1. Создание и поддержание экологически безопасной,  здоров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сберегающ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672c"/>
                          </a:solidFill>
                          <a:latin typeface="Arial"/>
                          <a:ea typeface="Arial Unicode MS"/>
                        </a:rPr>
                        <a:t>инфраструктуры 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2. Рациона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ая орг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зация уче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ной и в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учеб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обуча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  <a:ea typeface="Arial Unicode MS"/>
                        </a:rPr>
                        <a:t>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3. Эфф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ая ор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физкультурно-оздоров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66ff"/>
                          </a:solidFill>
                          <a:latin typeface="Arial"/>
                          <a:ea typeface="Arial Unicode MS"/>
                        </a:rPr>
                        <a:t>ной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4. Ре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дополни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образовательных программ по ЗО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  <a:ea typeface="Arial Unicode MS"/>
                        </a:rPr>
                        <a:t>(</a:t>
                      </a:r>
                      <a:r>
                        <a:rPr b="1" lang="ru-RU" sz="14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профилактика употребления ПАВ, социально значимых заболеваний, травматизма, нерац.поведения в ЧС и в обычной жизн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cc"/>
                          </a:solidFill>
                          <a:latin typeface="Arial"/>
                        </a:rPr>
                        <a:t>Организация системы просветительской работы и по обучению ЗОЖ с участниками образовательных отнош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Скругленный прямоугольник 5"/>
          <p:cNvSpPr/>
          <p:nvPr/>
        </p:nvSpPr>
        <p:spPr>
          <a:xfrm>
            <a:off x="2411280" y="5589720"/>
            <a:ext cx="4535640" cy="110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6. Мониторинг здоровьесберег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45"/>
                </a:solidFill>
                <a:latin typeface="Arial"/>
              </a:rPr>
              <a:t>деятельности и здоровья обучающихся/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римерное содержание деятельности учителя физической культуры по каждому на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600" cy="4950000"/>
        </p:xfrm>
        <a:graphic>
          <a:graphicData uri="http://schemas.openxmlformats.org/drawingml/2006/table">
            <a:tbl>
              <a:tblPr/>
              <a:tblGrid>
                <a:gridCol w="3610080"/>
                <a:gridCol w="4619520"/>
              </a:tblGrid>
              <a:tr h="8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Направления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Содержание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Организационн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(поддержание на хорошем уровне здоровьесберегаю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инфраструктур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го зала/залов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спортивной площадки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ое соблюдение требований СанПиН к спортивному залу, спортивной площадк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воздушно-тепловому и световому режим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установке спортивного оборудования, инвентаря и его безопасности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чистоте раздевалок, туалетов, душевых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соблюдению техники безопасности на уроках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к обеспечению питьевого режима, соблюденнию личной гигиены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8T07:17:48Z</dcterms:created>
  <dc:creator>Ljadova-NV</dc:creator>
  <dc:description/>
  <dc:language>en-US</dc:language>
  <cp:lastModifiedBy>Ljadova-NV</cp:lastModifiedBy>
  <dcterms:modified xsi:type="dcterms:W3CDTF">2019-11-15T12:49:17Z</dcterms:modified>
  <cp:revision>13</cp:revision>
  <dc:subject/>
  <dc:title>Проект программы (модели)  физической, психологической поддержки обучающихся выпускных классов и учителей-предметников, готовящих выпускников 9-х и 11-х классов своей школы к сдаче ОГЭ, ЕГЭ, посредством  оздоровительно-профилактических физкультурных мероприяти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46</vt:lpwstr>
  </property>
  <property fmtid="{D5CDD505-2E9C-101B-9397-08002B2CF9AE}" pid="3" name="Version">
    <vt:r8>4</vt:r8>
  </property>
</Properties>
</file>