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3745-3FF7-4C55-8531-71BC1131F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7858-4965-4FD8-BC7B-36FB900A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6F2B-6B36-4093-80F2-57C35507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2238-CE8E-4A35-964E-F86C49D1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C7DA-17AC-4F8B-BB54-CAEB88F22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73D5-EC5F-4AD3-91D6-1F0B5B41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3C54-EC05-4F47-9F8D-6A7DCEEE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3BC7-D4C8-48F2-BAEA-59AC67A6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E048-1405-4C4F-A250-A58C3CC7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FB62-8F09-4BA6-A318-092F7B75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74AD-AFDF-4C16-8E9E-790A5094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58D2-78F2-46AE-96FF-735C55D1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B0E9-B05F-4A89-9CA5-5A3EE49F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8DDB-ACDB-4F6E-9639-D815A2B4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4216-01CC-4AEE-912C-BD83095A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FF2C-B372-40EB-BC63-595DE4FF7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88A0-0AA6-4ECA-94B1-4DADE5B7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4881-1DB8-45B9-B90C-AE3273CC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857E-6C39-4F0C-B905-7AE6CAD7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E948-9022-4073-AD19-18AF7755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3AF3-8F8F-4AB9-B3E6-0FDCEC32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870A-40A8-46B5-840D-27C6E9B9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724B-7AD0-448E-BFE4-E803E7D9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DD62-DC21-475A-A1DE-CF0E2EA3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A75B-5156-4F41-A050-114C0799951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2026-4731-4141-8495-C38820A24E5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685440"/>
            <a:ext cx="856908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99"/>
                </a:solidFill>
                <a:latin typeface="Garamond"/>
              </a:rPr>
              <a:t>НПК – метапредметные цели и задачи в современной школе.</a:t>
            </a:r>
            <a:endParaRPr b="0" lang="en-US" sz="4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42560" y="3284640"/>
            <a:ext cx="7234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Выступление на краевом методическом  семинаре по теме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Verdana"/>
              </a:rPr>
              <a:t>«Инновационные педагогические технологии: Проектная и исследовательская деятельность на уроках и во внеурочное время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Verdana"/>
              </a:rPr>
              <a:t>Яковлева Н.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Garamond"/>
              </a:rPr>
              <a:t>Главное  отличие проектной и исследовательской деятельности – это цель.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проектной деятельности – реализация проектного замысл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исследовательской деятельности - уяснения сущности явлений,  поиск истины, открытие новых закономерностей и т.п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11280" y="47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ект – временная целенаправленная деятельность на получение уникального результа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ектная деятельность является частью самостоятельной работы учащихся. Качественно выполненный проект – это поэтапное планирование своих действий, отслеживание результатов своей работ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елью проектной деятельности является понимание и применение учащимися знаний, умений и навыков, приобретенных при изучении различных предме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6868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Задачи проектной деятельности в школе:</a:t>
            </a:r>
            <a:br>
              <a:rPr sz="4000"/>
            </a:b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48392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чение планированию (учащийся должен уметь четко определить цель, описать основные шаги по достижению поставленной цели, концентрироваться на достижении цели, на протяжении всей работы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навыков сбора и обработки информации, материалов (учащийся должен уметь выбрать подходящую информацию и правильно ее использовать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ние анализировать (креативность и критическое мышление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Задачи проектной деятельности в школе: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мение составлять письменный отчет (учащийся должен уметь составлять план работы, презентовать четко информацию, оформлять сноски, иметь понятие о библиографии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позитивного отношения к работе (учащийся должен проявлять инициативу, энтузиазм, стараться выполнить работу в срок в соответствии с установленным планом и графиком работ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К важным положительным факторам проектной деятельности относятся: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учащихся при решении задач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ещение акцента от инструментального подхода в решении задач к технологическом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чувства ответственност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ние условий для отношений сотрудни-чества между учителем и учащимс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11280" y="549360"/>
            <a:ext cx="8229600" cy="57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чувства ответствен-ности происходит подсознательно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ащийся стремится доказать, в первую очередь, самому себе, что он сделал правильный выбор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ует отметить, что стремление самоутвердиться является главным фактором эффективности проектной деятельност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решении практических задач естественным образом возникают отношения сотрудничества с учител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обенно ярко это проявляется на тех задачах, которые сумел сформулировать сам учащий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11280" y="475920"/>
            <a:ext cx="82296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и развитие творческих способностей происходит из-за наличия в проектной деятельности ключевого признака – самостоятельного выбора.     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 и смещение акцента от инструментального подхода к технологическому происходит благодаря необходимости осмысленного выбора инструментария и планирования деятельности  для достижения лучшего результат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11280" y="475920"/>
            <a:ext cx="82296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и развитие творческих способностей происходит из-за наличия в проектной деятельности ключевого признака – самостоятельного выбора.     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 и смещение акцента от инструментального подхода к технологическому происходит благодаря необходимости осмысленного выбора инструментария и планирования деятельности  для достижения лучшего результат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11280" y="476280"/>
            <a:ext cx="8229600" cy="67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гласно федеральным образовательным стандартам (ФГОС), одной из форм, способствующих развитию универсальных учебных действий исследовательского характера, является научно-практическая конференц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еренция (от лат. conferre – собирать в одном месте) – это форма коллективного обсуждения и изучения каких-либо актуальных проблем; собрание организаций, групп, а также отдельных лиц для обсуждения и решения определенных вопрос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11280" y="475920"/>
            <a:ext cx="8229600" cy="63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видам конференции подразделяются н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учны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еск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итические…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ли представляющие синтез этих направлений (научно-практические, общественно-политические и др.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атикой, названием и целями обычно определяется содержание и направленность конференции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3"/>
          <p:cNvSpPr/>
          <p:nvPr/>
        </p:nvSpPr>
        <p:spPr>
          <a:xfrm>
            <a:off x="468360" y="620640"/>
            <a:ext cx="8351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Verdana"/>
              </a:rPr>
              <a:t>«Содержание образовательной программы любой нации определяет её ценности и отражает её надежды, возлагаемые на будущие поколения».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2771640" y="5445000"/>
            <a:ext cx="61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ДЖО ХАЛЛГАРТЕН, директор по вопросам образования и лидер проекта «Проектирование общей образовательной программы» Королевское общество искусств (RS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11280" y="259920"/>
            <a:ext cx="8229600" cy="62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В процессе подготовки к конференции у школьников формируются навыки целенаправленного наблюдения, постановки эксперимента, они проходят весь путь исследовательской деятельности – от определения проблемы до защиты полученных результатов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2"/>
          <p:cNvSpPr/>
          <p:nvPr/>
        </p:nvSpPr>
        <p:spPr>
          <a:xfrm>
            <a:off x="539640" y="692280"/>
            <a:ext cx="8209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2060"/>
                </a:solidFill>
                <a:uFillTx/>
                <a:latin typeface="Verdana"/>
              </a:rPr>
              <a:t>Метапознание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, как следует из самого термина, — это знание человека о своем собственном познании и основанная на этом знании способность управлять своими </a:t>
            </a:r>
            <a:r>
              <a:rPr b="0" i="1" lang="ru-RU" sz="4000" spc="-1" strike="noStrike" u="sng">
                <a:solidFill>
                  <a:srgbClr val="002060"/>
                </a:solidFill>
                <a:uFillTx/>
                <a:latin typeface="Verdana"/>
              </a:rPr>
              <a:t>познавательными процессами</a:t>
            </a:r>
            <a:r>
              <a:rPr b="0" i="1" lang="ru-RU" sz="40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в ходе приобретения новых знаний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684360" y="549360"/>
            <a:ext cx="7991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На самом деле главное, про что метапознание в школе, — это про возможность </a:t>
            </a:r>
            <a:r>
              <a:rPr b="1" lang="ru-RU" sz="4800" spc="-1" strike="noStrike">
                <a:solidFill>
                  <a:srgbClr val="002060"/>
                </a:solidFill>
                <a:latin typeface="Verdana"/>
              </a:rPr>
              <a:t>индивидуальных траекторий обучения</a:t>
            </a: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358920" y="620640"/>
            <a:ext cx="87850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468360" y="0"/>
            <a:ext cx="8496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Развитие метапознания начинается с двух других вопросов. Прежде всего, с вопроса «Как ты это узнал?»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Это заставляет школьника рефлексировать о том, как работала его память, как работало его внимание, как он мысли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И второй главный вопрос — «Зачем ты это узнал?», то есть для чего ребенку это знание, где оно может быть востребовано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И этот вопрос напрямую выводит нас на проблему мотивации — того самого, чего современному школьнику чаще всего не хвата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3"/>
          <p:cNvSpPr/>
          <p:nvPr/>
        </p:nvSpPr>
        <p:spPr>
          <a:xfrm>
            <a:off x="755640" y="620640"/>
            <a:ext cx="792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«Лучший способ предсказать будущее — вдохновить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новое поколение учеников сделать его лучше»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оугольник 6"/>
          <p:cNvSpPr/>
          <p:nvPr/>
        </p:nvSpPr>
        <p:spPr>
          <a:xfrm>
            <a:off x="3527280" y="5013360"/>
            <a:ext cx="54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ДЖОН АБЕЛЕ, учредитель и председатель Boston Scientific, председатель Argosy Found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Вызовы современности для школы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560" y="148392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Чему должны учиться школьники в эпоху поисковых машин, роботов и искусственного интеллекта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селерация технологий и информационный взрыв породили срочную необходимость переосмыслить систему образования, традиционно основанную на учебном материале. Начиная с глубокого понимания того, как меняются потребности современного общества и работников, эти вызовы призывают нас сделать большой скачок в области образования, чтобы развить глубокие компетенции, включающие актуальные современные знани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435600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ИВ ВИНТЕР, директор, площадка Кэмбридж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8560" y="907560"/>
            <a:ext cx="878508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Изменение роли участников педагогического процесса.</a:t>
            </a: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98" name="Содержимое 4" descr=""/>
          <p:cNvPicPr/>
          <p:nvPr/>
        </p:nvPicPr>
        <p:blipFill>
          <a:blip r:embed="rId1"/>
          <a:stretch/>
        </p:blipFill>
        <p:spPr>
          <a:xfrm>
            <a:off x="450720" y="1481040"/>
            <a:ext cx="843120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Garamond"/>
              </a:rPr>
              <a:t>Какое место занимает проектная деятельность в реализации ФГОС нового поколения?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3640" y="159984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новное отличие нового Стандарта заключается в изменение результатов, которые мы должны получить на выходе (планируемые личностные, предметные  и метапредметные результаты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струментом достижения данных результатов являются универсальные учебные действия (программы формирования УУД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новным подходом формирования УУД, согласно новым Стандартам, является системно-деятельностный подход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им из методов (возможно наиболее эффективным) реализации данного подхода является проектная деятельн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ребования к результатам освоения ООП: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к получению нового знания в рамках учебного предмета, его преобразованию и применению в учебных, учебно-проектных и социально – проектных ситуациях» (п.8 ФГОС ОО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при итоговом оценивании результатов освоения обучающимися основной образовательной программы основного общего образования должны учитываться сформированность умений выполнения проектной деятельности   и способность к решению учебно-практических и учебно-познавательных задач»    (п.12 ФГОС ООО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1128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Фактически, ФГОС требует от учителя помочь школьнику получить представление об основных мыслительных операциях и научиться применять их на практик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1128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Анализ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– при анализе происходит мысленное разложение целого на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Синтез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это обратный анализу процесс. При синтезе происходит мысленное объедине­ние частей, свойств, действий в единое целое. Сравнение – это установление сходства или различия между предметами и явлениями или их отдельными признак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Абстракция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заключается в выделении каких-либо свойств, признаков изучаемого объ­екта и представление этих признаков, свойств в виде самостоятельного объекта мышл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Конкретизация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– при конкретизации происходит возвращение мысли от общего и абст­рактного к конкретному с целью раскрытия содержа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Обобщение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мысленное объединение предметов и явлений по их общим и существенным признакам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7487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пецифика  проектной и исследовательской деятельности.</a:t>
            </a: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557360"/>
          <a:ext cx="8507520" cy="4949640"/>
        </p:xfrm>
        <a:graphic>
          <a:graphicData uri="http://schemas.openxmlformats.org/drawingml/2006/table">
            <a:tbl>
              <a:tblPr/>
              <a:tblGrid>
                <a:gridCol w="4253040"/>
                <a:gridCol w="4254480"/>
              </a:tblGrid>
              <a:tr h="56664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bf0000"/>
                          </a:solidFill>
                          <a:latin typeface="Verdana"/>
                        </a:rPr>
                        <a:t>Проект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bf0000"/>
                          </a:solidFill>
                          <a:latin typeface="Verdana"/>
                        </a:rPr>
                        <a:t>Учебно-исследовательская 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ект направлен на получение конкретного запланированного  результата – продукта, обладающего определенными свойствами, и который необходим для конкретного использовани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ходе исследования организуется поиск в какой-то области, формулируются отдельные характеристики итогов работы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</a:tr>
              <a:tr h="237492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ализацию проектных работ предваряет представление о будущем проекте, планирование процесса создания продукта и реализации этого плана. Результат проекта должен быть точно соотнесен со всеми характеристиками, сформулированными в его замы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следование может вывести на результаты, которые не предполагались. Логика построения исследовательской деятельности включает формулировку проблемы исследования, выдвижение гипотезы (для решения этой проблемы) и последующую экспериментальную или модельную проверку выдвинутых предположени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56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авлен на формирование всего комплекса УУ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ируются прежде всего познавательные УУ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1</cp:lastModifiedBy>
  <dcterms:modified xsi:type="dcterms:W3CDTF">2018-11-21T17:40:56Z</dcterms:modified>
  <cp:revision>76</cp:revision>
  <dc:subject/>
  <dc:title>«Деление ядер урана»</dc:title>
</cp:coreProperties>
</file>