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DCC2E-856C-4184-9014-8D107309C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729E7-6403-41F5-9D45-5D4868344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451D6-8BD3-4591-94B1-2C52A8676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0C87F-A203-4FF9-9106-2F6C09FD4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0BB65-B4F1-4BC9-AFA4-DB684538E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5F1D3-055F-4292-AB97-6C9DC87EE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788DF-9759-4C3A-B767-A367630B8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0C25F-F560-43CE-8174-0203C7C42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E64FC-AE1B-42C4-AFA8-E26898C0D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93E31-BF8B-4ED0-B121-E83711694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E8A7F-6B51-4362-92E8-E8D736E89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184B6-485C-4324-ACEA-1273DA121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F1B20-D09D-4F28-9502-4431DB25E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7A287-0685-4A29-83A5-F6529DE0A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695FB-CB34-4BBC-9EAB-4EBF0E16B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6AFEA-129C-4154-A82A-FC0015925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6D196-A4DA-4D95-82A5-2833CD456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821F4-6E99-4151-8877-329113CA6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23639-9777-4066-85F2-0CADDF369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1930F-235C-440E-899A-BA8234336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F7D3E-A3D1-4F12-8869-9268007D8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C5306-77D3-4A2D-A5A0-45A44FC3C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0E7F8-2043-40FC-9504-400037EFF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E4F0C-1EEA-4687-AEE6-6BDF0BB86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99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85B82-045E-4415-96F4-1B8EEAC60032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7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46" name="Rectangle 8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Rectangle 9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Rectangle 10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99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16783-E984-47A4-9E8B-D20312972B07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23640" y="685440"/>
            <a:ext cx="8569080" cy="2127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66699"/>
                </a:solidFill>
                <a:latin typeface="Garamond"/>
              </a:rPr>
              <a:t>НПК – метапредметные цели и задачи в современной школе.</a:t>
            </a:r>
            <a:endParaRPr b="0" lang="en-US" sz="48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042560" y="3284640"/>
            <a:ext cx="72342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00"/>
                </a:solidFill>
                <a:latin typeface="Verdana"/>
              </a:rPr>
              <a:t>Выступление на краевом методическом  семинаре по теме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9900"/>
                </a:solidFill>
                <a:latin typeface="Verdana"/>
              </a:rPr>
              <a:t>«Инновационные педагогические технологии: Проектная и исследовательская деятельность на уроках и во внеурочное время»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9900"/>
                </a:solidFill>
                <a:latin typeface="Verdana"/>
              </a:rPr>
              <a:t>Яковлева Н.Г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6868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6699"/>
                </a:solidFill>
                <a:latin typeface="Garamond"/>
              </a:rPr>
              <a:t>Главное  отличие проектной и исследовательской деятельности – это цель.</a:t>
            </a:r>
            <a:endParaRPr b="0" lang="en-US" sz="32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Цель проектной деятельности – реализация проектного замысла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Цель исследовательской деятельности - уяснения сущности явлений,  поиск истины, открытие новых закономерностей и т.п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611280" y="475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ект – временная целенаправленная деятельность на получение уникального результа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8000" indent="-28800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ектная деятельность является частью самостоятельной работы учащихся. Качественно выполненный проект – это поэтапное планирование своих действий, отслеживание результатов своей работы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8000" indent="-28800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Целью проектной деятельности является понимание и применение учащимися знаний, умений и навыков, приобретенных при изучении различных предметов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8000" indent="-288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907560"/>
            <a:ext cx="8686800" cy="114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1" lang="ru-RU" sz="4000" spc="-1" strike="noStrike">
                <a:solidFill>
                  <a:srgbClr val="666699"/>
                </a:solidFill>
                <a:latin typeface="Garamond"/>
              </a:rPr>
              <a:t>Задачи проектной деятельности в школе:</a:t>
            </a:r>
            <a:br>
              <a:rPr sz="4000"/>
            </a:br>
            <a:endParaRPr b="0" lang="en-US" sz="40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395280" y="1483920"/>
            <a:ext cx="8532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бучение планированию (учащийся должен уметь четко определить цель, описать основные шаги по достижению поставленной цели, концентрироваться на достижении цели, на протяжении всей работы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Формирование навыков сбора и обработки информации, материалов (учащийся должен уметь выбрать подходящую информацию и правильно ее использовать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мение анализировать (креативность и критическое мышление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6868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6699"/>
                </a:solidFill>
                <a:latin typeface="Garamond"/>
              </a:rPr>
              <a:t>Задачи проектной деятельности в школе:</a:t>
            </a:r>
            <a:endParaRPr b="0" lang="en-US" sz="40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мение составлять письменный отчет (учащийся должен уметь составлять план работы, презентовать четко информацию, оформлять сноски, иметь понятие о библиографии)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Формирование позитивного отношения к работе (учащийся должен проявлять инициативу, энтузиазм, стараться выполнить работу в срок в соответствии с установленным планом и графиком работы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50560" y="277920"/>
            <a:ext cx="889308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6699"/>
                </a:solidFill>
                <a:latin typeface="Garamond"/>
              </a:rPr>
              <a:t>К важным положительным факторам проектной деятельности относятся:</a:t>
            </a:r>
            <a:endParaRPr b="0" lang="en-US" sz="40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250560" y="1599840"/>
            <a:ext cx="88930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вышение мотивации учащихся при решении задач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звитие творческих способностей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мещение акцента от инструментального подхода в решении задач к технологическому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формирование чувства ответственности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здание условий для отношений сотрудни-чества между учителем и учащимся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611280" y="549360"/>
            <a:ext cx="8229600" cy="57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Формирование чувства ответствен-ности происходит подсознательно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чащийся стремится доказать, в первую очередь, самому себе, что он сделал правильный выбор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ледует отметить, что стремление самоутвердиться является главным фактором эффективности проектной деятельности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и решении практических задач естественным образом возникают отношения сотрудничества с учителем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собенно ярко это проявляется на тех задачах, которые сумел сформулировать сам учащийся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611280" y="475920"/>
            <a:ext cx="8229600" cy="534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вышение мотивации и развитие творческих способностей происходит из-за наличия в проектной деятельности ключевого признака – самостоятельного выбора.      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звитие творческих способностей и смещение акцента от инструментального подхода к технологическому происходит благодаря необходимости осмысленного выбора инструментария и планирования деятельности  для достижения лучшего результата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611280" y="475920"/>
            <a:ext cx="8229600" cy="534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вышение мотивации и развитие творческих способностей происходит из-за наличия в проектной деятельности ключевого признака – самостоятельного выбора.      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звитие творческих способностей и смещение акцента от инструментального подхода к технологическому происходит благодаря необходимости осмысленного выбора инструментария и планирования деятельности  для достижения лучшего результата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11280" y="476280"/>
            <a:ext cx="8229600" cy="672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гласно федеральным образовательным стандартам (ФГОС), одной из форм, способствующих развитию универсальных учебных действий исследовательского характера, является научно-практическая конференция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онференция (от лат. conferre – собирать в одном месте) – это форма коллективного обсуждения и изучения каких-либо актуальных проблем; собрание организаций, групп, а также отдельных лиц для обсуждения и решения определенных вопросов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611280" y="475920"/>
            <a:ext cx="8229600" cy="638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 видам конференции подразделяются на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учные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актические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литические…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ли представляющие синтез этих направлений (научно-практические, общественно-политические и др.)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ематикой, названием и целями обычно определяется содержание и направленность конференции.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Прямоугольник 3"/>
          <p:cNvSpPr/>
          <p:nvPr/>
        </p:nvSpPr>
        <p:spPr>
          <a:xfrm>
            <a:off x="468360" y="620640"/>
            <a:ext cx="835164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Verdana"/>
              </a:rPr>
              <a:t>«Содержание образовательной программы любой нации определяет её ценности и отражает её надежды, возлагаемые на будущие поколения». 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Прямоугольник 4"/>
          <p:cNvSpPr/>
          <p:nvPr/>
        </p:nvSpPr>
        <p:spPr>
          <a:xfrm>
            <a:off x="2771640" y="5445000"/>
            <a:ext cx="619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Verdana"/>
              </a:rPr>
              <a:t>ДЖО ХАЛЛГАРТЕН, директор по вопросам образования и лидер проекта «Проектирование общей образовательной программы» Королевское общество искусств (RSA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11280" y="259920"/>
            <a:ext cx="8229600" cy="624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Verdana"/>
              </a:rPr>
              <a:t>  </a:t>
            </a:r>
            <a:r>
              <a:rPr b="0" lang="ru-RU" sz="3600" spc="-1" strike="noStrike">
                <a:solidFill>
                  <a:srgbClr val="002060"/>
                </a:solidFill>
                <a:latin typeface="Verdana"/>
              </a:rPr>
              <a:t>В процессе подготовки к конференции у школьников формируются навыки целенаправленного наблюдения, постановки эксперимента, они проходят весь путь исследовательской деятельности – от определения проблемы до защиты полученных результатов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Прямоугольник 2"/>
          <p:cNvSpPr/>
          <p:nvPr/>
        </p:nvSpPr>
        <p:spPr>
          <a:xfrm>
            <a:off x="539640" y="692280"/>
            <a:ext cx="820908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2060"/>
                </a:solidFill>
                <a:uFillTx/>
                <a:latin typeface="Verdana"/>
              </a:rPr>
              <a:t>Метапознание</a:t>
            </a:r>
            <a:r>
              <a:rPr b="0" lang="ru-RU" sz="4000" spc="-1" strike="noStrike">
                <a:solidFill>
                  <a:srgbClr val="002060"/>
                </a:solidFill>
                <a:latin typeface="Verdana"/>
              </a:rPr>
              <a:t>, как следует из самого термина, — это знание человека о своем собственном познании и основанная на этом знании способность управлять своими </a:t>
            </a:r>
            <a:r>
              <a:rPr b="0" i="1" lang="ru-RU" sz="4000" spc="-1" strike="noStrike" u="sng">
                <a:solidFill>
                  <a:srgbClr val="002060"/>
                </a:solidFill>
                <a:uFillTx/>
                <a:latin typeface="Verdana"/>
              </a:rPr>
              <a:t>познавательными процессами</a:t>
            </a:r>
            <a:r>
              <a:rPr b="0" i="1" lang="ru-RU" sz="4000" spc="-1" strike="noStrike">
                <a:solidFill>
                  <a:srgbClr val="002060"/>
                </a:solidFill>
                <a:latin typeface="Verdana"/>
              </a:rPr>
              <a:t>  </a:t>
            </a:r>
            <a:r>
              <a:rPr b="0" lang="ru-RU" sz="4000" spc="-1" strike="noStrike">
                <a:solidFill>
                  <a:srgbClr val="002060"/>
                </a:solidFill>
                <a:latin typeface="Verdana"/>
              </a:rPr>
              <a:t>в ходе приобретения новых знаний.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Прямоугольник 1"/>
          <p:cNvSpPr/>
          <p:nvPr/>
        </p:nvSpPr>
        <p:spPr>
          <a:xfrm>
            <a:off x="684360" y="549360"/>
            <a:ext cx="79912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2060"/>
                </a:solidFill>
                <a:latin typeface="Verdana"/>
              </a:rPr>
              <a:t>На самом деле главное, про что метапознание в школе, — это про возможность </a:t>
            </a:r>
            <a:r>
              <a:rPr b="1" lang="ru-RU" sz="4800" spc="-1" strike="noStrike">
                <a:solidFill>
                  <a:srgbClr val="002060"/>
                </a:solidFill>
                <a:latin typeface="Verdana"/>
              </a:rPr>
              <a:t>индивидуальных траекторий обучения</a:t>
            </a:r>
            <a:r>
              <a:rPr b="0" lang="ru-RU" sz="4800" spc="-1" strike="noStrike">
                <a:solidFill>
                  <a:srgbClr val="002060"/>
                </a:solidFill>
                <a:latin typeface="Verdana"/>
              </a:rPr>
              <a:t>. 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Прямоугольник 1"/>
          <p:cNvSpPr/>
          <p:nvPr/>
        </p:nvSpPr>
        <p:spPr>
          <a:xfrm>
            <a:off x="358920" y="620640"/>
            <a:ext cx="878508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Прямоугольник 2"/>
          <p:cNvSpPr/>
          <p:nvPr/>
        </p:nvSpPr>
        <p:spPr>
          <a:xfrm>
            <a:off x="468360" y="0"/>
            <a:ext cx="849636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Verdana"/>
              </a:rPr>
              <a:t>Развитие метапознания начинается с двух других вопросов. Прежде всего, с вопроса «Как ты это узнал?»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Verdan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Verdana"/>
              </a:rPr>
              <a:t>Это заставляет школьника рефлексировать о том, как работала его память, как работало его внимание, как он мыслил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2060"/>
                </a:solidFill>
                <a:latin typeface="Verdana"/>
              </a:rPr>
              <a:t>И второй главный вопрос — «Зачем ты это узнал?», то есть для чего ребенку это знание, где оно может быть востребовано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Verdana"/>
              </a:rPr>
              <a:t>И этот вопрос напрямую выводит нас на проблему мотивации — того самого, чего современному школьнику чаще всего не хватает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Прямоугольник 3"/>
          <p:cNvSpPr/>
          <p:nvPr/>
        </p:nvSpPr>
        <p:spPr>
          <a:xfrm>
            <a:off x="755640" y="620640"/>
            <a:ext cx="7920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2060"/>
                </a:solidFill>
                <a:latin typeface="Verdana"/>
              </a:rPr>
              <a:t>«Лучший способ предсказать будущее — вдохновить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2060"/>
                </a:solidFill>
                <a:latin typeface="Verdana"/>
              </a:rPr>
              <a:t>новое поколение учеников сделать его лучше»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Прямоугольник 6"/>
          <p:cNvSpPr/>
          <p:nvPr/>
        </p:nvSpPr>
        <p:spPr>
          <a:xfrm>
            <a:off x="3527280" y="5013360"/>
            <a:ext cx="5437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Verdana"/>
              </a:rPr>
              <a:t>ДЖОН АБЕЛЕ, учредитель и председатель Boston Scientific, председатель Argosy Founda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26560" y="277920"/>
            <a:ext cx="785988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6699"/>
                </a:solidFill>
                <a:latin typeface="Garamond"/>
              </a:rPr>
              <a:t>Вызовы современности для школы.</a:t>
            </a:r>
            <a:endParaRPr b="0" lang="en-US" sz="40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50560" y="1483920"/>
            <a:ext cx="88930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«Чему должны учиться школьники в эпоху поисковых машин, роботов и искусственного интеллекта?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Акселерация технологий и информационный взрыв породили срочную необходимость переосмыслить систему образования, традиционно основанную на учебном материале. Начиная с глубокого понимания того, как меняются потребности современного общества и работников, эти вызовы призывают нас сделать большой скачок в области образования, чтобы развить глубокие компетенции, включающие актуальные современные знания»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Прямоугольник 3"/>
          <p:cNvSpPr/>
          <p:nvPr/>
        </p:nvSpPr>
        <p:spPr>
          <a:xfrm>
            <a:off x="4356000" y="62118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ТИВ ВИНТЕР, директор, площадка Кэмбридж Googl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58560" y="907560"/>
            <a:ext cx="8785080" cy="114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6699"/>
                </a:solidFill>
                <a:latin typeface="Garamond"/>
              </a:rPr>
              <a:t>Изменение роли участников педагогического процесса.</a:t>
            </a:r>
            <a:br>
              <a:rPr sz="4400"/>
            </a:b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pic>
        <p:nvPicPr>
          <p:cNvPr id="98" name="Содержимое 4" descr=""/>
          <p:cNvPicPr/>
          <p:nvPr/>
        </p:nvPicPr>
        <p:blipFill>
          <a:blip r:embed="rId1"/>
          <a:stretch/>
        </p:blipFill>
        <p:spPr>
          <a:xfrm>
            <a:off x="450720" y="1481040"/>
            <a:ext cx="8431200" cy="538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6868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6699"/>
                </a:solidFill>
                <a:latin typeface="Garamond"/>
              </a:rPr>
              <a:t>Какое место занимает проектная деятельность в реализации ФГОС нового поколения?</a:t>
            </a:r>
            <a:endParaRPr b="0" lang="en-US" sz="32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323640" y="1599840"/>
            <a:ext cx="85690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сновное отличие нового Стандарта заключается в изменение результатов, которые мы должны получить на выходе (планируемые личностные, предметные  и метапредметные результаты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нструментом достижения данных результатов являются универсальные учебные действия (программы формирования УУД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сновным подходом формирования УУД, согласно новым Стандартам, является системно-деятельностный подход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дним из методов (возможно наиболее эффективным) реализации данного подхода является проектная деятельность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6699"/>
                </a:solidFill>
                <a:latin typeface="Garamond"/>
              </a:rPr>
              <a:t>Требования к результатам освоения ООП: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«к получению нового знания в рамках учебного предмета, его преобразованию и применению в учебных, учебно-проектных и социально – проектных ситуациях» (п.8 ФГОС ООО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«при итоговом оценивании результатов освоения обучающимися основной образовательной программы основного общего образования должны учитываться сформированность умений выполнения проектной деятельности   и способность к решению учебно-практических и учебно-познавательных задач»    (п.12 ФГОС ООО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611280" y="7650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4000" spc="-1" strike="noStrike">
                <a:solidFill>
                  <a:srgbClr val="002060"/>
                </a:solidFill>
                <a:latin typeface="Verdana"/>
              </a:rPr>
              <a:t>Фактически, ФГОС требует от учителя помочь школьнику получить представление об основных мыслительных операциях и научиться применять их на практике.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611280" y="7650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Verdana"/>
              </a:rPr>
              <a:t>Анализ </a:t>
            </a:r>
            <a:r>
              <a:rPr b="0" lang="ru-RU" sz="2000" spc="-1" strike="noStrike">
                <a:solidFill>
                  <a:srgbClr val="002060"/>
                </a:solidFill>
                <a:latin typeface="Verdana"/>
              </a:rPr>
              <a:t>– при анализе происходит мысленное разложение целого на части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Verdana"/>
              </a:rPr>
              <a:t>Синтез</a:t>
            </a:r>
            <a:r>
              <a:rPr b="0" lang="ru-RU" sz="2000" spc="-1" strike="noStrike">
                <a:solidFill>
                  <a:srgbClr val="002060"/>
                </a:solidFill>
                <a:latin typeface="Verdana"/>
              </a:rPr>
              <a:t> – это обратный анализу процесс. При синтезе происходит мысленное объедине­ние частей, свойств, действий в единое целое. Сравнение – это установление сходства или различия между предметами и явлениями или их отдельными признаками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Verdana"/>
              </a:rPr>
              <a:t>Абстракция</a:t>
            </a:r>
            <a:r>
              <a:rPr b="0" lang="ru-RU" sz="2000" spc="-1" strike="noStrike">
                <a:solidFill>
                  <a:srgbClr val="002060"/>
                </a:solidFill>
                <a:latin typeface="Verdana"/>
              </a:rPr>
              <a:t> – заключается в выделении каких-либо свойств, признаков изучаемого объ­екта и представление этих признаков, свойств в виде самостоятельного объекта мышлени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Verdana"/>
              </a:rPr>
              <a:t>Конкретизация </a:t>
            </a:r>
            <a:r>
              <a:rPr b="0" lang="ru-RU" sz="2000" spc="-1" strike="noStrike">
                <a:solidFill>
                  <a:srgbClr val="002060"/>
                </a:solidFill>
                <a:latin typeface="Verdana"/>
              </a:rPr>
              <a:t>– при конкретизации происходит возвращение мысли от общего и абст­рактного к конкретному с целью раскрытия содержания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Verdana"/>
              </a:rPr>
              <a:t>Обобщение</a:t>
            </a:r>
            <a:r>
              <a:rPr b="0" lang="ru-RU" sz="2000" spc="-1" strike="noStrike">
                <a:solidFill>
                  <a:srgbClr val="002060"/>
                </a:solidFill>
                <a:latin typeface="Verdana"/>
              </a:rPr>
              <a:t> – мысленное объединение предметов и явлений по их общим и существенным признакам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95280" y="981000"/>
            <a:ext cx="874872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6699"/>
                </a:solidFill>
                <a:latin typeface="Garamond"/>
              </a:rPr>
              <a:t>Специфика  проектной и исследовательской деятельности.</a:t>
            </a:r>
            <a:br>
              <a:rPr sz="4400"/>
            </a:b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7200" y="1557360"/>
          <a:ext cx="8507520" cy="4949640"/>
        </p:xfrm>
        <a:graphic>
          <a:graphicData uri="http://schemas.openxmlformats.org/drawingml/2006/table">
            <a:tbl>
              <a:tblPr/>
              <a:tblGrid>
                <a:gridCol w="4253040"/>
                <a:gridCol w="4254480"/>
              </a:tblGrid>
              <a:tr h="566640">
                <a:tc>
                  <a:txBody>
                    <a:bodyPr lIns="122040" rIns="122040" anchor="t">
                      <a:noAutofit/>
                    </a:bodyPr>
                    <a:p>
                      <a:pPr marL="88920" indent="8892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bf0000"/>
                          </a:solidFill>
                          <a:latin typeface="Verdana"/>
                        </a:rPr>
                        <a:t>Проектная деятельн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22040" marR="1220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122040" rIns="122040" anchor="t">
                      <a:noAutofit/>
                    </a:bodyPr>
                    <a:p>
                      <a:pPr marL="88920" indent="8892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bf0000"/>
                          </a:solidFill>
                          <a:latin typeface="Verdana"/>
                        </a:rPr>
                        <a:t>Учебно-исследовательская  деятельн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22040" marR="1220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</a:tr>
              <a:tr h="1460520">
                <a:tc>
                  <a:txBody>
                    <a:bodyPr lIns="122040" rIns="122040" anchor="t">
                      <a:noAutofit/>
                    </a:bodyPr>
                    <a:p>
                      <a:pPr marL="88920" indent="8892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роект направлен на получение конкретного запланированного  результата – продукта, обладающего определенными свойствами, и который необходим для конкретного использования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22040" marR="1220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9900"/>
                      </a:solidFill>
                    </a:lnT>
                    <a:lnB>
                      <a:noFill/>
                    </a:lnB>
                    <a:solidFill>
                      <a:srgbClr val="ff9900">
                        <a:alpha val="20000"/>
                      </a:srgbClr>
                    </a:solidFill>
                  </a:tcPr>
                </a:tc>
                <a:tc>
                  <a:txBody>
                    <a:bodyPr lIns="122040" rIns="122040" anchor="t">
                      <a:noAutofit/>
                    </a:bodyPr>
                    <a:p>
                      <a:pPr marL="88920" indent="8892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 ходе исследования организуется поиск в какой-то области, формулируются отдельные характеристики итогов работы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22040" marR="1220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9900"/>
                      </a:solidFill>
                    </a:lnT>
                    <a:lnB>
                      <a:noFill/>
                    </a:lnB>
                    <a:solidFill>
                      <a:srgbClr val="ff9900">
                        <a:alpha val="20000"/>
                      </a:srgbClr>
                    </a:solidFill>
                  </a:tcPr>
                </a:tc>
              </a:tr>
              <a:tr h="2374920">
                <a:tc>
                  <a:txBody>
                    <a:bodyPr lIns="122040" rIns="122040" anchor="t">
                      <a:noAutofit/>
                    </a:bodyPr>
                    <a:p>
                      <a:pPr marL="88920" indent="8892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Реализацию проектных работ предваряет представление о будущем проекте, планирование процесса создания продукта и реализации этого плана. Результат проекта должен быть точно соотнесен со всеми характеристиками, сформулированными в его замысл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22040" marR="122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2040" rIns="122040" anchor="t">
                      <a:noAutofit/>
                    </a:bodyPr>
                    <a:p>
                      <a:pPr marL="88920" indent="8892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Исследование может вывести на результаты, которые не предполагались. Логика построения исследовательской деятельности включает формулировку проблемы исследования, выдвижение гипотезы (для решения этой проблемы) и последующую экспериментальную или модельную проверку выдвинутых предположений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22040" marR="122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7560">
                <a:tc>
                  <a:txBody>
                    <a:bodyPr lIns="122040" rIns="122040" anchor="t">
                      <a:noAutofit/>
                    </a:bodyPr>
                    <a:p>
                      <a:pPr marL="88920" indent="8892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аправлен на формирование всего комплекса УУД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22040" marR="122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9900"/>
                      </a:solidFill>
                    </a:lnB>
                    <a:solidFill>
                      <a:srgbClr val="ff9900">
                        <a:alpha val="20000"/>
                      </a:srgbClr>
                    </a:solidFill>
                  </a:tcPr>
                </a:tc>
                <a:tc>
                  <a:txBody>
                    <a:bodyPr lIns="122040" rIns="122040" anchor="t">
                      <a:noAutofit/>
                    </a:bodyPr>
                    <a:p>
                      <a:pPr marL="88920" indent="8892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Формируются прежде всего познавательные УУД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22040" marR="122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9900"/>
                      </a:solidFill>
                    </a:lnB>
                    <a:solidFill>
                      <a:srgbClr val="ff9900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7T15:21:54Z</dcterms:created>
  <dc:creator>Пользователь</dc:creator>
  <dc:description/>
  <dc:language>en-US</dc:language>
  <cp:lastModifiedBy>1</cp:lastModifiedBy>
  <dcterms:modified xsi:type="dcterms:W3CDTF">2018-11-21T17:40:56Z</dcterms:modified>
  <cp:revision>76</cp:revision>
  <dc:subject/>
  <dc:title>«Деление ядер урана»</dc:title>
</cp:coreProperties>
</file>