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A66-2BDE-4DC9-B558-3555C650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87F-EF12-46B4-9285-EC8A3181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F4BF-03B3-4953-A847-46D2D7E7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D05-B80B-4887-A22F-49FC986F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CAFD-814E-44E7-A6DE-5E9EFB15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F0A5-3263-4E3B-9CC4-08E51367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D345-5E3F-4F85-8ED6-737318B2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06E3-1A3C-4F4D-9DFC-8C7BAD2D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F919-6FE7-444D-95C9-F55E995F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11E9-E614-43B4-9C24-7503E6B4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683A-E8CB-42E7-85C2-C2116DF6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7903-F1C3-420E-8A47-1A3C0ED8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951F-1410-439E-8429-4733E4EB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FDC9-2D82-4E8B-936D-A7883BF7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2547-0857-42C9-8072-29B32D9E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DE3C-A462-411E-B845-1FDF573A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A314-08C0-42AC-8137-E9F01E22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9B10D-8E9D-45E2-8598-351F2FC7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A5301-21A4-4904-AE80-2E3AEE33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DBE53-1685-4047-9BC0-552ECDD1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075DC-E5C2-4F10-B893-EE529830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ACE1D-72D3-443F-9634-88424D3E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1BB0-77D0-417A-9331-7A838D3F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E587E-98D6-49D3-A262-DC4406FC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B63FE-5E33-448E-8CC9-1D21B837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FCF9E-60C2-47E8-B557-97FD56EE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61742-4E84-4835-95A4-F8E3C656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D89DB-41FD-40BC-A222-95E721EC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76AC3-1B2F-411D-AF38-002210E4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262DE-8761-4CCD-AA5F-D4B5E210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4FB7C-A50A-42C5-8761-130E4DEF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0BC57-D574-48A7-A2C4-682A2CB9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C12C7-6927-4614-863D-3F913E59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DFFA-A335-4884-A619-CFE6D782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C3636-919C-4ED0-94B7-DF2ADEEF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37C07-5680-43B4-A318-243E2FDB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EB167-3351-42BA-91E8-03C2F356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6A800-0519-468B-9BF0-5E0DF916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45A18-CFF5-4913-A16F-6B16EADE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90AD3-6B94-448E-B33D-C1EF22F7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361FA-9C85-4F85-B5D5-F90BCDB5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0530A-C848-4601-9D26-66EA83FE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342D4-DB64-4367-8356-CFBDA3DA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9DBEA-05E9-4E59-84AA-CB3D5567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245-4D59-4017-8C4A-BA7E8517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E3FE7-4A8E-4182-881F-5C51AD86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153CC-9D1E-4FD9-A666-9EACE976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E4EDC-E309-4694-989E-284C5CDF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D0C42-852C-497B-A861-8554B2F9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16E20-EAD6-43C5-AE4A-00C764C4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73378-36FB-407B-AAE8-2FA4BF5E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CE834-7DF0-4D9E-988B-7FA1FBA0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716BF-7A87-416B-BBD2-1D0696CB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AADC6-E3A2-470B-8396-FD8A9912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ABFF7-578C-471B-838E-C976B05A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1AD3-0C08-49D6-871C-BE88D6DD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8E0FD-2CC0-47E9-8E2C-EB115D53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7D0AD-F412-4DAA-B169-C92C2D0B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01920-0444-4DF0-87C3-5803FCD5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1020B-55AF-4DB5-B60C-89B0F3EC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BDA5B-CB5A-48BA-83F0-9354EBE2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DDE5F-F762-4C50-B780-DB468EB0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ABD25-0BAC-4F5E-AA72-991CC98D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FF0D4-82F6-4D8D-B73D-3DAE7699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467D4-4AD4-42F1-9D08-234E4A23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E19DE-A8B4-4C5A-916B-2F4FA0A3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E7B-EDEC-4D5F-8440-0D80192B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67012-D2F2-4FC9-8555-351EFB3E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564F6-82A0-4B1B-9595-BEA37070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58799-0909-4494-98A1-A0C96841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67C71-84E8-4A79-8C93-9A97A774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AAAD9-CE1B-4F6A-86B1-8970FF2F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6D62A-C6F3-4108-9B0D-10840241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04C69-89A6-4220-A4C8-C8B6C36F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CB66A-EC17-4AD1-B7C4-45F7143A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80575-2AD4-4E0F-923E-81ED9F77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52A9F-4B67-4716-A43B-61B198F4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F70-AB97-4AC6-ACC9-59D143C7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23A6C-3D92-459C-B0F5-491AB1F0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E2A74-893C-4805-89EF-A9871F55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6541A-FA96-4DE9-AD6B-C3D6B4FE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F0F99-F39F-4E78-B282-16665B56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744E5-D20D-41C6-B462-AE57947D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C8C24-1588-4A85-B893-B3DB8ACB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172BE-DCC1-4898-8318-6A47B193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024B4-2B32-466B-950E-71C6FAFF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092F5-B40E-4DFD-934B-5F21ADB8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C5921-EB35-4EAA-B296-EFFAF4F2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F32-F98A-49F1-AAA5-7EB68DD7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34A4F-112C-48D9-AA37-D11F5CF8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FDF03-B129-4C5A-834B-3117CA7F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54F08-2026-468C-B358-DDEF1093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9E4B1-2282-41F3-86EB-A9709A6C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A9577-E904-4BFE-BC41-20C32BF6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E8E15-A908-4471-B7DD-66852105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46385-F8A7-420C-80AF-77DDF80B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9D52-53FE-4E28-ACB7-FB57AC083147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3EC3-1377-48DC-B316-D826668485E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FB6F-8672-494A-A16B-E91FD0D6E0B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6790-3EAD-4ED7-A547-15617B5CEB9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7861-2FBD-4C6B-82DD-8624D36F7EE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A3D1-00D3-4062-841A-1CD67B47E5CB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8AC7-E4C1-432F-B48F-E4D66C24A99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73A3-92F9-48DB-ACD4-05B56D0B296A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4" descr=""/>
          <p:cNvPicPr/>
          <p:nvPr/>
        </p:nvPicPr>
        <p:blipFill>
          <a:blip r:embed="rId1"/>
          <a:stretch/>
        </p:blipFill>
        <p:spPr>
          <a:xfrm>
            <a:off x="298440" y="512640"/>
            <a:ext cx="8516880" cy="3846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440" y="5181480"/>
            <a:ext cx="807732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d4d4d6"/>
                </a:solidFill>
                <a:latin typeface="Times New Roman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рамках секции учителей физик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«Формы и методы работы учителя по повышению образовательных результатов по учебному предмету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990360" y="1600200"/>
            <a:ext cx="7692840" cy="4952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Оценка уровня квалификаци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Предмет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Метод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сихолого-педагог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Коммуникатив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!!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ттестация на Едином национальном портал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914040" y="1827360"/>
            <a:ext cx="7769160" cy="4573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ости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словий профессиональной деятель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инамике образовательных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ответствующих обучающихся за последние 5 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Сведения об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уальных достижениях учите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ключа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чет мнения обучающихся и выпуск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кончивших организацию не ранее, чем за 4 года до аттестации учителя (мнение выпускников на сайте путем заполнения опросного листа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365120" y="291960"/>
            <a:ext cx="73216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914400" y="1523880"/>
          <a:ext cx="8001000" cy="5015160"/>
        </p:xfrm>
        <a:graphic>
          <a:graphicData uri="http://schemas.openxmlformats.org/drawingml/2006/table">
            <a:tbl>
              <a:tblPr/>
              <a:tblGrid>
                <a:gridCol w="4002120"/>
                <a:gridCol w="39988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квалификации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результатов профессиональ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динамики образовательных результатов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1,00 до 1,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ые достижен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е более 2-х по 5 бал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балл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5+5, + 5 – мнение выпускник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!! Единый федеральный минимум баллов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50% от минимального количеств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9140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должен быть ознакомлен о сроках аттестац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 позднее, чем за 30 дн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начала аттестационных процедур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тификат выдаётся 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дан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ение с рекомендаци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совершенствованию профессиональной квалификации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ве формулировк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станови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ую) квалификационную категори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азать в установле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ей) квалификационной категории (Протокол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тестация не ранее, чем через 2 г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озднее, чем через 3 года (обязательная заявительная после 1 года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ые о прохождении аттестации сохраняются в Едином национальном портал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3" descr=""/>
          <p:cNvPicPr/>
          <p:nvPr/>
        </p:nvPicPr>
        <p:blipFill>
          <a:blip r:embed="rId1"/>
          <a:stretch/>
        </p:blipFill>
        <p:spPr>
          <a:xfrm>
            <a:off x="298440" y="2724120"/>
            <a:ext cx="8474040" cy="19270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8-11-07T07:28:55Z</dcterms:modified>
  <cp:revision>2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