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B5EA-EA31-43BF-8174-F5BEDDD5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8D00-5B0E-4C85-8202-288E24E0EA1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03D-10C2-4377-A781-CF9B5E13F1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9325-CA5D-46A0-B594-871357CA584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33C8-EC41-49F6-BF0D-E08CDEAE4D7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46530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1403"/>
                </a:solidFill>
                <a:latin typeface="Microsoft Sans Serif"/>
              </a:rPr>
              <a:t>Family Budget and Pocket Money for Teenagers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5714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MAEI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 «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SCS No.</a:t>
            </a:r>
            <a:r>
              <a:rPr b="0" lang="ru-RU" sz="1600" spc="-1" strike="noStrike">
                <a:solidFill>
                  <a:srgbClr val="3a1002"/>
                </a:solidFill>
                <a:latin typeface="Microsoft Sans Serif"/>
              </a:rPr>
              <a:t>65</a:t>
            </a:r>
            <a:r>
              <a:rPr b="0" lang="en-US" sz="1600" spc="-1" strike="noStrike">
                <a:solidFill>
                  <a:srgbClr val="3a1002"/>
                </a:solidFill>
                <a:latin typeface="Microsoft Sans Serif"/>
              </a:rPr>
              <a:t> with profound studies of the English language, Perm City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91403"/>
                </a:solidFill>
                <a:latin typeface="Microsoft Sans Serif"/>
              </a:rPr>
              <a:t>Answer the question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8137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1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ere do teenagers get their pocket money from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2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do teenagers spend their pocket money on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roup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3: </a:t>
            </a: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What are pros and cons of pocket money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Microsoft Sans Serif"/>
              </a:rPr>
              <a:t>Options of Family Budgets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9720" y="1916280"/>
            <a:ext cx="7286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Option 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1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resort package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294840" indent="-29484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 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2</a:t>
            </a: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ther’s salary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-  4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 000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Expenditures on food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1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School lunches –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2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 per two children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– 10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– 3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Buying a new fridge – 20,000 roubles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400" y="1412640"/>
            <a:ext cx="87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Option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 3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income</a:t>
            </a:r>
            <a:r>
              <a:rPr b="1" lang="ru-RU" sz="16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ther’s salary –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4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other’s salar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randfather’s pension allowenc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tal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: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money income –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7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00 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Family expenditures</a:t>
            </a:r>
            <a:r>
              <a:rPr b="0" lang="ru-RU" sz="1400" spc="-1" strike="noStrike" u="sng">
                <a:solidFill>
                  <a:srgbClr val="4d4d4d"/>
                </a:solidFill>
                <a:uFillTx/>
                <a:latin typeface="Microsoft Sans Serif"/>
              </a:rPr>
              <a:t>: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Expenses on food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3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0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ublic utilities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chool lunches – 1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two children (tea and a bun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Music school and sports club payment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he car service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– 5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medicines for grandfather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cloth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5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Unexpected expenditur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Buying stationary things and school things or school things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3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Pocket money for children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10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 per two children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Family entertainments 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(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going to the cinema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,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to a pizza restaurant or children cafe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) – 4000  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 per month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Saving for a holiday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 – 29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,</a:t>
            </a:r>
            <a:r>
              <a:rPr b="0" lang="ru-RU" sz="1400" spc="-1" strike="noStrike">
                <a:solidFill>
                  <a:srgbClr val="4d4d4d"/>
                </a:solidFill>
                <a:latin typeface="Microsoft Sans Serif"/>
              </a:rPr>
              <a:t>500 </a:t>
            </a:r>
            <a:r>
              <a:rPr b="0" lang="en-US" sz="1400" spc="-1" strike="noStrike">
                <a:solidFill>
                  <a:srgbClr val="4d4d4d"/>
                </a:solidFill>
                <a:latin typeface="Microsoft Sans Serif"/>
              </a:rPr>
              <a:t>roubles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34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tuations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000" y="24382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А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Mother and Father are planning expenditures for a month and their child insists on buying him an expensive phone.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B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Two teenagers share a room in a hostel and they are distributing a certain amount of money for a week. What do they have to take into account to do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C</a:t>
            </a:r>
            <a:r>
              <a:rPr b="1" lang="ru-RU" sz="1600" spc="-1" strike="noStrike">
                <a:solidFill>
                  <a:srgbClr val="4d4d4d"/>
                </a:solidFill>
                <a:latin typeface="Microsoft Sans Serif"/>
              </a:rPr>
              <a:t>. </a:t>
            </a:r>
            <a:r>
              <a:rPr b="1" lang="en-US" sz="1600" spc="-1" strike="noStrike">
                <a:solidFill>
                  <a:srgbClr val="4d4d4d"/>
                </a:solidFill>
                <a:latin typeface="Microsoft Sans Serif"/>
              </a:rPr>
              <a:t>Problem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A family of three people has got a large amount of money (lottery, heritage).</a:t>
            </a:r>
            <a:r>
              <a:rPr b="0" lang="ru-RU" sz="16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Microsoft Sans Serif"/>
              </a:rPr>
              <a:t>How to manage it properly?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What do you think of the ways a family can decrease their expenditures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?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42920" y="177300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e rules of managing money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5" name="Picture 2" descr="https://armblog.am/wp-content/uploads/2017/12/koshelek.jpg"/>
          <p:cNvPicPr/>
          <p:nvPr/>
        </p:nvPicPr>
        <p:blipFill>
          <a:blip r:embed="rId1"/>
          <a:stretch/>
        </p:blipFill>
        <p:spPr>
          <a:xfrm>
            <a:off x="1547640" y="3068640"/>
            <a:ext cx="55929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1403"/>
                </a:solidFill>
                <a:latin typeface="Microsoft Sans Serif"/>
              </a:rPr>
              <a:t>Do you understand now what  a family budget consist of?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5" descr="https://sliveninfo.bg/wp-content/uploads/2018/01/Strelbi-Batmish-3800x3816_c.png"/>
          <p:cNvPicPr/>
          <p:nvPr/>
        </p:nvPicPr>
        <p:blipFill>
          <a:blip r:embed="rId2"/>
          <a:stretch/>
        </p:blipFill>
        <p:spPr>
          <a:xfrm>
            <a:off x="3348000" y="2205000"/>
            <a:ext cx="349092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3T04:59:21Z</dcterms:created>
  <dc:creator>User</dc:creator>
  <dc:description/>
  <dc:language>en-US</dc:language>
  <cp:lastModifiedBy>1</cp:lastModifiedBy>
  <dcterms:modified xsi:type="dcterms:W3CDTF">2019-03-10T06:26:52Z</dcterms:modified>
  <cp:revision>39</cp:revision>
  <dc:subject/>
  <dc:title>Семейный бюджет и карманные деньги подростка</dc:title>
</cp:coreProperties>
</file>