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EC35-8FD0-40F1-A43B-350D3E939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8DF7-BBF2-4D16-A763-1EF0C818E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4B6C-60B9-4FC6-AD76-AA5F2E571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C3E7-9958-4D4D-97C7-3C063EC3A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2F9D-AC22-42DF-9501-0B6E563C8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5530-7D87-4362-8E2F-516C95E4E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E834-D280-4892-B60A-0AEFCDE2F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21EE-3437-4E0F-B755-0AAD02D39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41F0-7768-42EB-BB04-BA4197DB4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DCE3-77A9-4A54-99E8-2C3C93228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E500-8003-4C32-975D-628DA11A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4DDC-08F3-4EDA-9926-5C9692A4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C3519-6BA9-43CE-A5B3-405A702E99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кологически ориентированное взаимодействие с природ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ема: «Диалоги»              с природными объект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лоп - солдат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т клоп ярко и интересно окрашен: на черном фоне у него красный узор. Эта демонстративная окраска предупреждает чтобы его не ели. Для этого же клоп-солдатик использует свои пахучие желез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итается растительными остатками (старой корой, облетевшей листвой) и тоже является «чистильщиком» ле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лоп-солдат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124000" y="1557360"/>
            <a:ext cx="500076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урав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 отдельности это маленькие, незаметные насекомые, но всей своей семьей они строят красивые дома-муравейники, высотой часто превышающие рост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уравьи – известные трудяги, они все время работают, строят свое жилище, принося огромные по сравнению с ними хвоинки, щепки, лист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урав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00000" y="1390680"/>
            <a:ext cx="7128000" cy="50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528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уравьи занимаются «животноводством», выращивая и оберегая тлей, как мы – коров, и пьют сладкие их выделения - «молочко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анже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4327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Развернулся листик, как гармошка.       Между жилок – капельки воды.                            И растет травинка понемножку,             Вдоль дорожки, что ведет в сады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. Глу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643280" y="1413000"/>
            <a:ext cx="40388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ябл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лет зябликов, так же, как грачей и скворцов, знаменует наступление долгожданной весны. Они возвращаются из далеких стран, чтобы вырастить своих птенцов в родных мест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яблик поет очень красивую песню, наполняя весь лес своими мелодичными трел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87360" y="692280"/>
            <a:ext cx="38228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етучая мыш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етучая мышь – это не птица, а млекопитающее, приспособившееся к поле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рылья летучих мышей образованы широкой кожистой перепонкой между пальцами передних конечностей, туловищем и ног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етучая мыш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38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ночные животные, и у них превосходно развит слух. Благодаря этому они охотятся даже в пасмурную погоду, почти не пользуясь зр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смотря на устрашающий вид, это очень интересные, загадочные и полезные животные. Они уничтожают кровососущих насекомых: комаров и мош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836960" y="1557360"/>
            <a:ext cx="355464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олодцы, ребята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ы познакомились сегодня с неприметными, но такими важными обитателями смешанного лес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егодня пойдет рассказ о незаметных на первый взгляд, но очень интересных и полезных обитателях смешанного леса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35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лахитово-зеленый покров мхов – самая характерная черта смешанных лесов. Внимательно присмотревшись, можно увидеть, что слоевище мхов прикрепляется к почве тонкими, нежными, похожими на корешки, нитями. Даже слабое нарушение подстилки при вытаптывании ведет к отмиранию мх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68360" y="3068640"/>
            <a:ext cx="4537080" cy="31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укушкин ле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т мох напоминает миниатюрную елочку. Стебельки гордо растут прямо и не ветвятся, достигая 50 сантиметров. Тогда как большинство других мхов «головы» не поднимают от земли -  стелю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дный настой кукушкина льна используют при кашле, отваром моют волосы при выпаде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424720" cy="532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укушкин ле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риб - трутов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т гриб растет только на березах, но заражаются в первую очередь деревья больные и ослаблен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ревесина, пораженная данным грибом, становится трухлявой и при растирании превращается в порош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иб помогает очистить лес от больных деревьев, выполняя роль санита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риб - трутов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16000" y="1270080"/>
            <a:ext cx="6912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аук-вол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 единственный бродячий паук в наших лесах. Бродячий потому, что никогда не плетет паутину. Он охотится как волк, подстерегая свою добыч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Живет на поверхности почвы и ведет  дневной образ жиз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ук-волк оказывает большую пользу лесу, уничтожая вредных насеком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аук-вол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71640" y="1201680"/>
            <a:ext cx="7345440" cy="52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3T04:50:38Z</dcterms:created>
  <dc:creator>Lib</dc:creator>
  <dc:description/>
  <dc:language>en-US</dc:language>
  <cp:lastModifiedBy>Lib</cp:lastModifiedBy>
  <dcterms:modified xsi:type="dcterms:W3CDTF">2008-11-13T06:29:20Z</dcterms:modified>
  <cp:revision>2</cp:revision>
  <dc:subject/>
  <dc:title>Экологически ориентированное взаимодействие с природой</dc:title>
</cp:coreProperties>
</file>