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D750-A9F0-4354-8E8E-E52B616A1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493C-D1F6-4683-AFB7-2A42DFEB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58E6-2DEF-4B5B-BF1C-0AFBCC09F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75B1-654F-4DEC-AB7D-F12F12FB7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43B7-B766-4A25-9DFD-3FE60D9C6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E656-3887-408B-B398-F396BFDA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F488D-44BF-4A6F-9B51-98FED37D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D748-EB16-4AD5-93A6-C1C0B793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FE12-70D5-4CF4-B780-9C2451699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B4E0-A47B-49B6-83D9-3F4B3027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21A3-8C61-46D4-8775-AF52812D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E4F7-6000-4E33-BCFF-9A09DD48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0A01-7ED9-497A-A704-AC492B32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4BD8-C38E-449F-BF41-1A4C70EF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683D-C1E5-4D38-AB35-54E44AC9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EC45A-EFAB-4FA6-B1FA-6ABBFF8FC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2393-DFB3-48A6-B18E-DEEBA94EF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0DA6-8A99-43D9-87C1-1721830E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8CA2-7E75-43E5-8CE3-CBDB138F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C8E7-6C5D-4FA2-8887-A37221FF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8A44-FECF-4D80-B027-AF25C4D4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D331-F97C-493E-90AA-2D7BC53D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5953-F9BE-461C-832C-4F5DF9C1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F975-BFCB-4A24-ADA1-C1A92019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46AC-DFC6-4D59-A838-6009AE9B89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5621-9DC0-4E50-92D9-1538F27D82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10920" y="404280"/>
            <a:ext cx="6046920" cy="20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7391520" cy="430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403280" y="1773360"/>
            <a:ext cx="741672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зеленение город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Это может сделать каждый! Сделаем наш город чистым, красивым и уютным!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195640" y="3068640"/>
            <a:ext cx="471960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Только 8 предприятий города готовы соблюдать требования экологического законодательства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Из 68 предприятий города только 8 заключили договора на функционирование санитарно-защитной зоны (СЗЗ)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47280" y="1700280"/>
            <a:ext cx="4751640" cy="46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В городе три главных источника выброса ядовитых веществ в атмосферу: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7920" indent="3780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Выбросы КЦБК "Кама"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7920" indent="3780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Выхлопные газы транспорта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7920" indent="3780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Полигон бытовых отходов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9" name="" descr="КЦБК.jpg, 21179 bytes"/>
          <p:cNvPicPr/>
          <p:nvPr/>
        </p:nvPicPr>
        <p:blipFill>
          <a:blip r:embed="rId1"/>
          <a:stretch/>
        </p:blipFill>
        <p:spPr>
          <a:xfrm>
            <a:off x="6156360" y="1628640"/>
            <a:ext cx="276840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и здоровь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00120" y="1777680"/>
            <a:ext cx="7491600" cy="446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В течение нескольких лет более 400 краснокамских детей были обследованы сотрудниками института экология и выявили рост содержащихся в их организме: свинца, хрома, фенола и бензола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В 2000 году фенол влияющий на систему крови, печени и почек, обнаруживался у 25 % обследованных детей, то в 2003 году - уже у 87 %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и здоровь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При попадании в организм: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сернистого ангидрида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 - развиваются такие заболевания, как бронхиальная астма, нефрит, хронический отит, ДЦП, сахарный диабет, аномалии системы кровообращения;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фенола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 - бронхиальная астма, стенокардия, сахарный диабет, гипертония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и здоровь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Город занимает 18 место по уровню смертности в области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По уровню смертности от новообразований. Краснокамск занимает седьмое место: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53 % - болезни системы кровообращения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4 % - органы пищеварения,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6 % - органы дыхания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По уровню общей заболеваемости на 21 месте, а детей на 7 месте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редприятия город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652400" y="1279080"/>
            <a:ext cx="7491240" cy="431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КЦБК «Кама",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"ТЭЦ-5",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"Свинокомплекс" - 71 % вредных выбросов в воздух и 83 % всех загрязнений окружающей среды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100 тысяч тонн так называемых нефтеочистк находится на небольшой глубине под слоем грунта в водоохраной зоне в районе деревни Шилова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76000" y="404280"/>
            <a:ext cx="7488360" cy="15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ля изменения экологической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безопасност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необходимо решить следующие основные задачи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47640" y="2133360"/>
            <a:ext cx="7345440" cy="42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реализовать комплексные меры по улучшению экологической ситуации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проводить медико-экологическую реабилитацию населения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способствовать снижению техногенной нагрузки на окружающую среду от выбросов и сбросов загрязняющих веществ и размещения отходов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1:28:39Z</dcterms:created>
  <dc:creator>01</dc:creator>
  <dc:description/>
  <dc:language>en-US</dc:language>
  <cp:lastModifiedBy>admin</cp:lastModifiedBy>
  <dcterms:modified xsi:type="dcterms:W3CDTF">2007-01-24T02:26:54Z</dcterms:modified>
  <cp:revision>6</cp:revision>
  <dc:subject/>
  <dc:title>Экология Краснокамска</dc:title>
</cp:coreProperties>
</file>