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C1E-7A17-4744-8E8F-B1CCF98C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272-E9B7-44E3-BFF8-B7389BE3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439-244E-4E53-B69D-F6118716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4E1-9194-4BDE-84B2-2B19F511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E5AC-D5A3-4143-8546-DC502BE7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898E-ACB0-434E-9FBB-2CAB6556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94FB-F0AA-4914-BC67-66654EDB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9ADA-A417-475D-A6F1-9EAFA74F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B68B-9B73-4C29-892F-3F132C50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9E11-29C1-4516-8764-7DDE8930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9DD0-E861-4E3B-B934-3E4680B2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CA7F-49BA-4F64-A985-82FD16CD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1CC2-2795-425A-B566-46C7840C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9512-F7E0-495D-8FE3-57C78A44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6AC6-D64F-4EF6-B572-E5EE6083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B71F-F80B-4491-9198-242925A1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F1A2-AAC7-4A0C-885A-1445C3F5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2CD-93D7-4BCA-B11A-5713555F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4E4-5E08-4F80-B062-F3DF9645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E2D-6FF2-4D23-A41A-1B459C12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6C0A-878E-4D77-9EEB-792B41DC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FA5F-2467-45FD-8F41-C76CED4E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70A-F605-417C-9A76-5B5E7C4F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C40-9643-4F0E-B533-1EBED21E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D08B-32F7-49B6-822D-A1054B592E4E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A881-96FC-405B-8B10-B0DE59E09F51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Экология жилища и здоровь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остоянно идет процесс пылеобразования - вытираются ковровые покрытия, осыпается и вышаркивается краска, с улицы попадает пыль и выхлопные газы автомобилей, люди и домашние животные теряют волосы, кожный эпителий, перхоть и т.д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ыль является транспортным средством для распространения бактерий и вирусов и способствует возникновению и распространению эпидемий.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ь в квартир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3040" r="0" b="3040"/>
          <a:stretch/>
        </p:blipFill>
        <p:spPr>
          <a:xfrm>
            <a:off x="324000" y="1844640"/>
            <a:ext cx="2879640" cy="446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48000" y="2133720"/>
            <a:ext cx="54007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Знаете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ли Вы о том, что в стандартной трехкомнатной квартире в год образуется до 40 кг. пыли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Человек за сутки вдыхает до 12 тыс. литров воздуха, в одном литре которого содержится до 500 тыс. пылинок.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В 28 гр. пыли живет до 42 000 пылевых клещей, продукты жизнедеятельности которых являются самыми мощными из известных на сегодняшний день аллергенов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Клещ может стать постоянным спутником человека на протяжении всей его жизни. Основным питанием для клеща являются омертвевшие клетки кожи. В год человек теряет до двух кг. кожи, основная масса которой остается на постельном белье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Основную опасность для человека представляют как сами клещи, так и продукты его жизнедеятельности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70% аллергических заболеваний дыхательных путей обусловлены присутствием именно этих веществ.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00000" y="2060640"/>
            <a:ext cx="6443640" cy="44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збавится от клеща обычными средствами практически невозможно. Губительными для него являются только природные условия - обогащенный озоном воздух, ультрафиолетовое излучение и естественный уровень ионизации воздуха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6654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Силикоз лёгкого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64000" y="1916280"/>
            <a:ext cx="5045040" cy="42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Это профессиональная болезнь шахтеров, аналогичные изменения наблюдаются у жителей городов с высоким уровнем загрязнения воздуха выбросами промышленных предприятий, выхлопными газами автомобилей и сжиганием угля на ТЭЦ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4960" y="1916280"/>
            <a:ext cx="318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Чистый воздух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Высоко ионизированный воздух горных курортов способствовал в начале 20 века излечению от начальных форм туберкулеза, а в настоящее время рекомендуется для лечения и уменьшения приступов бронхиальной астмы и дыхательной аллергии и т.д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Очевидно - дышать чистым и свежим воздухом полезно, люди, работающие на свежем воздухе, бодрее и здоровее работающих в закрытых и плохо проветриваемых помещениях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Narrow"/>
              </a:rPr>
              <a:t>Вопросы для самопроверки:</a:t>
            </a:r>
            <a:endParaRPr b="0" lang="en-US" sz="44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9776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сточники загрязнения воздуха на улице и в помещении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етоды борьбы с пылью в домашних условиях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икроклимат жилища и его воздействие на здоровье человека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Практическая работа: «Измерение температуры, влажности воздуха в жилых помещениях.»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9:08:09Z</dcterms:created>
  <dc:creator>01</dc:creator>
  <dc:description/>
  <dc:language>en-US</dc:language>
  <cp:lastModifiedBy>uchitel</cp:lastModifiedBy>
  <dcterms:modified xsi:type="dcterms:W3CDTF">2007-01-20T06:45:12Z</dcterms:modified>
  <cp:revision>6</cp:revision>
  <dc:subject/>
  <dc:title>Слайд 1</dc:title>
</cp:coreProperties>
</file>