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A6E-5089-49C7-AC37-F9FC38F7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6F6-7108-4C7A-B2C2-99D297E9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2B9-194C-41C8-9B1F-6AD88611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7EC-4D78-40A4-9FB5-273BE872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201B-8A95-43E5-8E64-16332232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7619-F24F-49D3-AA4F-5435BB1F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92DC-BE0F-4B85-956A-2C323FD8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09EA-0C53-4A70-80DE-FAE184B3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926B-3923-416C-AD67-83CF715B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65D8-25F5-4502-9572-0295A386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10AF-3473-4345-9399-3BF207E5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53C-BE1B-4D68-9F70-6555750E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72E7-7C70-4CEC-B9FD-B84D8927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DB5B-418D-4229-8FFA-7B7D8C05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4904-B04E-4A18-8700-6D5A1E52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724B-5F98-43FF-81A4-4C0D764A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3C9A-F0B5-4E67-8182-DCAB78DC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0B13-9FE4-4FC5-AB4E-138B009F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97C9-1B6E-4609-BE2D-05F00E59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442C-8870-4B34-8D5B-37522908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C48-42C6-4A5F-8F4D-6EF96EDD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9D21-9338-4B14-A602-B158FB9C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98E-F9BA-45DB-B433-E4BF45A5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BD4-B741-4FF7-B7F7-210F6951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CE90-0262-4470-8A21-97747DA71C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51DB-74D7-46E5-BE63-F3AB6298AF7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mama.ru/image_show.html?url=images/2007-09/24/1190611257-7378333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сметика: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юсы и мин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28840" y="428760"/>
            <a:ext cx="63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евой эколого-биологический цен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"/>
          <p:cNvPicPr/>
          <p:nvPr/>
        </p:nvPicPr>
        <p:blipFill>
          <a:blip r:embed="rId1"/>
          <a:stretch/>
        </p:blipFill>
        <p:spPr>
          <a:xfrm>
            <a:off x="3286080" y="278604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500280" y="61437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мь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8692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рная подводка зрительно уменьшает глаза и придаёт вашему лицу усталое выраже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[96]"/>
          <p:cNvPicPr/>
          <p:nvPr/>
        </p:nvPicPr>
        <p:blipFill>
          <a:blip r:embed="rId1"/>
          <a:stretch/>
        </p:blipFill>
        <p:spPr>
          <a:xfrm>
            <a:off x="6786720" y="1857240"/>
            <a:ext cx="2143080" cy="2767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214308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макияж выглядел естественно, достаточно подчеркнуть одну деталь, например, глаза. Губы можно оставить нейтральными или наобо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2920" y="4786200"/>
            <a:ext cx="90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макияж, следует учитывать его назначение и возраст. Надо соблюдать меру, помнить о том, что большой слой красок не придает красот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2920" y="1581120"/>
            <a:ext cx="8501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год в женский организм поступает до 2,5 кг косметики. Часто это приносит  не пользу, а серьезный вре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4200" y="92880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85880" y="3286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роченные средства могут таить в себе угрозу занесения инфекции и раздражения к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14200" y="4714920"/>
            <a:ext cx="8534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е считают, что некоторые искусственные компоненты косметических средств, попадая в организм, могут даже спровоцировать развитие онкологических заболе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2920" y="1571760"/>
            <a:ext cx="61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ывайся перед сном: косметика закупоривает поры кожи и не дает коже дышать. Это приводит к появлению прыщей, отечности, землистому цвету лица и воспалени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42920" y="46116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 осторожными следует быть с натуральной косметикой, т.к. она не содержит консервантов и быстрее подвергается порче. При первых симптомах раздражения ее использование необходимо прекрат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1190611191-56955996"/>
          <p:cNvPicPr/>
          <p:nvPr/>
        </p:nvPicPr>
        <p:blipFill>
          <a:blip r:embed="rId1"/>
          <a:stretch/>
        </p:blipFill>
        <p:spPr>
          <a:xfrm>
            <a:off x="6000840" y="2214720"/>
            <a:ext cx="295884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"/>
          <p:cNvSpPr/>
          <p:nvPr/>
        </p:nvSpPr>
        <p:spPr>
          <a:xfrm>
            <a:off x="214200" y="8571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38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7" descr="знак1"/>
          <p:cNvPicPr/>
          <p:nvPr/>
        </p:nvPicPr>
        <p:blipFill>
          <a:blip r:embed="rId1"/>
          <a:srcRect l="34924" t="36020" r="36848" b="41768"/>
          <a:stretch/>
        </p:blipFill>
        <p:spPr>
          <a:xfrm>
            <a:off x="357120" y="2143080"/>
            <a:ext cx="2716200" cy="2071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428760" y="10000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боре косметики обрати внимание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наки упак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500280" y="2500200"/>
            <a:ext cx="517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ция не тестируется на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1" descr="знак2"/>
          <p:cNvPicPr/>
          <p:nvPr/>
        </p:nvPicPr>
        <p:blipFill>
          <a:blip r:embed="rId2"/>
          <a:srcRect l="26750" t="36069" r="26822" b="36167"/>
          <a:stretch/>
        </p:blipFill>
        <p:spPr>
          <a:xfrm>
            <a:off x="5572080" y="3786120"/>
            <a:ext cx="3154320" cy="2782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285840" y="5500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аковки могут быть переработ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56920" y="1484280"/>
            <a:ext cx="6247080" cy="35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знак3"/>
          <p:cNvPicPr/>
          <p:nvPr/>
        </p:nvPicPr>
        <p:blipFill>
          <a:blip r:embed="rId1"/>
          <a:srcRect l="27720" t="34949" r="29838" b="37701"/>
          <a:stretch/>
        </p:blipFill>
        <p:spPr>
          <a:xfrm>
            <a:off x="357120" y="1285920"/>
            <a:ext cx="2838600" cy="2697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6"/>
          <p:cNvSpPr/>
          <p:nvPr/>
        </p:nvSpPr>
        <p:spPr>
          <a:xfrm>
            <a:off x="3429000" y="12859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ы натуральные ингреди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" descr="знак5"/>
          <p:cNvPicPr/>
          <p:nvPr/>
        </p:nvPicPr>
        <p:blipFill>
          <a:blip r:embed="rId2"/>
          <a:srcRect l="23753" t="27730" r="30413" b="33259"/>
          <a:stretch/>
        </p:blipFill>
        <p:spPr>
          <a:xfrm>
            <a:off x="5786280" y="342900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0"/>
          <p:cNvSpPr/>
          <p:nvPr/>
        </p:nvSpPr>
        <p:spPr>
          <a:xfrm>
            <a:off x="1857240" y="55008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разрушают озоновый сл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асота любой цено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космети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3640" y="2781000"/>
            <a:ext cx="3456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ства для ухода за кожей, волосами, зубами и ногтями (крем, лосьон, пудра, шампунь и т. п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Text Box 4" descr=""/>
          <p:cNvPicPr/>
          <p:nvPr/>
        </p:nvPicPr>
        <p:blipFill>
          <a:blip r:embed="rId1"/>
          <a:stretch/>
        </p:blipFill>
        <p:spPr>
          <a:xfrm>
            <a:off x="981000" y="1316160"/>
            <a:ext cx="6639120" cy="1055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2924280"/>
            <a:ext cx="30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о средствах и методах улучшения внешност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500720" y="2421000"/>
            <a:ext cx="79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2411280" y="242100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9" descr="1190610957-aog50798"/>
          <p:cNvPicPr/>
          <p:nvPr/>
        </p:nvPicPr>
        <p:blipFill>
          <a:blip r:embed="rId2"/>
          <a:stretch/>
        </p:blipFill>
        <p:spPr>
          <a:xfrm>
            <a:off x="3059280" y="3573360"/>
            <a:ext cx="1962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я косме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377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древние египтяне, римляне, арабы подкрашивали щёки, ресницы, веки, завивали волосы, использовали благовонные масла, заменяющие дух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ссии примерно лет сто назад женщины коптили мыло на свечке и красили этой копотью ресницы, натирали щеки свекольным соком, а чтобы губы были красными - мазали их жгучим перц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е развитие косметики началось в 19 ве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 космети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Схема 8" descr=""/>
          <p:cNvPicPr/>
          <p:nvPr/>
        </p:nvPicPr>
        <p:blipFill>
          <a:blip r:embed="rId1"/>
          <a:stretch/>
        </p:blipFill>
        <p:spPr>
          <a:xfrm>
            <a:off x="1609560" y="993600"/>
            <a:ext cx="6077160" cy="277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357120" y="400068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: профилактика и лечение заболеваний и косметических недостатков кожи, волос, уход за ногтями и полостью 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714920" y="39290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 косметическими средствами сделать менее заметными или скрыть некоторые дефекты внешности, оттенить отдельные черты лиц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сметическо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дукц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0" y="4820760"/>
            <a:ext cx="624204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дры, губные помады, грим, карандаши для бровей, век, тушь для ресниц, румяна, лаки для ногтей и волос, краски и восстановители для волос, брио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214200" y="185724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гие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285840" y="26431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чеб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85840" y="34290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85840" y="52862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кора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929040" y="178596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метические средства по уходу за зубами (зубные пасты, порошки), ртом (жидкость для полоскания рта), кожей лица, головы и тела (кремы, лосьоны, мыла), средства от пота (тальк и др., освежающие лось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дбирайте косметические средства, соответствующие типу вашей кож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28760" y="24289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ользуйтесь средствами для        своей      возрастной катег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00280" y="357192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ыбирайте средства в соответствии с индивидуальной чувствительностью своей кожи, не забывайте про аллер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женщ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040" y="4071960"/>
            <a:ext cx="290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47640" y="1628640"/>
            <a:ext cx="72979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476360" y="4221000"/>
            <a:ext cx="39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85840" y="143316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бязательно проверяйте срок годности косметически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85840" y="271476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Приобретайте косметику в специально предназначенных для этого местах. Никаких рынков или  подземных переходов метро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28760" y="47149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Прежде чем покупать косметику новой фирмы, узнайте о ней как можно больш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4200" y="1214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егодня существует множество средств для создания красоты. Необходимо лишь знать чувство меры и уметь правильно использовать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85840" y="378612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анесении макияжа стоит учитывать цвет кожи, а также эффект, которого вы хотите доби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5840" y="1143000"/>
            <a:ext cx="5286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зя злоупотреблять тональным кремом, он  должен быть незаметным на ли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ишком светлая основа придаёт лицу неестественную бледность и уста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1190611338-dv1887011"/>
          <p:cNvPicPr/>
          <p:nvPr/>
        </p:nvPicPr>
        <p:blipFill>
          <a:blip r:embed="rId1"/>
          <a:stretch/>
        </p:blipFill>
        <p:spPr>
          <a:xfrm>
            <a:off x="5572080" y="1571760"/>
            <a:ext cx="31813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9:43:45Z</dcterms:created>
  <dc:creator>SSG</dc:creator>
  <dc:description/>
  <dc:language>en-US</dc:language>
  <cp:lastModifiedBy>Пользователь</cp:lastModifiedBy>
  <dcterms:modified xsi:type="dcterms:W3CDTF">2008-11-14T05:52:59Z</dcterms:modified>
  <cp:revision>57</cp:revision>
  <dc:subject/>
  <dc:title>Красота не любой ценой</dc:title>
</cp:coreProperties>
</file>