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BFC-18B3-436E-87A3-93D9001E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0878-319E-4B31-9F9A-AD7DE71E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79E1-CE7B-45CC-89E9-C66B5177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4C9E-9FA3-452D-A0E8-02FAB9F3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C8FF-7264-499F-8F2B-04F1E0B9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E665-4316-4205-86F0-3A913C74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096E-FD33-4CCC-9AD9-F8ED518C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9061-02CF-46FD-A340-E9841D9C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F279-96DA-4AD8-B3B7-4F963479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821F-04E5-4128-BB22-12CA4606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5B16-A33C-4F0D-AC74-961B9EA3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AF82-7D10-49C6-BC64-23188211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4240-0B52-4105-8414-4D17A713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23ED-2ADE-499C-B54E-DA195959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D83D-C2D6-4156-89FC-9F3EA428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C881-3292-49A8-9169-DF3C7623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487B-CE91-4D07-898D-C32FAF6B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4567-99F4-4F53-80C3-E8C6037A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B20-0D04-4B9F-BF39-06A03D00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6F4-245F-43DB-9CB1-7B6C6508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8B9-A3C4-4BDD-A682-870F3743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0E5-8835-4F13-8180-95179ED8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83A-B0D7-4C71-BD7A-6E9E7465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F761-8518-47BE-B0E9-87FC6412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8802-74E3-4C76-B372-C2E4B0247BF1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57D5-21DB-447C-8BEC-1EDA2A20BA0F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Экология жилища и здоровь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остоянно идет процесс пылеобразования - вытираются ковровые покрытия, осыпается и вышаркивается краска, с улицы попадает пыль и выхлопные газы автомобилей, люди и домашние животные теряют волосы, кожный эпителий, перхоть и т.д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ыль является транспортным средством для распространения бактерий и вирусов и способствует возникновению и распространению эпидемий.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ь в квартир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3040" r="0" b="3040"/>
          <a:stretch/>
        </p:blipFill>
        <p:spPr>
          <a:xfrm>
            <a:off x="324000" y="1844640"/>
            <a:ext cx="2879640" cy="446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48000" y="2133720"/>
            <a:ext cx="54007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Знаете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ли Вы о том, что в стандартной трехкомнатной квартире в год образуется до 40 кг. пыли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Человек за сутки вдыхает до 12 тыс. литров воздуха, в одном литре которого содержится до 500 тыс. пылинок.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В 28 гр. пыли живет до 42 000 пылевых клещей, продукты жизнедеятельности которых являются самыми мощными из известных на сегодняшний день аллергенов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Клещ может стать постоянным спутником человека на протяжении всей его жизни. Основным питанием для клеща являются омертвевшие клетки кожи. В год человек теряет до двух кг. кожи, основная масса которой остается на постельном белье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Основную опасность для человека представляют как сами клещи, так и продукты его жизнедеятельности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70% аллергических заболеваний дыхательных путей обусловлены присутствием именно этих веществ.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00000" y="2060640"/>
            <a:ext cx="6443640" cy="44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збавится от клеща обычными средствами практически невозможно. Губительными для него являются только природные условия - обогащенный озоном воздух, ультрафиолетовое излучение и естественный уровень ионизации воздуха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6654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Силикоз лёгкого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64000" y="1916280"/>
            <a:ext cx="5045040" cy="42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Это профессиональная болезнь шахтеров, аналогичные изменения наблюдаются у жителей городов с высоким уровнем загрязнения воздуха выбросами промышленных предприятий, выхлопными газами автомобилей и сжиганием угля на ТЭЦ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4960" y="1916280"/>
            <a:ext cx="318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Чистый воздух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Высоко ионизированный воздух горных курортов способствовал в начале 20 века излечению от начальных форм туберкулеза, а в настоящее время рекомендуется для лечения и уменьшения приступов бронхиальной астмы и дыхательной аллергии и т.д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Очевидно - дышать чистым и свежим воздухом полезно, люди, работающие на свежем воздухе, бодрее и здоровее работающих в закрытых и плохо проветриваемых помещениях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Narrow"/>
              </a:rPr>
              <a:t>Вопросы для самопроверки:</a:t>
            </a:r>
            <a:endParaRPr b="0" lang="en-US" sz="44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9776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сточники загрязнения воздуха на улице и в помещении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етоды борьбы с пылью в домашних условиях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икроклимат жилища и его воздействие на здоровье человека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Практическая работа: «Измерение температуры, влажности воздуха в жилых помещениях.»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9:08:09Z</dcterms:created>
  <dc:creator>01</dc:creator>
  <dc:description/>
  <dc:language>en-US</dc:language>
  <cp:lastModifiedBy>uchitel</cp:lastModifiedBy>
  <dcterms:modified xsi:type="dcterms:W3CDTF">2007-01-20T06:45:12Z</dcterms:modified>
  <cp:revision>6</cp:revision>
  <dc:subject/>
  <dc:title>Слайд 1</dc:title>
</cp:coreProperties>
</file>