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4907-4256-47E2-858F-8ED374C4D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212B-65DB-4C0E-BC7D-9DA53D82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D8BA-1949-46CD-B7E4-43C2A6D7A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EEE8-6374-4278-887A-86DEC5519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EFFA-4F18-4E73-8340-76831E48D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C12E9-CC8C-4E93-87BE-DCC1268D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4020C-24F4-488A-AF29-F13BD77B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C040-1E94-46DF-83EE-8332A01B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5E0D-DF59-4D66-A2E7-B327DB1C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631E-A3DB-45DA-B4DA-1188C7CA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6EE16-2E4C-4099-99EA-A0AD23E6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F805-3C17-4A65-9C23-37FB0DDC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981F4-698F-4F2E-BC74-100C47F5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9AF0-B5B4-46B2-94E9-946798DB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5F051-326A-43E1-9CA5-68962720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5F12-1202-44A7-81BA-D7A8244FD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AAC4-A9D3-4F04-BE1C-A6FE43242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F6C5-7591-4A37-B56E-59C02169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9299-AB99-4AE3-9E2D-F31B15B6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1CB4-5508-4656-961C-94670A6C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3BBE-6C4F-4815-9383-11422B96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2FA9-E02D-4536-B314-7B11E650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27E3-0FC4-459D-A47A-9747F79F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8B60-6BC5-44FA-819A-262BEEC9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43DA-E5EE-46B7-AF6C-C56B892764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C422-A0FD-4F4D-92E7-9A7BD945F0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10920" y="404280"/>
            <a:ext cx="6046920" cy="20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7391520" cy="430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403280" y="1773360"/>
            <a:ext cx="741672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зеленение город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Это может сделать каждый! Сделаем наш город чистым, красивым и уютным!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195640" y="3068640"/>
            <a:ext cx="471960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Только 8 предприятий города готовы соблюдать требования экологического законодательства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Из 68 предприятий города только 8 заключили договора на функционирование санитарно-защитной зоны (СЗЗ)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47280" y="1700280"/>
            <a:ext cx="4751640" cy="46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В городе три главных источника выброса ядовитых веществ в атмосферу: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7920" indent="3780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Выбросы КЦБК "Кама"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7920" indent="3780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Выхлопные газы транспорта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7920" indent="3780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Полигон бытовых отходов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9" name="" descr="КЦБК.jpg, 21179 bytes"/>
          <p:cNvPicPr/>
          <p:nvPr/>
        </p:nvPicPr>
        <p:blipFill>
          <a:blip r:embed="rId1"/>
          <a:stretch/>
        </p:blipFill>
        <p:spPr>
          <a:xfrm>
            <a:off x="6156360" y="1628640"/>
            <a:ext cx="276840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и здоровь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00120" y="1777680"/>
            <a:ext cx="7491600" cy="446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В течение нескольких лет более 400 краснокамских детей были обследованы сотрудниками института экология и выявили рост содержащихся в их организме: свинца, хрома, фенола и бензола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В 2000 году фенол влияющий на систему крови, печени и почек, обнаруживался у 25 % обследованных детей, то в 2003 году - уже у 87 %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и здоровь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При попадании в организм: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сернистого ангидрида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 - развиваются такие заболевания, как бронхиальная астма, нефрит, хронический отит, ДЦП, сахарный диабет, аномалии системы кровообращения;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фенола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 - бронхиальная астма, стенокардия, сахарный диабет, гипертония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и здоровь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Город занимает 18 место по уровню смертности в области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По уровню смертности от новообразований. Краснокамск занимает седьмое место: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53 % - болезни системы кровообращения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4 % - органы пищеварения,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6 % - органы дыхания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По уровню общей заболеваемости на 21 месте, а детей на 7 месте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редприятия город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652400" y="1279080"/>
            <a:ext cx="7491240" cy="431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КЦБК «Кама",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"ТЭЦ-5",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"Свинокомплекс" - 71 % вредных выбросов в воздух и 83 % всех загрязнений окружающей среды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100 тысяч тонн так называемых нефтеочистк находится на небольшой глубине под слоем грунта в водоохраной зоне в районе деревни Шилова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76000" y="404280"/>
            <a:ext cx="7488360" cy="15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ля изменения экологической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безопасност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необходимо решить следующие основные задачи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47640" y="2133360"/>
            <a:ext cx="7345440" cy="42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реализовать комплексные меры по улучшению экологической ситуации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проводить медико-экологическую реабилитацию населения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способствовать снижению техногенной нагрузки на окружающую среду от выбросов и сбросов загрязняющих веществ и размещения отходов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1:28:39Z</dcterms:created>
  <dc:creator>01</dc:creator>
  <dc:description/>
  <dc:language>en-US</dc:language>
  <cp:lastModifiedBy>admin</cp:lastModifiedBy>
  <dcterms:modified xsi:type="dcterms:W3CDTF">2007-01-24T02:26:54Z</dcterms:modified>
  <cp:revision>6</cp:revision>
  <dc:subject/>
  <dc:title>Экология Краснокамска</dc:title>
</cp:coreProperties>
</file>