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move the slide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E8DD-C31F-483C-B4DE-1D8401EC7FD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617BB-5B0E-432D-9FC6-F4DE5A3583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Дата 4"/>
          <p:cNvSpPr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 августа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Нижний колонтитул 5"/>
          <p:cNvSpPr/>
          <p:nvPr/>
        </p:nvSpPr>
        <p:spPr>
          <a:xfrm>
            <a:off x="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барь В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Верхний колонтитул 6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8ED8-C478-4CBD-9107-04D0DA31F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AF6A-EB38-4E6B-9971-CF6D0E5FB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678E-7141-42F9-9200-0AF05CC7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1248-1D87-4ED0-88C4-37FCF790D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C80C-D9C9-43A2-AB98-A52EE7CCA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AAF8D-37EF-4A0D-97C8-DF4AC91CD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5F6C-787F-47D7-A3D3-F9A9A1B9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645-9C3C-48A5-9481-44E9E458A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047CB-BBCA-4DC0-ACD7-34F0AF17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3C47-DDFC-4103-865A-D75979ABA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8727-285A-4F7A-A581-0AEBE2E2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18BC-CBBB-4F0D-B892-CE8A46AB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0D4A-29A8-4C2E-B9B2-460A205F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E956E-EA9E-44F9-8131-3B87FD63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9490-BD84-45F6-AA97-0379D3822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7C146-4D53-4E30-A88F-6913792F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2010-18D1-4F8C-82BF-7B2F253E2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6B41-9C17-488C-9A79-BDDF08FAE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F0A-58B4-45A7-9156-C92C9120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3C5-FCA7-40F8-A722-FC4CF2A1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42B1-8B33-40D6-B6AB-4A6221B4B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5603-001B-4E00-ACC0-37D1B115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4AE6-284B-4DD5-972C-F3FA3322E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4D68-F069-4522-9836-0D8C06B2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int1234ыярфенш"/>
          <p:cNvPicPr/>
          <p:nvPr/>
        </p:nvPicPr>
        <p:blipFill>
          <a:blip r:embed="rId2"/>
          <a:stretch/>
        </p:blipFill>
        <p:spPr>
          <a:xfrm>
            <a:off x="0" y="0"/>
            <a:ext cx="2335320" cy="1798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3EC2-2488-4D4D-AF0D-F11A829C6B9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ff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6D22D-8DD4-4F5D-99AE-84E2577BD65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ortfolio-edu.ru/" TargetMode="External"/><Relationship Id="rId2" Type="http://schemas.openxmlformats.org/officeDocument/2006/relationships/hyperlink" Target="http://educomm.iro.perm.ru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213000"/>
            <a:ext cx="7632720" cy="2190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Сетевое сообщество педагогов Пермского края как ресурс профессионального роста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1" name="Прямоугольник 2"/>
          <p:cNvSpPr/>
          <p:nvPr/>
        </p:nvSpPr>
        <p:spPr>
          <a:xfrm>
            <a:off x="4032360" y="5516640"/>
            <a:ext cx="48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ротаева Татьяна Викторовна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чальник отдела профессионального развития педагогов  ИРО 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0B0B9-0D22-4188-8474-C50D57A1D394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79640" y="115560"/>
            <a:ext cx="688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Приказ Министерства труда и социальной защиты РФ от 10 января 2017 г. № 10н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«Об утверждении профессионального стандарта </a:t>
            </a: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пециалист в области воспитания»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EFD9-B2FD-44ED-ABA2-998633DED01C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468360" y="3573360"/>
            <a:ext cx="820728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6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рофстандарт</a:t>
            </a:r>
            <a:br>
              <a:rPr sz="3200"/>
            </a:b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педагога-библиотекаря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7C3FE-9446-4B89-A5AA-4153BEB5D0F0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395280" y="1628640"/>
          <a:ext cx="8424720" cy="4608720"/>
        </p:xfrm>
        <a:graphic>
          <a:graphicData uri="http://schemas.openxmlformats.org/drawingml/2006/table">
            <a:tbl>
              <a:tblPr/>
              <a:tblGrid>
                <a:gridCol w="4114800"/>
                <a:gridCol w="43099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Обобщенная</a:t>
                      </a:r>
                      <a:br>
                        <a:rPr sz="2400"/>
                      </a:b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трудовая функц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11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роектирование и реализация библиотечно-педагогического обеспечения в образовательных организациях начального общего, основного общего, среднего общего образования.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Планирование и осуществление библиотечно-педагогической деятельности в соответствии с требованиями ФГОС общего образования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entury Gothic"/>
              </a:rPr>
              <a:t>Цели и задачи сообщества</a:t>
            </a:r>
            <a:endParaRPr b="1" lang="en-US" sz="32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507520" cy="5472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Цель: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действие профессиональному развитию работников системы образования Пермского края посредством решения профессиональных затруднений и проблем на основе сетевого взаимодействия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entury Gothic"/>
              </a:rPr>
              <a:t>Задачи: </a:t>
            </a:r>
            <a:endParaRPr b="0" lang="en-US" sz="24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создать единое информационно-методическое пространство сетевого взаимодействия, как отдельных работников образования, так и коллективов образовательных организаций, работающих в инновационном режиме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рганизовать деятельность сетевых объединений для профессионального обсуждения, обмена мнениями и опытом, публикации материалов (разработок)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поддержать образовательные инициативы, способствовать распространению успешных педагогических практик;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еспечить проведение экспертной оценки методических и других практико-ориентированных материалов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1052280"/>
            <a:ext cx="8362800" cy="561636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Название сообщества: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«Сообщество педагогов Пермского края»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бщее описание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Сетевое сообщество педагогических работников Пермского края, зарегистрированных на сетевом ресурсе </a:t>
            </a:r>
            <a:r>
              <a:rPr b="0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1"/>
              </a:rPr>
              <a:t>www.portfolio-edu.ru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Адрес сайта: </a:t>
            </a:r>
            <a:r>
              <a:rPr b="1" lang="ru-RU" sz="2200" spc="-1" strike="noStrike" u="sng">
                <a:solidFill>
                  <a:srgbClr val="009999"/>
                </a:solidFill>
                <a:uFillTx/>
                <a:latin typeface="Century Gothic"/>
                <a:hlinkClick r:id="rId2"/>
              </a:rPr>
              <a:t>http://educomm.iro.perm.ru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entury Gothic"/>
              </a:rPr>
              <a:t>Основные формы сетевого взаимодействия </a:t>
            </a: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фессиональные группы: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проблемные группы, объединенные решением определенной проблемы;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buClr>
                <a:srgbClr val="000000"/>
              </a:buClr>
              <a:buFont typeface="Century Gothic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entury Gothic"/>
              </a:rPr>
              <a:t>фокус-группы, объединенные общим интересом и деятельностью.</a:t>
            </a: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Специфика: 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Обсуждаются актуальные проблемы системы образования Пермского края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810E7-EE5C-4503-BC5D-4B37CA48FB3D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411280" y="1628640"/>
            <a:ext cx="6446880" cy="4680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Модераторы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Мальщукова Ирина Вениамино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заведующий ЛИБЦ МАОУ Лицей №10 г. Пермь;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i="1" lang="ru-RU" sz="2000" spc="-1" strike="noStrike">
                <a:solidFill>
                  <a:srgbClr val="002060"/>
                </a:solidFill>
                <a:latin typeface="Century Gothic"/>
              </a:rPr>
              <a:t>Шашкина Валентина Николаевна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заведующий БИЦ, педагог - библиотекарь МАОУ «Гимназия» г. Чернушка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C2CC7-9467-4CE0-84A1-F7E560039697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79280" y="4653000"/>
            <a:ext cx="2232000" cy="1655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1" name="Овал 1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0"/>
            <a:ext cx="778176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роектный офис</a:t>
            </a:r>
            <a:br>
              <a:rPr sz="2800"/>
            </a:b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педагогов-библиотекарей</a:t>
            </a:r>
            <a:endParaRPr b="1" lang="en-US" sz="28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265120" y="1268280"/>
            <a:ext cx="6699240" cy="345600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Gothic"/>
              </a:rPr>
              <a:t>Деятельность: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Информационно-методическое сопровождение процессов реализации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Программы поддержки детского и юношеского чтения в Российской Федерации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, 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и развития школьных информационно-библиотечных центров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модернизации школьных библиотек в соответствии с </a:t>
            </a:r>
            <a:r>
              <a:rPr b="0" lang="ru-RU" sz="2000" spc="-1" strike="noStrike">
                <a:solidFill>
                  <a:srgbClr val="c00000"/>
                </a:solidFill>
                <a:latin typeface="Century Gothic"/>
              </a:rPr>
              <a:t>«</a:t>
            </a:r>
            <a:r>
              <a:rPr b="0" i="1" lang="ru-RU" sz="2000" spc="-1" strike="noStrike">
                <a:solidFill>
                  <a:srgbClr val="c00000"/>
                </a:solidFill>
                <a:latin typeface="Century Gothic"/>
              </a:rPr>
              <a:t>Концепцией развития школьных информационно-библиотечных центров в Пермском крае в 2018-2021 годах»</a:t>
            </a:r>
            <a:r>
              <a:rPr b="0" lang="ru-RU" sz="2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4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4A8B-2635-4300-9132-365518E1F115}" type="slidenum">
              <a:rPr b="0" lang="ru-RU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0520" y="4890960"/>
            <a:ext cx="3816360" cy="1943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0" y="-12600"/>
            <a:ext cx="2265480" cy="4449600"/>
          </a:xfrm>
          <a:prstGeom prst="rect">
            <a:avLst/>
          </a:prstGeom>
          <a:ln w="0">
            <a:noFill/>
          </a:ln>
        </p:spPr>
      </p:pic>
      <p:sp>
        <p:nvSpPr>
          <p:cNvPr id="117" name="Овал 6"/>
          <p:cNvSpPr/>
          <p:nvPr/>
        </p:nvSpPr>
        <p:spPr>
          <a:xfrm>
            <a:off x="1008000" y="3500280"/>
            <a:ext cx="1295640" cy="108108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79280" y="-7920"/>
            <a:ext cx="716436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Организация работы портала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Century Gothic"/>
              </a:rPr>
              <a:t>«Сообщество педагогов Пермского края»</a:t>
            </a:r>
            <a:endParaRPr b="1" lang="en-US" sz="2400" spc="-1" strike="noStrike">
              <a:solidFill>
                <a:srgbClr val="3399ff"/>
              </a:solidFill>
              <a:latin typeface="Century Gothic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4920" y="1052640"/>
            <a:ext cx="8497800" cy="4176720"/>
          </a:xfrm>
          <a:prstGeom prst="rect">
            <a:avLst/>
          </a:prstGeom>
          <a:noFill/>
          <a:ln w="3240">
            <a:solidFill>
              <a:srgbClr val="3399ff"/>
            </a:solidFill>
            <a:miter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онтент сетевых групп структурирован по разделам: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Новости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актуальная и полезная информация о событиях в системе образования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Методическая копилка»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лощадка для публикаций представляемых материалов, прошедших экспертизу. Материалы в данном разделе размещаются модератором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Документы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актуальные нормативно-правовые акты, относящиеся к деятельности сетевой групп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«Полезные ссылки»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 - ссылки на ресурсы, относящиеся к содержанию деятельности сетевых групп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 Форум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обсуждение представленных пользователями материалов, а также ведение дискуссий на заданные модератором и участниками темы;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  <a:p>
            <a:pPr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</a:t>
            </a: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Чат </a:t>
            </a: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- переговорная площадка</a:t>
            </a: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24000" y="5229360"/>
            <a:ext cx="8569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6T07:53:29Z</dcterms:created>
  <dc:creator>Old_School</dc:creator>
  <dc:description/>
  <dc:language>en-US</dc:language>
  <cp:lastModifiedBy>Админ</cp:lastModifiedBy>
  <cp:lastPrinted>2017-08-25T11:48:31Z</cp:lastPrinted>
  <dcterms:modified xsi:type="dcterms:W3CDTF">2019-03-23T06:15:17Z</dcterms:modified>
  <cp:revision>223</cp:revision>
  <dc:subject/>
  <dc:title>Образование без границ</dc:title>
</cp:coreProperties>
</file>