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3AF0-2CB8-4B4D-988B-B04CBD61F3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FDFA-A31C-4DE6-80C6-73947797E1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C8F3-FF94-42CB-A480-4C41BB1DFD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C37E-877C-4DAF-8EE1-B43FD753CD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922-1155-4853-8CA6-EB50A1DD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80A-05D7-49DF-89E4-51AA4B23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7CF4-E326-4F98-8B51-D99CA112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C63-BCD2-4AB8-A2B8-9F3B70A0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547-B33E-4D67-B415-B85EBADC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6EE4-BCD1-46FC-A3E9-C087AFB0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8ACC-A621-4DF8-AF53-35FE8307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80B0-2807-45B5-A69D-DE40313E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F4E-0625-4DD6-B27F-CA45F762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8A8-83BB-4453-B9CB-FBC9C279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5B42-CA21-4B5C-A1AA-E382B753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EEF9-EF71-4B6E-87F2-6232E0A2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C77E-EC1E-4E14-B142-652AE540D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VV\Desktop\Таблички_cr_cr.jpg"/>
          <p:cNvPicPr/>
          <p:nvPr/>
        </p:nvPicPr>
        <p:blipFill>
          <a:blip r:embed="rId1"/>
          <a:srcRect l="0" t="0" r="78257" b="0"/>
          <a:stretch/>
        </p:blipFill>
        <p:spPr>
          <a:xfrm>
            <a:off x="250920" y="0"/>
            <a:ext cx="720720" cy="70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577800" cy="496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"/>
          <p:cNvPicPr/>
          <p:nvPr/>
        </p:nvPicPr>
        <p:blipFill>
          <a:blip r:embed="rId3"/>
          <a:stretch/>
        </p:blipFill>
        <p:spPr>
          <a:xfrm>
            <a:off x="8388360" y="189000"/>
            <a:ext cx="576360" cy="55548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1"/>
          <p:cNvSpPr/>
          <p:nvPr/>
        </p:nvSpPr>
        <p:spPr>
          <a:xfrm>
            <a:off x="1042920" y="189000"/>
            <a:ext cx="574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МАОУ «СРЕДНЯЯ ОБЩЕОБРАЗОВАТЕЛЬНАЯ ШКОЛА №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С УГЛУБЛЕННЫМ ИЗУЧЕНИЕМ ИНОСТРАННЫХ ЯЗЫК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ГОРОДА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640" y="1252080"/>
            <a:ext cx="6997680" cy="52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2003400" y="1413000"/>
            <a:ext cx="7140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Georgia"/>
              </a:rPr>
              <a:t>Роль информационно-библиотечных центров нового поко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http://www.schillergymnasium-pirna.de/images/certilingua.gif"/>
          <p:cNvPicPr/>
          <p:nvPr/>
        </p:nvPicPr>
        <p:blipFill>
          <a:blip r:embed="rId4"/>
          <a:stretch/>
        </p:blipFill>
        <p:spPr>
          <a:xfrm>
            <a:off x="7093080" y="189000"/>
            <a:ext cx="503280" cy="498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VV\Desktop\Таблички_cr.jpg"/>
          <p:cNvPicPr/>
          <p:nvPr/>
        </p:nvPicPr>
        <p:blipFill>
          <a:blip r:embed="rId5"/>
          <a:stretch/>
        </p:blipFill>
        <p:spPr>
          <a:xfrm>
            <a:off x="179280" y="1052640"/>
            <a:ext cx="67690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Актуальные тренды образовательной ср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Georgi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1197000"/>
          <a:ext cx="8964720" cy="4675320"/>
        </p:xfrm>
        <a:graphic>
          <a:graphicData uri="http://schemas.openxmlformats.org/drawingml/2006/table">
            <a:tbl>
              <a:tblPr/>
              <a:tblGrid>
                <a:gridCol w="2430720"/>
                <a:gridCol w="3300120"/>
                <a:gridCol w="323388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Моби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ользов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Абоненты сотовой связи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8,2 млрд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ользователи сети Интернет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5 млрд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Моби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устройств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ъем продаж носимых «умных» устройств достигн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270 млн шт. в 2019 г. (свыше 80% из них –«умные» устройства ), развитие экосист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азвитие Интернета вещей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щемировые затраты ИТ-компаний в рамках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«Интернета вещей в 2020 г. составя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6 трлн долл.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обот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оботы станут авторами 20% всех деловых документов, а «роботы-боссы» будут контролировать более      3 млн. работников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Технология 3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D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печ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К 2020 г. продажи промышленных 3D-принтеров вырастет на 164%ежегодно (медицина, энергетика, машиностроение, космос)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rcRect l="29509" t="3459" r="0" b="0"/>
          <a:stretch/>
        </p:blipFill>
        <p:spPr>
          <a:xfrm>
            <a:off x="4427640" y="1197000"/>
            <a:ext cx="151128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56000" y="1197000"/>
            <a:ext cx="1734840" cy="1125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23310" t="0" r="21361" b="0"/>
          <a:stretch/>
        </p:blipFill>
        <p:spPr>
          <a:xfrm>
            <a:off x="4284720" y="2421000"/>
            <a:ext cx="1654200" cy="143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rcRect l="8859" t="11782" r="0" b="5537"/>
          <a:stretch/>
        </p:blipFill>
        <p:spPr>
          <a:xfrm>
            <a:off x="2556000" y="2421000"/>
            <a:ext cx="1584360" cy="1436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4225" t="0" r="0" b="2090"/>
          <a:stretch/>
        </p:blipFill>
        <p:spPr>
          <a:xfrm>
            <a:off x="3995640" y="4724280"/>
            <a:ext cx="1906560" cy="1152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2484360" y="3860640"/>
            <a:ext cx="2449440" cy="93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623736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33000"/>
            <a:ext cx="7886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Нормативно-правовая ба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125000"/>
            <a:ext cx="8558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становление Правительства Российской Федерации «Об утверждении Стратегии развития воспитания в Российской Федерации на период до 2025 года» от 29.05. 2015 г. № 996-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рограмма «Цифровая экономика Российской Федерации до 2025 года» утверждена Правительством РФ от 28 июля 2017 года под №1632-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Указом Президента Российской Федерации от 1 декабря 2016 г. №642  утверждена «Стратегия научно-технологического развития Российской Федерации на период до 2035 го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становление Правительства РФ от 18 апреля 2016 г. N 317 утверждена государственная программа "О реализации Национальной технологической инициативы на период до 2035 г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риказ Минобрнауки РФ №715 от 15.06.2016 года «Об утверждении Концепции развития школьных информационно-библиотечных центров на период 2016-2020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800280" y="6165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1056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Georgia"/>
              </a:rPr>
              <a:t>Единое информационно-образовательное простран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3920" y="1915920"/>
            <a:ext cx="4017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4103640" cy="342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89334"/>
          <p:cNvPicPr/>
          <p:nvPr/>
        </p:nvPicPr>
        <p:blipFill>
          <a:blip r:embed="rId2"/>
          <a:stretch/>
        </p:blipFill>
        <p:spPr>
          <a:xfrm>
            <a:off x="179280" y="2205000"/>
            <a:ext cx="4248360" cy="34117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6"/>
          <p:cNvSpPr/>
          <p:nvPr/>
        </p:nvSpPr>
        <p:spPr>
          <a:xfrm>
            <a:off x="503280" y="6093000"/>
            <a:ext cx="82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 ,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Цифровая образовательная ср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241800" cy="4551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54723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Georgia"/>
              </a:rPr>
              <a:t>Насыщ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Персон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Возрастосообраз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200" y="6237360"/>
            <a:ext cx="88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4" descr=""/>
          <p:cNvPicPr/>
          <p:nvPr/>
        </p:nvPicPr>
        <p:blipFill>
          <a:blip r:embed="rId1"/>
          <a:stretch/>
        </p:blipFill>
        <p:spPr>
          <a:xfrm>
            <a:off x="785880" y="281160"/>
            <a:ext cx="7572240" cy="58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606600" y="6141960"/>
            <a:ext cx="81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020"/>
          <p:cNvPicPr/>
          <p:nvPr/>
        </p:nvPicPr>
        <p:blipFill>
          <a:blip r:embed="rId1"/>
          <a:srcRect l="0" t="0" r="0" b="6824"/>
          <a:stretch/>
        </p:blipFill>
        <p:spPr>
          <a:xfrm>
            <a:off x="503280" y="0"/>
            <a:ext cx="8319960" cy="61228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584280" y="6111720"/>
            <a:ext cx="831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Семинар «Создание информационно-библиотечных центров нового поколения в образовательных учрежде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Пермь ,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:\Users\VV\Desktop\Таблички_cr.jpg"/>
          <p:cNvPicPr/>
          <p:nvPr/>
        </p:nvPicPr>
        <p:blipFill>
          <a:blip r:embed="rId1"/>
          <a:stretch/>
        </p:blipFill>
        <p:spPr>
          <a:xfrm>
            <a:off x="88920" y="1415880"/>
            <a:ext cx="7362720" cy="497232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2244600" y="189000"/>
            <a:ext cx="4542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46320" y="1252440"/>
            <a:ext cx="6997680" cy="44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793880" y="5745240"/>
            <a:ext cx="71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576360" cy="4968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"/>
          <p:cNvPicPr/>
          <p:nvPr/>
        </p:nvPicPr>
        <p:blipFill>
          <a:blip r:embed="rId3"/>
          <a:stretch/>
        </p:blipFill>
        <p:spPr>
          <a:xfrm>
            <a:off x="8317080" y="189000"/>
            <a:ext cx="610920" cy="555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://www.schillergymnasium-pirna.de/images/certilingua.gif"/>
          <p:cNvPicPr/>
          <p:nvPr/>
        </p:nvPicPr>
        <p:blipFill>
          <a:blip r:embed="rId4"/>
          <a:stretch/>
        </p:blipFill>
        <p:spPr>
          <a:xfrm>
            <a:off x="7236000" y="260280"/>
            <a:ext cx="431640" cy="498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VV\Desktop\Таблички_cr_cr.jpg"/>
          <p:cNvPicPr/>
          <p:nvPr/>
        </p:nvPicPr>
        <p:blipFill>
          <a:blip r:embed="rId5"/>
          <a:srcRect l="0" t="0" r="78257" b="0"/>
          <a:stretch/>
        </p:blipFill>
        <p:spPr>
          <a:xfrm>
            <a:off x="324000" y="260280"/>
            <a:ext cx="718920" cy="70668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1258920" y="333360"/>
            <a:ext cx="5834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МАОУ «СРЕДНЯЯ ОБЩЕОБРАЗОВАТЕЛЬНАЯ ШКОЛА №22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С УГЛУБЛЕННЫМ ИЗУЧЕНИЕМ ИНОСТРАННЫХ ЯЗЫКОВ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ГОРОДА ПЕР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5T08:20:22Z</dcterms:created>
  <dc:creator>User</dc:creator>
  <dc:description/>
  <dc:language>en-US</dc:language>
  <cp:lastModifiedBy>User</cp:lastModifiedBy>
  <dcterms:modified xsi:type="dcterms:W3CDTF">2019-03-22T05:13:01Z</dcterms:modified>
  <cp:revision>4</cp:revision>
  <dc:subject/>
  <dc:title> </dc:title>
</cp:coreProperties>
</file>