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A039-30E5-433C-B400-B98901D94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21B9-50FB-4A5B-A1CF-8FFD82907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9355-0106-4321-9FED-787A823DD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3DA2-8902-44D4-8F6A-8D3873848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0454E-40A6-4D74-93E6-240CB8E72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C5C21-19D0-4F72-AA3F-59C3F71B8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B4D47-4FCE-435B-9E7F-55937FECD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E33B0-787E-437E-A45F-A542F01A1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F5D77-3BD1-423A-A8B2-871BA3BB3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DDC2E-0E91-46BD-BBD7-F696055D5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6A896-ECEC-42C5-80D7-9B0198EB5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0544-493A-4317-A35E-98F447738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5271A-EA38-47B0-B4C7-2F3AEB27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5C17B-4078-43C5-94D1-700ECA383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724F5-D689-46B0-95D3-D747C982A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DD076-BD00-442C-A183-F28A9A47D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E0B40-D045-4C29-A092-CEE16E5BF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20594-7196-4DC1-848A-FD3BB3205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87758-ECFD-48EB-8F40-B28F4B338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13578-6B13-4DA9-BB6B-F9A65DEE7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7C2A6-BB70-4361-AB51-22EB91676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E412C-EBFF-46C0-8C91-ADB323664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898A-CE39-499C-8766-D314B7B10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9BE2A-574C-4532-97A3-9CBA8180D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A3B73-E6E3-4D7F-871F-9336B3DF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8627F-B2DA-486B-8CB8-7FC1E252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D855A-DC56-4E55-8959-547DDA487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712EF-197A-42CA-942D-83CD9251E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B56CF-EF92-41E2-958B-01DC28FA9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87A1E-35E8-4CC8-87D2-7E3D7D397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840FBA-9E8C-4C98-9C6A-3106EB8F3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3FE4A-A563-499D-9E4B-DD82AAF87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E1304-A6F2-424D-9B93-F26C58DAC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6A29-0B2A-4FFB-A218-A0BD9EBEA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8D8E24-1E1B-4D19-BB0E-87994C631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6C4F8-5303-4A89-939B-9FF3F169F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9169F-5DE4-4F24-BBF6-220C7F221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F332E-6E45-4431-8F47-5FE9745EB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B1B2A-AA59-4552-8F11-350A52052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9AC77-B517-4AFF-99DB-8E40E062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3E856-F8CF-42C6-A7B9-609169DA4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2DB69-2BB6-432F-B5F4-B4EE10CF3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082C8-4B4F-4FC6-AE49-4BB18C037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58E9-63B6-4EE2-9635-60D8C5D19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750E-F160-4DBA-A8BC-13CA5520B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9ADC-CF05-4B4B-95A1-FFE9C206B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3D48-4721-46AC-823E-CBA9C979B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7018-EDEE-417A-93CB-01866000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3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Isosceles Triangle 1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7620DD-5444-436A-91AA-77199364E8B2}" type="slidenum">
              <a:rPr b="0" lang="en-US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5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53" name="Freeform 14"/>
            <p:cNvSpPr/>
            <p:nvPr/>
          </p:nvSpPr>
          <p:spPr>
            <a:xfrm>
              <a:off x="0" y="-7920"/>
              <a:ext cx="863280" cy="569772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8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Straight Connector 19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Isosceles Triangle 22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Isosceles Triangle 26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30F30B-32C0-4538-9DCE-1686060BFF36}" type="slidenum">
              <a:rPr b="0" lang="en-US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43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Isosceles Triangle 1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755BFB-E50F-4E82-8E36-5B6B734D9747}" type="slidenum">
              <a:rPr b="0" lang="en-US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43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9" name="Straight Connector 19"/>
            <p:cNvSpPr/>
            <p:nvPr/>
          </p:nvSpPr>
          <p:spPr>
            <a:xfrm>
              <a:off x="9371160" y="0"/>
              <a:ext cx="1218960" cy="685800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7425000" y="3681360"/>
              <a:ext cx="4764240" cy="3176640"/>
            </a:xfrm>
            <a:prstGeom prst="line">
              <a:avLst/>
            </a:prstGeom>
            <a:ln cap="rnd" w="9360">
              <a:solidFill>
                <a:srgbClr val="5fcbef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9182160" y="-7920"/>
              <a:ext cx="300672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5fcbe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9603000" y="-7920"/>
              <a:ext cx="258912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fcbe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8933040" y="3048120"/>
              <a:ext cx="3259080" cy="380988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7b0e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0898280" y="-7920"/>
              <a:ext cx="129060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2e83c3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0939680" y="-7920"/>
              <a:ext cx="124920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36292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10371240" y="3589200"/>
              <a:ext cx="1817640" cy="3268800"/>
            </a:xfrm>
            <a:prstGeom prst="triangle">
              <a:avLst>
                <a:gd name="adj" fmla="val 100000"/>
              </a:avLst>
            </a:prstGeom>
            <a:solidFill>
              <a:srgbClr val="17b0e4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Isosceles Triangle 18"/>
            <p:cNvSpPr/>
            <p:nvPr/>
          </p:nvSpPr>
          <p:spPr>
            <a:xfrm>
              <a:off x="0" y="4013280"/>
              <a:ext cx="449280" cy="2844720"/>
            </a:xfrm>
            <a:prstGeom prst="triangle">
              <a:avLst>
                <a:gd name="adj" fmla="val 0"/>
              </a:avLst>
            </a:prstGeom>
            <a:solidFill>
              <a:srgbClr val="5fcbe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8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9fe0f5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fcbe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5fcbe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BBC27B-79AC-418B-83C9-0E08CBBA7FC3}" type="slidenum">
              <a:rPr b="0" lang="en-US" sz="900" spc="-1" strike="noStrike">
                <a:solidFill>
                  <a:srgbClr val="5fcbe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00000" y="382680"/>
            <a:ext cx="9677520" cy="4844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174261"/>
                </a:solidFill>
                <a:latin typeface="Trebuchet MS"/>
              </a:rPr>
              <a:t>Краевое совещание </a:t>
            </a:r>
            <a:br>
              <a:rPr sz="1400"/>
            </a:br>
            <a:r>
              <a:rPr b="0" lang="ru-RU" sz="1400" spc="-1" strike="noStrike">
                <a:solidFill>
                  <a:srgbClr val="174261"/>
                </a:solidFill>
                <a:latin typeface="Trebuchet MS"/>
              </a:rPr>
              <a:t>«Школьные библиотеки образовательных организаций Пермского края:</a:t>
            </a:r>
            <a:br>
              <a:rPr sz="1400"/>
            </a:br>
            <a:r>
              <a:rPr b="0" lang="ru-RU" sz="1400" spc="-1" strike="noStrike">
                <a:solidFill>
                  <a:srgbClr val="174261"/>
                </a:solidFill>
                <a:latin typeface="Trebuchet MS"/>
              </a:rPr>
              <a:t> от Концепции к реальности» 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0" lang="ru-RU" sz="5400" spc="-1" strike="noStrike">
                <a:solidFill>
                  <a:srgbClr val="ff0000"/>
                </a:solidFill>
                <a:latin typeface="Trebuchet MS"/>
              </a:rPr>
              <a:t>Анкетирование </a:t>
            </a:r>
            <a:br>
              <a:rPr sz="5400"/>
            </a:br>
            <a:r>
              <a:rPr b="0" lang="ru-RU" sz="5400" spc="-1" strike="noStrike">
                <a:solidFill>
                  <a:srgbClr val="ff0000"/>
                </a:solidFill>
                <a:latin typeface="Trebuchet MS"/>
              </a:rPr>
              <a:t>школьных библиотек Пермского края-2019</a:t>
            </a:r>
            <a:br>
              <a:rPr sz="5400"/>
            </a:br>
            <a:r>
              <a:rPr b="0" lang="ru-RU" sz="5400" spc="-1" strike="noStrike">
                <a:solidFill>
                  <a:srgbClr val="236292"/>
                </a:solidFill>
                <a:latin typeface="Trebuchet MS"/>
              </a:rPr>
              <a:t> </a:t>
            </a:r>
            <a:r>
              <a:rPr b="0" i="1" lang="ru-RU" sz="2000" spc="-1" strike="noStrike">
                <a:solidFill>
                  <a:srgbClr val="236292"/>
                </a:solidFill>
                <a:latin typeface="Trebuchet MS"/>
              </a:rPr>
              <a:t>Итоги начального этапа мониторингового исследования                          школьных библиотекарей образовательных организаций Пермского края</a:t>
            </a:r>
            <a:endParaRPr b="0" lang="en-US" sz="20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506240" y="5227200"/>
            <a:ext cx="887868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174261"/>
                </a:solidFill>
                <a:latin typeface="Trebuchet MS"/>
              </a:rPr>
              <a:t>Мальщукова И.В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174261"/>
                </a:solidFill>
                <a:latin typeface="Trebuchet MS"/>
              </a:rPr>
              <a:t> </a:t>
            </a:r>
            <a:r>
              <a:rPr b="0" lang="ru-RU" sz="1800" spc="-1" strike="noStrike">
                <a:solidFill>
                  <a:srgbClr val="174261"/>
                </a:solidFill>
                <a:latin typeface="Trebuchet MS"/>
              </a:rPr>
              <a:t>Пермь, 25 марта 2019 г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77520" y="609480"/>
            <a:ext cx="859644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174261"/>
                </a:solidFill>
                <a:latin typeface="Trebuchet MS"/>
              </a:rPr>
              <a:t>Повышение квалификации</a:t>
            </a: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77880" y="1350720"/>
            <a:ext cx="107856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"Педагог - библиотекарь в современной школе" в ГБОУ СОП "Пермский краевой колледж искусств и культуры" 72 часа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«Создание интерактивного плаката с помощью сервисов Web 2.0МАУ ДПО «Центр научно-методического обеспечения.г.Лысьва2 16 часов 2016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«Педагог-библиотекарь: информационно-коммуникационные технологии библиотечной среды 72 часа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МООК "Ментальные карты-инструмент когнитивного развития", май, 2018 г.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«Организация обучения детей  с ОВЗ и детей-инвалидов в общеобразовательной организации» (72 часа) 2018 год.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"Инновационная деятельность школьной библиотеки в современном коммуникационном пространстве" 72 ч. 2017 г.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АН ПОО "МАНО" "Теория обучения и воспитания в условиях реализации ФГОС", 520 часов, 2017 год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rebuchet MS"/>
              </a:rPr>
              <a:t>"Современные подходы к библиотечно-информационному обеспечению реализации ФГОС общеобразовательной организацией", 36часов, 20.07.2017г.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rebuchet MS"/>
              </a:rPr>
              <a:t>34 участника  анкетирования на проходили курсы повышения квалификации за последние 3 года (10%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174261"/>
                </a:solidFill>
                <a:latin typeface="Trebuchet MS"/>
              </a:rPr>
              <a:t>Участие в профессиональных совещаниях, конференциях, НКП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33 участника анкетирования отрицательно ответили или оставили вопрос без ответа 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174261"/>
                </a:solidFill>
                <a:latin typeface="Trebuchet MS"/>
              </a:rPr>
              <a:t>Участие в вебинарах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77520" y="1460520"/>
            <a:ext cx="859644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50 отрицательных ответа!!!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4261"/>
                </a:solidFill>
                <a:latin typeface="Trebuchet MS"/>
              </a:rPr>
              <a:t>Выступления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Больше 50 отрицательных ответов!!!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174261"/>
                </a:solidFill>
                <a:latin typeface="Trebuchet MS"/>
              </a:rPr>
              <a:t>Публикации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69 отрицательных ответов!!!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174261"/>
                </a:solidFill>
                <a:latin typeface="Trebuchet MS"/>
              </a:rPr>
              <a:t>Участие в проектах и конкурсах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59 отрицательных ответов!!!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200" spc="-1" strike="noStrike">
                <a:solidFill>
                  <a:srgbClr val="174261"/>
                </a:solidFill>
                <a:latin typeface="Trebuchet MS"/>
              </a:rPr>
              <a:t>Готовы ли ШБ к трансформированию в ШИБЦ?</a:t>
            </a:r>
            <a:r>
              <a:rPr b="0" lang="ru-RU" sz="3200" spc="-1" strike="noStrike">
                <a:solidFill>
                  <a:srgbClr val="ff0000"/>
                </a:solidFill>
                <a:latin typeface="Trebuchet MS"/>
              </a:rPr>
              <a:t>  </a:t>
            </a:r>
            <a:r>
              <a:rPr b="0" lang="ru-RU" sz="3200" spc="-1" strike="noStrike">
                <a:solidFill>
                  <a:srgbClr val="174261"/>
                </a:solidFill>
                <a:latin typeface="Trebuchet MS"/>
              </a:rPr>
              <a:t>Выводы напрашиваются сами…</a:t>
            </a:r>
            <a:br>
              <a:rPr sz="3200"/>
            </a:br>
            <a:endParaRPr b="0" lang="en-US" sz="32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 </a:t>
            </a: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Благодарю заведующих школьными библиотеками(ШИБЦ, медиатеками), педагогов-библиотекарей, библиотекарей и методистов районов в сборе необходимой для анализа информации.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35880" indent="-3358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77520" y="663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4261"/>
                </a:solidFill>
                <a:latin typeface="Trebuchet MS"/>
              </a:rPr>
              <a:t>Цель первого этапа обследования: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77520" y="1677960"/>
            <a:ext cx="859644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Проанализировать состав профессионального сообщества школьных библиотек образовательных организаций Пермского края (кадровый,  должностной, статус школьной библиотеки, профессиональная занятость, достижения и др.)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22200" indent="-32220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Trebuchet MS"/>
              </a:rPr>
              <a:t>Ответить на вопросы: Сколько нас? Кто будет реализовывать Концепцию? Каким мы обладаем потенциалом? Участвуют ли библиотекари в жизни профессионального сообщества России, Пермского края? Готовы ли библиотекари меняться? Происходят ли изменения в жизни ШБ в связи с принятием Концепции?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77520" y="409320"/>
            <a:ext cx="8596440" cy="7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4261"/>
                </a:solidFill>
                <a:latin typeface="Trebuchet MS"/>
              </a:rPr>
              <a:t>Вопросы анкеты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68280" y="1133280"/>
            <a:ext cx="10794960" cy="554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1. ФИО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2. Контактные данные (тел., эл. Почта)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3.Территория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4. Образовательное учреждение ( по Уставу)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5. Статус школьной библиотеки (ШБ, ШИБЦ, другое)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6. Ваша должность (библиотекарь, педагог-библиотекарь, зав. ШБ, другое)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7.Время работы (Ставка; о,5; 0,25; другое)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8. Общий стаж работы и в данной должности (через / )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9. Последняя аттестация (указать, когда и на какую категорию)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10. Повышение квалификации (за 3 последних года, с указанием курсов и часов)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11. Участие в профессиональных совещаниях, конференциях, НКП (за 3 последних года)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12. Участие в вебинарах (за последний год)</a:t>
            </a: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13. Ваши выступления (за 3 последних года)</a:t>
            </a: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14. Ваши публикации (за 3 последних года)</a:t>
            </a: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404040"/>
                </a:solidFill>
                <a:latin typeface="Trebuchet MS"/>
              </a:rPr>
              <a:t>15. Участие в проектах, конкурсах; грантополучение (за 3 последних года)</a:t>
            </a:r>
            <a:r>
              <a:rPr b="0" lang="ru-RU" sz="1700" spc="-1" strike="noStrike">
                <a:solidFill>
                  <a:srgbClr val="404040"/>
                </a:solidFill>
                <a:latin typeface="Trebuchet MS"/>
              </a:rPr>
              <a:t> 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4000" spc="-1" strike="noStrike">
                <a:solidFill>
                  <a:srgbClr val="174261"/>
                </a:solidFill>
                <a:latin typeface="Trebuchet MS"/>
              </a:rPr>
              <a:t>Территории: 20 (130 анкет)</a:t>
            </a:r>
            <a:endParaRPr b="0" lang="en-US" sz="40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677880" y="1541160"/>
            <a:ext cx="418320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Александровский р-н – 3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Березовский р-н - 2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Верещагинский р-н – 8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Губахинский р-н - 2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Добрянский р-н - 17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Ильинский р-н – 11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Кишертский р-н – 3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Косинский р-н - 1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Кочевский р-н – 7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г. Кунгур – 12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089680" y="1541160"/>
            <a:ext cx="418464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Кунгурский р-н – 8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г. Лысьва - 4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Пермский р-н – 5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г. Пермь - 13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Сивинский район – 7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Чайковский р-н – 15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Частинский р-н - 1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г. Чернушка – 2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Юрлинский р-н – 3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2000" spc="-1" strike="noStrike">
                <a:solidFill>
                  <a:srgbClr val="404040"/>
                </a:solidFill>
                <a:latin typeface="Trebuchet MS"/>
              </a:rPr>
              <a:t>Юсьвенкий р-н - 5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174261"/>
                </a:solidFill>
                <a:latin typeface="Trebuchet MS"/>
              </a:rPr>
              <a:t>Статус школьной библиотеки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77880" y="2160360"/>
            <a:ext cx="68277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ШИБЦ – 7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rebuchet MS"/>
              </a:rPr>
              <a:t>Библиотечный медиацентр </a:t>
            </a: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/</a:t>
            </a:r>
            <a:r>
              <a:rPr b="0" lang="ru-RU" sz="3600" spc="-1" strike="noStrike">
                <a:solidFill>
                  <a:srgbClr val="404040"/>
                </a:solidFill>
                <a:latin typeface="Trebuchet MS"/>
              </a:rPr>
              <a:t>библиотека - медиатека - 2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rebuchet MS"/>
              </a:rPr>
              <a:t>ШБ – остальные участники анкетирования – 121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graphicFrame>
        <p:nvGraphicFramePr>
          <p:cNvPr id="223" name="Объект 6"/>
          <p:cNvGraphicFramePr/>
          <p:nvPr/>
        </p:nvGraphicFramePr>
        <p:xfrm>
          <a:off x="7454880" y="1204920"/>
          <a:ext cx="3855960" cy="3854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4" name="Объект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54880" y="1204920"/>
                    <a:ext cx="3855960" cy="38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174261"/>
                </a:solidFill>
                <a:latin typeface="Trebuchet MS"/>
              </a:rPr>
              <a:t>Должность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77520" y="1377720"/>
            <a:ext cx="8596440" cy="46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rebuchet MS"/>
              </a:rPr>
              <a:t>Зав. библиотекой - 25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Педагог-библиотекарь – 44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rebuchet MS"/>
              </a:rPr>
              <a:t>Библиотекарь – 49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rebuchet MS"/>
              </a:rPr>
              <a:t>Учителя – совместители- 11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404040"/>
                </a:solidFill>
                <a:latin typeface="Trebuchet MS"/>
              </a:rPr>
              <a:t>Прочие - 1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174261"/>
                </a:solidFill>
                <a:latin typeface="Trebuchet MS"/>
              </a:rPr>
              <a:t>Время работы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677880" y="1630440"/>
          <a:ext cx="8596440" cy="3117600"/>
        </p:xfrm>
        <a:graphic>
          <a:graphicData uri="http://schemas.openxmlformats.org/drawingml/2006/table">
            <a:tbl>
              <a:tblPr/>
              <a:tblGrid>
                <a:gridCol w="1433520"/>
                <a:gridCol w="1432080"/>
                <a:gridCol w="1287360"/>
                <a:gridCol w="1577880"/>
                <a:gridCol w="1433520"/>
                <a:gridCol w="143208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тав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,2 - 0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,8-0,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</a:tr>
              <a:tr h="275292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8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3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174261"/>
                </a:solidFill>
                <a:latin typeface="Trebuchet MS"/>
              </a:rPr>
              <a:t>Стаж работы</a:t>
            </a:r>
            <a:br>
              <a:rPr sz="3600"/>
            </a:br>
            <a:r>
              <a:rPr b="1" lang="ru-RU" sz="3600" spc="-1" strike="noStrike">
                <a:solidFill>
                  <a:srgbClr val="174261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677880" y="2160720"/>
          <a:ext cx="8596440" cy="2152440"/>
        </p:xfrm>
        <a:graphic>
          <a:graphicData uri="http://schemas.openxmlformats.org/drawingml/2006/table">
            <a:tbl>
              <a:tblPr/>
              <a:tblGrid>
                <a:gridCol w="1433520"/>
                <a:gridCol w="1432080"/>
                <a:gridCol w="1587240"/>
                <a:gridCol w="1278000"/>
                <a:gridCol w="1433520"/>
                <a:gridCol w="1432080"/>
              </a:tblGrid>
              <a:tr h="1076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До 1 г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-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0-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0-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0 и выш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fcbef"/>
                    </a:solidFill>
                  </a:tcPr>
                </a:tc>
              </a:tr>
              <a:tr h="1076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1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4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ru-RU" sz="36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ec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600" spc="-1" strike="noStrike">
                <a:solidFill>
                  <a:srgbClr val="174261"/>
                </a:solidFill>
                <a:latin typeface="Trebuchet MS"/>
              </a:rPr>
              <a:t>Аттестация</a:t>
            </a:r>
            <a:endParaRPr b="0" lang="en-US" sz="3600" spc="-1" strike="noStrike">
              <a:solidFill>
                <a:srgbClr val="5fcbef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rebuchet MS"/>
              </a:rPr>
              <a:t>Только в 26 анкетах указана информация о прохождении аттестации (первая и высшая категория)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5fcbe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4T06:55:22Z</dcterms:created>
  <dc:creator>Пользователь</dc:creator>
  <dc:description/>
  <dc:language>en-US</dc:language>
  <cp:lastModifiedBy>Пользователь</cp:lastModifiedBy>
  <dcterms:modified xsi:type="dcterms:W3CDTF">2019-03-24T15:04:14Z</dcterms:modified>
  <cp:revision>21</cp:revision>
  <dc:subject/>
  <dc:title>Краевое совещание  «Школьные библиотеки образовательных организаций Пермского края:  от Концепции к реальности»   Анкетирование  школьных библиотекарей Пермского края-2019</dc:title>
</cp:coreProperties>
</file>