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260B-1FDD-46F5-815D-591209817D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D4C8-A27C-47F4-B294-44D67DEBF5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AC8B-84B1-410C-A86A-BBDD086F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0F7-B0CD-4378-A00E-7334AAC3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3B03-3CB3-4A1F-AB61-4A843367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C19-65B8-4B9F-8DA7-EDAB4167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6B8-9570-49F3-AB74-3C2F89FD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6387-FFE2-48B4-AF94-1B99B94A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8F94-B280-46DE-B120-001A62B3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820F-24D0-4B05-AFFE-71FFFAEE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47D6-A676-456C-AFBA-BFA18A2F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1EA6-82E6-4A8B-A6BD-37AB15C6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A2B0-9B34-4D0A-8F94-7E4DBD50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8B77-3094-4526-9CE9-E9C8E6B1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5577-2C14-4F10-9B3B-686681947E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ublication.pravo.gov.ru/Document/View/0001202107050027?index=2&amp;rangeSize=1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6 августа 2021</a:t>
            </a:r>
            <a:br>
              <a:rPr sz="24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ромежуточный вебинар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Моя работа в проект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«Образовательный лифт»: первые итоги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одход к изучению иностранных языков в начальной школе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К окончанию начальной школы учащиеся должны научиться строить диалог на 4-5 фраз со стороны каждого собеседника, составлять монолог на 4-5 реплик, воспринимать и понимать на слух до минуты адаптированного или аутентичного текста и писать тексты объёмом до 80 слов в рамках тематического блока «Мир моего «Я». Мир моих увлечений. Мир вокруг меня. Родная страна и страна изучаемого язы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целом языкового уровня должно хватать для «элементарного бытового общения» и знакомства представителей других стран с «культурой своего нар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395280" y="260280"/>
            <a:ext cx="813744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Новые примерные рабочи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D:\РабочийСтол\Screenshot_1.png"/>
          <p:cNvPicPr/>
          <p:nvPr/>
        </p:nvPicPr>
        <p:blipFill>
          <a:blip r:embed="rId1"/>
          <a:stretch/>
        </p:blipFill>
        <p:spPr>
          <a:xfrm>
            <a:off x="684360" y="1557360"/>
            <a:ext cx="3527280" cy="489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РабочийСтол\Screenshot_2.png"/>
          <p:cNvPicPr/>
          <p:nvPr/>
        </p:nvPicPr>
        <p:blipFill>
          <a:blip r:embed="rId2"/>
          <a:stretch/>
        </p:blipFill>
        <p:spPr>
          <a:xfrm>
            <a:off x="4716360" y="1600200"/>
            <a:ext cx="3384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одержание  примерной рабочей программы по английскому языку в основ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826920" y="1052640"/>
            <a:ext cx="662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Группа ОЛ-21: 11.00-12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. Школьная модель оценки образовательных достижений  учащихся  в условиях требований ФГ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. Взаимосвязанное обучение лексической и грамматической сторонам устной реч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3. Игровые технологии при обучении лексике на уроках английского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4.Проектирование современного урока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5. Средства достижения образовательных результатов в УМК «  ……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6. Дифференцированный подход в обучении. Эффективные приемы из  практики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7. Разработка и применение на практике тренировочных учебных материалов для формирования  языковых навыков и речевых умений в области чтения, аудирования, говорения или письма.  (На выбо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8. Применение интерактивных средств обучения (интерактивной доски, электронных образовательных ресурсов и т.д.)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9. Электронное обучение и дистанционные образовательные технологии  в образовательном процессе (Из опыта рабо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0.Реализация принципа преемственности в обучении английскому языку учащихся 5-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1.Формирование навыков читательской грамотности в образовательном процессе по английскому язы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2. Методический инструментарий УМК «…….» в достижении планируемых результатов обучения английскому язы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3. Использование средств визуализаци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4.Организация самостоятельной работы обучающихся в основной и старшей шк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5.Приемы активизации речемыслительной деятельност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6.Новые формы внеурочной иноязычной деятельности, практикуемые в  МАОУ/МБОУ/МОУ «……….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7.Самоанализ педагогической деятельности в 2020-2021 учебном году: достижения и неу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8. Практика обучения  английскому  языку в условиях, когда учащиеся не разделены на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9.Формирование навыков критического мышления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0. Специфика работы с учащимися, имеющими низкую мотивацию к изучению английского язы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План вебинара (рабочий язык: русский, англий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74c8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1. Основные результаты  работы участников проекта  «ОЛ-21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(количественные и качественные показатели) на текущий пери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.Ключевые направления развития иноязычного образования в Пермском крае в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021-2022 учебном году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Основные задачи и пути реал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Тихомирова О.А,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СНС  отдела НМС ОО ЦНППМ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3. «Что нужно знать о задании 40 ЕГЭ (Эссе) по английскому языку»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Корелина Н. Н.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, учитель английского языка высшей категории МА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«СОШ № 50 с углубленным изучением английского языка, руководитель методического объединения учителей английского языка г. Перми ,эксперт ЕГЭ, член краевой  конфликтной коми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4. Лайф-хаки для педагогов от участника проекта «ОЛ-ШНОР-21»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Рихсиевой Л.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Данные о выполнении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3484440"/>
        </p:xfrm>
        <a:graphic>
          <a:graphicData uri="http://schemas.openxmlformats.org/drawingml/2006/table">
            <a:tbl>
              <a:tblPr/>
              <a:tblGrid>
                <a:gridCol w="1738440"/>
                <a:gridCol w="2232000"/>
                <a:gridCol w="2201760"/>
                <a:gridCol w="20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вы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редставленных раб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общего числа участ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2 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ыбор темы итогово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Не представили работу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907920"/>
          <a:ext cx="8137440" cy="5780160"/>
        </p:xfrm>
        <a:graphic>
          <a:graphicData uri="http://schemas.openxmlformats.org/drawingml/2006/table">
            <a:tbl>
              <a:tblPr/>
              <a:tblGrid>
                <a:gridCol w="431640"/>
                <a:gridCol w="2736720"/>
                <a:gridCol w="496908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О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тельное учре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Александрова Татьян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ОШ №3» г. Горнозавод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Джумалиева Евгения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 г. Лысь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Еговцева Юл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Мельничная СОШ» Част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Зорина Екатерина Анато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лых Анастас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ахитова Роза Васим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Карьевская СОШ Орд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красова Людмил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 СОШ №60» г. Перм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мтинова Наталья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Екатерин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урисламов Артур Мударис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КОУ « Богородская СОШ» Бикбаевская шк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Попова Елена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 «Моргуновская ООШ- Д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Хардина Ирин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Черемных Ольг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ДООШ №1 ( КШ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Штернберг Арина Ильин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авинская средняя школа» Перм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Основные  выводы по результатам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 выполнения двух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Выявлена  острая необходимость  поддержки по совершенствованию продуктивной письмен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 Необходимо методическое сопровождение ( курсовая подготовка, практикумы) по  освоению технологии выполнения письменных заданий в формате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 Провести практикум по оцениванию письменных работ учащихся на критериальной основе в формате ОГЭ,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бновлённый ФГОС  начального и основного общего образования: анализируем изменения, планируем реализаци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539640" y="2174760"/>
            <a:ext cx="3468960" cy="4062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Н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:\РабочийСтол\Screenshot_1.png"/>
          <p:cNvPicPr/>
          <p:nvPr/>
        </p:nvPicPr>
        <p:blipFill>
          <a:blip r:embed="rId2"/>
          <a:stretch/>
        </p:blipFill>
        <p:spPr>
          <a:xfrm>
            <a:off x="5003640" y="2174760"/>
            <a:ext cx="35625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Максимально конкретно прописываются требования к школьной программе, указывающие, что именно школьник должен изучить в рамках предмета, знать и уметь по итогам прохождения кур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Сохраняется акцент на улучшение метапредметных результатов обучения, то есть на формирование у детей навыков, необходимых для самостоятельного изучения предмета и оперирования полученной информ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регламентируется личностное развитие учащихся. Детей ждёт гражданское, патриотическое, духовно-нравственное, эстетическое, физическое, трудовое и экологическое воспит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Новые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ГОС</a:t>
            </a: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 для основного общего образования содержат значительно больше патриотических установок, особенно в контексте формировании у детей представлений о значимом международном положении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a424d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424d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r>
              <a:rPr b="1" lang="ru-RU" sz="4400" spc="-1" strike="noStrike">
                <a:solidFill>
                  <a:srgbClr val="3a424d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Требования к изучению основного иностранного языка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Изучая иностранный язык, дети в повседневной практике для закрепления полученных навыков должны знакомить представителей других народов с культурой и традициями народов России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действующих ФГОС результатом базового обучения иностранному языку должно стать достижение порогового уровня владения, позволяющего выпускникам общаться в устной и письменной формах как с носителями изучаемого иностранного языка, так и с представителями других стран, использующими данный язык как средство общения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о новому ФГОС школьники основной школы должны вести диалог объёмом до 8 реплик со стороны каждого собеседника, уметь составить монолог на 10-12 фраз, воспринимать и понимать на слух не более двух минут аутентичного текста, писать сообщение на 100-12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Изучение второго иностранного языка – не обязательн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640" y="10522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Преподавание ещё одного иностранного языка будет осуществляться при наличии такой возможности в конкретной школе и по заявлению родителей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рамках программы школьники должны научиться изъясняться на втором иностранном языке на уровне, «превышающем элементарный», то есть вести диалог объёмом до 5 реплик со стороны каждого собеседника и составлять монологи в 7-9 фраз, воспринимать и понимать на слух не более 1,5 минут несложного аутентичного текста, уметь писать сообщения до 9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7T11:34:31Z</dcterms:modified>
  <cp:revision>972</cp:revision>
  <dc:subject/>
  <dc:title>Diapositiva 1</dc:title>
</cp:coreProperties>
</file>