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F747-48C3-42BA-B2FD-74D69022A6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BFD5-DF84-41B2-A79E-D7DA2A02A2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0FA1-E9E8-43C7-875B-EE57BFBA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AC8-8FDA-4AD1-9983-7B0611AC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B88B-54F1-4071-84A9-3C2ED5D1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5C36-07FB-4BA2-B292-AFD74185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DA2A-0B4D-488F-89D7-8C780A220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93D0-1A5F-4533-97E3-3E3EFF11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9F8-FB94-4CFF-AD6F-CDE4537E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6F51-C406-4FC8-AC3D-C45C7696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6249-EFE4-4B4F-849E-BB4B02AD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0BF-D7F4-485D-80B1-4FF92751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3AD-FD46-4F10-8A14-34496850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0816-FDBE-4388-A52F-07A1F80B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085C-1CEE-4BAB-ABE8-2F871FE52B8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ublication.pravo.gov.ru/Document/View/0001202107050027?index=2&amp;rangeSize=1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2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6 августа 2021</a:t>
            </a:r>
            <a:br>
              <a:rPr sz="24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ромежуточный вебинар</a:t>
            </a:r>
            <a:br>
              <a:rPr sz="2400"/>
            </a:br>
            <a:br>
              <a:rPr sz="24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Моя работа в проект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«Образовательный лифт»: первые итоги»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Подход к изучению иностранных языков в начальной школе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К окончанию начальной школы учащиеся должны научиться строить диалог на 4-5 фраз со стороны каждого собеседника, составлять монолог на 4-5 реплик, воспринимать и понимать на слух до минуты адаптированного или аутентичного текста и писать тексты объёмом до 80 слов в рамках тематического блока «Мир моего «Я». Мир моих увлечений. Мир вокруг меня. Родная страна и страна изучаемого язы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целом языкового уровня должно хватать для «элементарного бытового общения» и знакомства представителей других стран с «культурой своего народ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D:\РабочийСтол\Screenshot_2.png"/>
          <p:cNvPicPr/>
          <p:nvPr/>
        </p:nvPicPr>
        <p:blipFill>
          <a:blip r:embed="rId1"/>
          <a:stretch/>
        </p:blipFill>
        <p:spPr>
          <a:xfrm>
            <a:off x="395280" y="260280"/>
            <a:ext cx="813744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Новые примерные рабочие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D:\РабочийСтол\Screenshot_1.png"/>
          <p:cNvPicPr/>
          <p:nvPr/>
        </p:nvPicPr>
        <p:blipFill>
          <a:blip r:embed="rId1"/>
          <a:stretch/>
        </p:blipFill>
        <p:spPr>
          <a:xfrm>
            <a:off x="684360" y="1557360"/>
            <a:ext cx="3527280" cy="489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РабочийСтол\Screenshot_2.png"/>
          <p:cNvPicPr/>
          <p:nvPr/>
        </p:nvPicPr>
        <p:blipFill>
          <a:blip r:embed="rId2"/>
          <a:stretch/>
        </p:blipFill>
        <p:spPr>
          <a:xfrm>
            <a:off x="4716360" y="1600200"/>
            <a:ext cx="33847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одержание  примерной рабочей программы по английскому языку в основ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D:\РабочийСтол\Screenshot_1.png"/>
          <p:cNvPicPr/>
          <p:nvPr/>
        </p:nvPicPr>
        <p:blipFill>
          <a:blip r:embed="rId1"/>
          <a:stretch/>
        </p:blipFill>
        <p:spPr>
          <a:xfrm>
            <a:off x="826920" y="1052640"/>
            <a:ext cx="66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Группа ОЛ-21: 11.00-12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836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. Школьная модель оценки образовательных достижений  учащихся  в условиях требований ФГ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. Взаимосвязанное обучение лексической и грамматической сторонам устной реч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3. Игровые технологии при обучении лексике на уроках английского язык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4.Проектирование современного урока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5. Средства достижения образовательных результатов в УМК «  ……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6. Дифференцированный подход в обучении. Эффективные приемы из  практики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7. Разработка и применение на практике тренировочных учебных материалов для формирования  языковых навыков и речевых умений в области чтения, аудирования, говорения или письма.  (На выбо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8. Применение интерактивных средств обучения (интерактивной доски, электронных образовательных ресурсов и т.д.)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9. Электронное обучение и дистанционные образовательные технологии  в образовательном процессе (Из опыта рабо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0.Реализация принципа преемственности в обучении английскому языку учащихся 5-х клас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мерный перечень проектов в рамках проекта «Образовательный лифт: ШНОР» по итогам работы в проекте в 2021 г. (Для представления на НПК в ноябре 2021 г.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1.Формирование навыков читательской грамотности в образовательном процессе по английскому язы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2. Методический инструментарий УМК «…….» в достижении планируемых результатов обучения английскому язык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3. Использование средств визуализаци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4.Организация самостоятельной работы обучающихся в основной и старшей школ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5.Приемы активизации речемыслительной деятельности на уроках английского язы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6.Новые формы внеурочной иноязычной деятельности, практикуемые в  МАОУ/МБОУ/МОУ «……….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7.Самоанализ педагогической деятельности в 2020-2021 учебном году: достижения и неудач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8. Практика обучения  английскому  языку в условиях, когда учащиеся не разделены на групп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19.Формирование навыков критического мышления на уроках английского язы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349"/>
              </a:spcBef>
              <a:spcAft>
                <a:spcPts val="1001"/>
              </a:spcAft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25198"/>
                </a:solidFill>
                <a:latin typeface="Arial"/>
                <a:ea typeface="Times New Roman"/>
              </a:rPr>
              <a:t>20. Специфика работы с учащимися, имеющими низкую мотивацию к изучению английского язы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План вебинара (рабочий язык: русский, англий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74c81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1. Основные результаты  работы участников проекта  «ОЛ-21»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(количественные и качественные показатели) на текущий перио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.Ключевые направления развития иноязычного образования в Пермском крае в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2021-2022 учебном году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Основные задачи и пути реализа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Тихомирова О.А,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СНС  отдела НМС ОО ЦНППМ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3. «Что нужно знать о задании 40 ЕГЭ (Эссе) по английскому языку»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 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Корелина Н. Н.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, учитель английского языка высшей категории МАО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«СОШ № 50 с углубленным изучением английского языка, руководитель методического объединения учителей английского языка г. Перми ,эксперт ЕГЭ, член краевой  конфликтной коми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     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4. Лайф-хаки для педагогов от участника проекта «ОЛ-ШНОР-21» </a:t>
            </a:r>
            <a:r>
              <a:rPr b="1" i="1" lang="ru-RU" sz="1800" spc="-1" strike="noStrike">
                <a:solidFill>
                  <a:srgbClr val="374c81"/>
                </a:solidFill>
                <a:latin typeface="Arial Narrow"/>
              </a:rPr>
              <a:t>Рихсиевой Л.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Данные о выполнении зад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3484440"/>
        </p:xfrm>
        <a:graphic>
          <a:graphicData uri="http://schemas.openxmlformats.org/drawingml/2006/table">
            <a:tbl>
              <a:tblPr/>
              <a:tblGrid>
                <a:gridCol w="1738440"/>
                <a:gridCol w="2232000"/>
                <a:gridCol w="2201760"/>
                <a:gridCol w="20574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ок вы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чество представленных раб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от общего числа участник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42 че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6b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ыбор темы итогового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Не представили работу №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24000" y="907920"/>
          <a:ext cx="8137440" cy="5780160"/>
        </p:xfrm>
        <a:graphic>
          <a:graphicData uri="http://schemas.openxmlformats.org/drawingml/2006/table">
            <a:tbl>
              <a:tblPr/>
              <a:tblGrid>
                <a:gridCol w="431640"/>
                <a:gridCol w="2736720"/>
                <a:gridCol w="4969080"/>
              </a:tblGrid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ИО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разовательное учрежд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Александрова Татьян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ОШ №3» г. Горнозавод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Джумалиева Евгения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 г. Лысь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Еговцева Юл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Мельничная СОШ» Част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Зорина Екатерина Анатоль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лых Анастасия Пав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СОШ №1 г. Кунгу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Вахитова Роза Васим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Карьевская СОШ Ордин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красова Людмила Никола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 СОШ №60» г. Перм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емтинова Наталья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Екатерининская СОШ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Нурисламов Артур Мударисович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КОУ « Богородская СОШ» Бикбаевская шко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Попова Елена Михайло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 «Моргуновская ООШ- ДС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Хардина Ирин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СОШ №16 с УИОП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Черемных Ольга Серг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БОУ « ДООШ №1 ( КШ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Штернберг Арина Ильинич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74c81"/>
                          </a:solidFill>
                          <a:latin typeface="Arial Narrow"/>
                        </a:rPr>
                        <a:t>МАОУ «Савинская средняя школа» Пермский М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Основные  выводы по результатам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 выполнения двух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Выявлена  острая необходимость  поддержки по совершенствованию продуктивной письменн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2. Необходимо методическое сопровождение ( курсовая подготовка, практикумы) по  освоению технологии выполнения письменных заданий в формате итоговой аттест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74c81"/>
                </a:solidFill>
                <a:latin typeface="Arial"/>
              </a:rPr>
              <a:t>3. Провести практикум по оцениванию письменных работ учащихся на критериальной основе в формате ОГЭ,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бновлённый ФГОС  начального и основного общего образования: анализируем изменения, планируем реализаци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О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D:\РабочийСтол\Screenshot_3.png"/>
          <p:cNvPicPr/>
          <p:nvPr/>
        </p:nvPicPr>
        <p:blipFill>
          <a:blip r:embed="rId1"/>
          <a:stretch/>
        </p:blipFill>
        <p:spPr>
          <a:xfrm>
            <a:off x="539640" y="2174760"/>
            <a:ext cx="3468960" cy="4062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ФГОС НО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D:\РабочийСтол\Screenshot_1.png"/>
          <p:cNvPicPr/>
          <p:nvPr/>
        </p:nvPicPr>
        <p:blipFill>
          <a:blip r:embed="rId2"/>
          <a:stretch/>
        </p:blipFill>
        <p:spPr>
          <a:xfrm>
            <a:off x="5003640" y="2174760"/>
            <a:ext cx="356256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Максимально конкретно прописываются требования к школьной программе, указывающие, что именно школьник должен изучить в рамках предмета, знать и уметь по итогам прохождения курс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Сохраняется акцент на улучшение метапредметных результатов обучения, то есть на формирование у детей навыков, необходимых для самостоятельного изучения предмета и оперирования полученной информаци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74c81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регламентируется личностное развитие учащихся. Детей ждёт гражданское, патриотическое, духовно-нравственное, эстетическое, физическое, трудовое и экологическое воспит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Новые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ФГОС</a:t>
            </a: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 для основного общего образования содержат значительно больше патриотических установок, особенно в контексте формировании у детей представлений о значимом международном положении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spcAft>
                <a:spcPts val="1001"/>
              </a:spcAft>
              <a:buClr>
                <a:srgbClr val="3a424d"/>
              </a:buClr>
              <a:buSzPct val="55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a424d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Что изменилось?</a:t>
            </a:r>
            <a:r>
              <a:rPr b="1" lang="ru-RU" sz="4400" spc="-1" strike="noStrike">
                <a:solidFill>
                  <a:srgbClr val="3a424d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Требования к изучению основного иностранного языка</a:t>
            </a:r>
            <a:br>
              <a:rPr sz="36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Изучая иностранный язык, дети в повседневной практике для закрепления полученных навыков должны знакомить представителей других народов с культурой и традициями народов России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действующих ФГОС результатом базового обучения иностранному языку должно стать достижение порогового уровня владения, позволяющего выпускникам общаться в устной и письменной формах как с носителями изучаемого иностранного языка, так и с представителями других стран, использующими данный язык как средство общения</a:t>
            </a:r>
            <a:r>
              <a:rPr b="0" lang="ru-RU" sz="1800" spc="-1" strike="noStrike">
                <a:solidFill>
                  <a:srgbClr val="3a424d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По новому ФГОС школьники основной школы должны вести диалог объёмом до 8 реплик со стороны каждого собеседника, уметь составить монолог на 10-12 фраз, воспринимать и понимать на слух не более двух минут аутентичного текста, писать сообщение на 100-12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Изучение второго иностранного языка – не обязательно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9640" y="10522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Преподавание ещё одного иностранного языка будет осуществляться при наличии такой возможности в конкретной школе и по заявлению родителей уче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1947"/>
              </a:lnSpc>
              <a:spcBef>
                <a:spcPts val="451"/>
              </a:spcBef>
              <a:spcAft>
                <a:spcPts val="1199"/>
              </a:spcAft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4c81"/>
                </a:solidFill>
                <a:latin typeface="Arial"/>
              </a:rPr>
              <a:t>В рамках программы школьники должны научиться изъясняться на втором иностранном языке на уровне, «превышающем элементарный», то есть вести диалог объёмом до 5 реплик со стороны каждого собеседника и составлять монологи в 7-9 фраз, воспринимать и понимать на слух не более 1,5 минут несложного аутентичного текста, уметь писать сообщения до 90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74c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9-07T11:34:31Z</dcterms:modified>
  <cp:revision>972</cp:revision>
  <dc:subject/>
  <dc:title>Diapositiva 1</dc:title>
</cp:coreProperties>
</file>