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2909-467E-457A-AC23-26081BE36B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1FCB-D4C6-4EDA-95DB-44E632509F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B3BB-12E4-4E28-A3A4-E2B56A94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466-8280-48C1-953C-518E6E9D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421-ACA6-4DF8-B595-FF240FE3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2998-9494-46F7-8093-5921F4D0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492-AEDD-4B78-80A8-D0AC2602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8AC-7CAF-44C7-A811-BFBC96E0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A38-B93E-4A9E-A07B-E4A10245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93E-2310-4883-BD54-C31E3C4B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6E52-F556-4884-913D-81D7B37F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7F32-22B2-45DE-9E14-F487783D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189-411E-4348-8EDF-0EC4E802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1E5-B654-4E8C-8C46-07FFE0BF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2642-F957-4437-BC4C-E5A0FEE0D92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ublication.pravo.gov.ru/Document/View/0001202107050027?index=2&amp;rangeSize=1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6 августа 2021</a:t>
            </a:r>
            <a:br>
              <a:rPr sz="24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ромежуточный вебинар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Моя работа в проект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«Образовательный лифт»: первые итоги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одход к изучению иностранных языков в начальной школе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К окончанию начальной школы учащиеся должны научиться строить диалог на 4-5 фраз со стороны каждого собеседника, составлять монолог на 4-5 реплик, воспринимать и понимать на слух до минуты адаптированного или аутентичного текста и писать тексты объёмом до 80 слов в рамках тематического блока «Мир моего «Я». Мир моих увлечений. Мир вокруг меня. Родная страна и страна изучаемого язы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целом языкового уровня должно хватать для «элементарного бытового общения» и знакомства представителей других стран с «культурой своего нар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395280" y="260280"/>
            <a:ext cx="81374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Новые примерные рабоч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:\РабочийСтол\Screenshot_1.png"/>
          <p:cNvPicPr/>
          <p:nvPr/>
        </p:nvPicPr>
        <p:blipFill>
          <a:blip r:embed="rId1"/>
          <a:stretch/>
        </p:blipFill>
        <p:spPr>
          <a:xfrm>
            <a:off x="684360" y="1557360"/>
            <a:ext cx="3527280" cy="489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РабочийСтол\Screenshot_2.png"/>
          <p:cNvPicPr/>
          <p:nvPr/>
        </p:nvPicPr>
        <p:blipFill>
          <a:blip r:embed="rId2"/>
          <a:stretch/>
        </p:blipFill>
        <p:spPr>
          <a:xfrm>
            <a:off x="4716360" y="1600200"/>
            <a:ext cx="3384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одержание  примерной рабочей программы по английскому языку в основ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826920" y="1052640"/>
            <a:ext cx="66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Группа ОЛ-21: 11.00-1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. Школьная модель оценки образовательных достижений  учащихся  в условиях требований ФГ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. Взаимосвязанное обучение лексической и грамматической сторонам устной реч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3. Игровые технологии при обучении лексике на уроках англий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4.Проектирование современного урока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5. Средства достижения образовательных результатов в УМК «  ……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6. Дифференцированный подход в обучении. Эффективные приемы из  практики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7. Разработка и применение на практике тренировочных учебных материалов для формирования  языковых навыков и речевых умений в области чтения, аудирования, говорения или письма.  (На выб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8. Применение интерактивных средств обучения (интерактивной доски, электронных образовательных ресурсов и т.д.)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9. Электронное обучение и дистанционные образовательные технологии  в образовательном процессе (Из опыта рабо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0.Реализация принципа преемственности в обучении английскому языку учащихся 5-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1.Формирование навыков читательской грамотности в образовательном процессе по английскому язы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2. Методический инструментарий УМК «…….» в достижении планируемых результатов обучения английскому язы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3. Использование средств визуализаци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4.Организация самостоятельной работы обучающихся в основной и старшей шк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5.Приемы активизации речемыслительной деятельност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6.Новые формы внеурочной иноязычной деятельности, практикуемые в  МАОУ/МБОУ/МОУ «……….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7.Самоанализ педагогической деятельности в 2020-2021 учебном году: достижения и неу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8. Практика обучения  английскому  языку в условиях, когда учащиеся не разделены на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9.Формирование навыков критического мышления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0. Специфика работы с учащимися, имеющими низкую мотивацию к изучению английского язы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План вебинара (рабочий язык: русский, англий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4c8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1. Основные результаты  работы участников проекта  «ОЛ-21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(количественные и качественные показатели) на текущий пери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.Ключевые направления развития иноязычного образования в Пермском крае в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021-2022 учебном году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Основные задачи и пути реал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Тихомирова О.А,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СНС  отдела НМС ОО ЦНППМ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3. «Что нужно знать о задании 40 ЕГЭ (Эссе) по английскому языку»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Корелина Н. Н.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, учитель английского языка высшей категории МА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«СОШ № 50 с углубленным изучением английского языка, руководитель методического объединения учителей английского языка г. Перми ,эксперт ЕГЭ, член краевой  конфликтной коми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4. Лайф-хаки для педагогов от участника проекта «ОЛ-ШНОР-21»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Рихсиевой Л.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Данные о выполнении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3484440"/>
        </p:xfrm>
        <a:graphic>
          <a:graphicData uri="http://schemas.openxmlformats.org/drawingml/2006/table">
            <a:tbl>
              <a:tblPr/>
              <a:tblGrid>
                <a:gridCol w="1738440"/>
                <a:gridCol w="2232000"/>
                <a:gridCol w="220176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редставленных раб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общего числа участ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2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ыбор темы итогово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Не представили работу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907920"/>
          <a:ext cx="8137440" cy="5780160"/>
        </p:xfrm>
        <a:graphic>
          <a:graphicData uri="http://schemas.openxmlformats.org/drawingml/2006/table">
            <a:tbl>
              <a:tblPr/>
              <a:tblGrid>
                <a:gridCol w="431640"/>
                <a:gridCol w="2736720"/>
                <a:gridCol w="496908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О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Александрова Татьян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ОШ №3» г. Горнозавод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Джумалиева Евгения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 г. Лысь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Еговцева Юл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Мельничная СОШ» Част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Зорина Екатерина Анато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лых Анастас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ахитова Роза Васим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Карьевская СОШ Орд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красова Людмил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 СОШ №60» г. Перм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мтинова Наталья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Екатерин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урисламов Артур Мударис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КОУ « Богородская СОШ» Бикбаевская 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Попова Елена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 «Моргуновская ООШ- Д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Хардина Ирин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Черемных Ольг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ДООШ №1 ( КШ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Штернберг Арина Ильин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авинская средняя школа» Перм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Основные  выводы по результатам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 выполнения двух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Выявлена  острая необходимость  поддержки по совершенствованию продуктивной письмен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 Необходимо методическое сопровождение ( курсовая подготовка, практикумы) по  освоению технологии выполнения письменных заданий в формате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 Провести практикум по оцениванию письменных работ учащихся на критериальной основе в формате ОГЭ,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бновлённый ФГОС  начального и основного общего образования: анализируем изменения, планируем реализаци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539640" y="2174760"/>
            <a:ext cx="3468960" cy="4062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Н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:\РабочийСтол\Screenshot_1.png"/>
          <p:cNvPicPr/>
          <p:nvPr/>
        </p:nvPicPr>
        <p:blipFill>
          <a:blip r:embed="rId2"/>
          <a:stretch/>
        </p:blipFill>
        <p:spPr>
          <a:xfrm>
            <a:off x="5003640" y="2174760"/>
            <a:ext cx="35625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Максимально конкретно прописываются требования к школьной программе, указывающие, что именно школьник должен изучить в рамках предмета, знать и уметь по итогам прохождения кур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Сохраняется акцент на улучшение метапредметных результатов обучения, то есть на формирование у детей навыков, необходимых для самостоятельного изучения предмета и оперирования полученной информ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регламентируется личностное развитие учащихся. Детей ждёт гражданское, патриотическое, духовно-нравственное, эстетическое, физическое, трудовое и экологическое воспит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Новые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ГОС</a:t>
            </a: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 для основного общего образования содержат значительно больше патриотических установок, особенно в контексте формировании у детей представлений о значимом международном положении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a424d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424d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r>
              <a:rPr b="1" lang="ru-RU" sz="4400" spc="-1" strike="noStrike">
                <a:solidFill>
                  <a:srgbClr val="3a424d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Требования к изучению основного иностранного языка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Изучая иностранный язык, дети в повседневной практике для закрепления полученных навыков должны знакомить представителей других народов с культурой и традициями народов России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действующих ФГОС результатом базового обучения иностранному языку должно стать достижение порогового уровня владения, позволяющего выпускникам общаться в устной и письменной формах как с носителями изучаемого иностранного языка, так и с представителями других стран, использующими данный язык как средство общения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о новому ФГОС школьники основной школы должны вести диалог объёмом до 8 реплик со стороны каждого собеседника, уметь составить монолог на 10-12 фраз, воспринимать и понимать на слух не более двух минут аутентичного текста, писать сообщение на 100-12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Изучение второго иностранного языка – не обязательн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10522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Преподавание ещё одного иностранного языка будет осуществляться при наличии такой возможности в конкретной школе и по заявлению родителей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рамках программы школьники должны научиться изъясняться на втором иностранном языке на уровне, «превышающем элементарный», то есть вести диалог объёмом до 5 реплик со стороны каждого собеседника и составлять монологи в 7-9 фраз, воспринимать и понимать на слух не более 1,5 минут несложного аутентичного текста, уметь писать сообщения до 9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7T11:34:31Z</dcterms:modified>
  <cp:revision>972</cp:revision>
  <dc:subject/>
  <dc:title>Diapositiva 1</dc:title>
</cp:coreProperties>
</file>