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D061-07DF-4507-8BC3-947746E4F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89E7-CCB2-40A2-8B0D-BBAEECFD5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25D6-F096-4030-97F2-E29E2237D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6253-BF05-4388-B981-624B46F58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7CC30-8012-4D1D-BB91-3B1D579B3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4A27E-C853-43FD-BCB0-36F820835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9814A-083E-4FE4-BA93-4D5704C5D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3CE32-99EE-4474-8F7B-C7A28065C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77874-E7AB-42F7-9F08-E3D42C44F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7046B-3BD1-42E4-887C-3F86880F0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E425D-2762-4606-B68F-14D044A1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D25B-46FD-4DCB-AA4F-CCF93E489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8A0DC-7428-40AF-AF7B-26B83BE2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A6C0A-5170-499D-9084-29122D8F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41B36-CE85-408C-9D2C-D1D1FCD48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A4283-15CC-422F-8A5C-1E946730A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F5623-9600-4892-80FD-D2F6668D8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87413-D689-41B2-8DF0-2DF2F6548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F6E39-13AC-4F70-861E-51F620CBB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4BD2E-85D8-4378-B388-6A8BFD127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9D162-9C2A-4E4D-BAC8-D5F2E350C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AA151-A635-4811-8A01-260A4332C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39AC-B4E9-4230-A8C0-A40AA0B36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56FAC-29C6-4979-B712-71E90760E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7A8A6-323C-4197-B054-EB91A75D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A3FDF-B56A-45E8-98C1-637470EA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D21CF-D7E9-485E-83FB-C9C72C92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C797D-FDBD-4EAF-ABF8-A84CC1613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97497-7B59-45FE-B173-E02B9F036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48FBA-4EA6-48DC-B2AD-ED69DCF96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216A3-012E-42C3-AF31-8F559C47A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9CD82-DF72-4DC2-85D1-69F21EEA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7FDD6-F856-499A-9CC0-2B4E0D5B3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D5D5-D185-40AB-8711-81F493731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FF293-6E19-4AC1-8DF5-4766DA82C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54B81-ECF4-45CA-99EF-D307025F5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F619C-AEF6-4A85-8766-A893B8735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C04B2-79B8-4778-A6B4-F2375E2D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14CE1-BFD4-42F1-8C43-CB7E5503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C8980-21A6-4F81-8DCD-C643EA5F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09E75-A6B1-473F-B251-B7980B9E1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189D1-12EF-447E-816A-78D962037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B8D00-A9D4-4231-AA8F-BEDECC5DF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AD7F-8513-416D-ABFA-696261089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4D61-2DEE-4C98-A55F-3496A879F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D2BB-E6D6-43DE-A957-284ABE18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66A8-12F6-4957-8A94-DB1F9C54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6779-D841-4A6B-8009-43B3A7DE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32339-9884-41E7-9530-112887088AB9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8624F-51D3-4539-BCA2-6303D2AD99F4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60415-11C6-4A60-86B0-B4B98775ECB5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59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Freeform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Freeform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88C06-2002-43AE-B205-E3E9D163E17B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1" descr=""/>
          <p:cNvPicPr/>
          <p:nvPr/>
        </p:nvPicPr>
        <p:blipFill>
          <a:blip r:embed="rId1"/>
          <a:stretch/>
        </p:blipFill>
        <p:spPr>
          <a:xfrm>
            <a:off x="291960" y="974880"/>
            <a:ext cx="8242560" cy="251136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24000" y="4005360"/>
            <a:ext cx="8642160" cy="1125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Учитель физики МБОУ «СОШ № 2 с УИОП» г.Лысьв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Фаткуллина Гульнара Аухатовн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530280" y="396720"/>
            <a:ext cx="7864560" cy="11700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533160" y="1844280"/>
            <a:ext cx="78548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2"/>
          <a:srcRect l="3295" t="3907" r="22035" b="18947"/>
          <a:stretch/>
        </p:blipFill>
        <p:spPr>
          <a:xfrm>
            <a:off x="642960" y="1857240"/>
            <a:ext cx="750240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530280" y="396720"/>
            <a:ext cx="7864560" cy="11700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533160" y="1844280"/>
            <a:ext cx="78548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Демоверсии, спецификации, кодификаторы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Формулы по физике 7-9 классы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Краткий справочный материал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493560" y="493560"/>
            <a:ext cx="7864560" cy="10242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33160" y="1844640"/>
            <a:ext cx="7854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рс «ГИА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1" name="Picture 5" descr=""/>
          <p:cNvPicPr/>
          <p:nvPr/>
        </p:nvPicPr>
        <p:blipFill>
          <a:blip r:embed="rId2"/>
          <a:srcRect l="0" t="10743" r="24232" b="23829"/>
          <a:stretch/>
        </p:blipFill>
        <p:spPr>
          <a:xfrm>
            <a:off x="168120" y="1928880"/>
            <a:ext cx="897588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530280" y="755640"/>
            <a:ext cx="7864560" cy="110340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533160" y="2060640"/>
            <a:ext cx="78548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4" name="Picture 5" descr=""/>
          <p:cNvPicPr/>
          <p:nvPr/>
        </p:nvPicPr>
        <p:blipFill>
          <a:blip r:embed="rId2"/>
          <a:stretch/>
        </p:blipFill>
        <p:spPr>
          <a:xfrm>
            <a:off x="971640" y="1989000"/>
            <a:ext cx="712944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530280" y="755640"/>
            <a:ext cx="7864560" cy="11034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533160" y="2060640"/>
            <a:ext cx="78548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2"/>
          <a:stretch/>
        </p:blipFill>
        <p:spPr>
          <a:xfrm>
            <a:off x="900000" y="1989000"/>
            <a:ext cx="64803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Апробация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1806480" y="1935000"/>
            <a:ext cx="55310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AutoShape 6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3" name="Рисунок 6" descr=""/>
          <p:cNvPicPr/>
          <p:nvPr/>
        </p:nvPicPr>
        <p:blipFill>
          <a:blip r:embed="rId1"/>
          <a:stretch/>
        </p:blipFill>
        <p:spPr>
          <a:xfrm>
            <a:off x="576360" y="1052640"/>
            <a:ext cx="80992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Чем обусловлен выбор курса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дготовка к итоговой аттестации должна носить системный характер. По каждой теме необходимо дать краткий справочник - конспект (основные определения, формулы, законы и пр.), примеры с решениями, тренировочные упражнения (на базовом и повышенном уровнях) и тест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облемы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неумение выполнять операции с переводом единиц  измерени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низкий процент верно решивших количественные и качественные задачи, а большинство вообще не приступали к решению этих задач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проблемы оформления решений в заданиях с развернутым ответом: многословность пояснения очевидных фактов, небрежность работы с формулами, ошибки при математических расчетах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21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зможности  </a:t>
            </a: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Google Form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395280" y="1143000"/>
            <a:ext cx="828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ю данного сервиса возможн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ть анкетирование учеников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ть тестирование учеников для контроля и проверки их знаний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стро обработать результаты анкетирования или тестировани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Достоинства </a:t>
            </a:r>
            <a:r>
              <a:rPr b="1" lang="en-US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Google Classroom</a:t>
            </a:r>
            <a:r>
              <a:rPr b="1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:</a:t>
            </a:r>
            <a:r>
              <a:rPr b="1" lang="en-US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50560" y="1125360"/>
            <a:ext cx="84978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правильности выполнения заданий осуществляется автоматически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ивность проверки знаний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увидеть сколько раз ученик выполнил данный тест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строе создание тестов и разного числа вариантов, автоматическая генерация заданий. Исключается списывани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изменить задания, добавить свои задани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озможность группировать задания по темам, выкладывать информацию в любой форм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озможность ограничить доступ к работе по времен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Недостатки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уп к сети Интернет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ение ПК каждому ученику на урок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каждого ученика обязательн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533160" y="2204640"/>
            <a:ext cx="7854840" cy="27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7" name="Заголовок 1" descr=""/>
          <p:cNvPicPr/>
          <p:nvPr/>
        </p:nvPicPr>
        <p:blipFill>
          <a:blip r:embed="rId1"/>
          <a:stretch/>
        </p:blipFill>
        <p:spPr>
          <a:xfrm>
            <a:off x="438120" y="182520"/>
            <a:ext cx="7888320" cy="11700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pic>
        <p:nvPicPr>
          <p:cNvPr id="219" name="Picture 5" descr=""/>
          <p:cNvPicPr/>
          <p:nvPr/>
        </p:nvPicPr>
        <p:blipFill>
          <a:blip r:embed="rId2"/>
          <a:srcRect l="11737" t="0" r="3038" b="18839"/>
          <a:stretch/>
        </p:blipFill>
        <p:spPr>
          <a:xfrm>
            <a:off x="0" y="1440000"/>
            <a:ext cx="9156600" cy="52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В самой структуре ОГЭ содержится указание на то, как можно выстроить подготовку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уществующий кодификатор позволяет разбить материал на несколько крупных тематических блоков, выстроив повторение по содержательным (механика, электричество, оптика, атомная физика и т.д.) линиям. Такой подход будет способствовать формированию более прочных знаний и, как следствие, более уверенному поведению выпускника на экзамене вне зависимости от того, в какой форме экзамен будет проводитьс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530280" y="396720"/>
            <a:ext cx="7864560" cy="117000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533160" y="1844280"/>
            <a:ext cx="78548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водное занят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еханические явлен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епловые явлен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Электромагнитные явлен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изика атома и атомного ядр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5T02:54:54Z</dcterms:created>
  <dc:creator>Лиля</dc:creator>
  <dc:description/>
  <dc:language>en-US</dc:language>
  <cp:lastModifiedBy>User</cp:lastModifiedBy>
  <dcterms:modified xsi:type="dcterms:W3CDTF">2021-11-23T19:29:51Z</dcterms:modified>
  <cp:revision>50</cp:revision>
  <dc:subject/>
  <dc:title>Использование сервиса Google Forms для организации контроля знаний обучающихся</dc:title>
</cp:coreProperties>
</file>