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889-DFD5-4D06-A79B-26E91853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8B7-A597-42F5-834C-3C4FF8AA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4CE-ACA8-4457-BA0E-D7DA949A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ED4-ED59-4F05-B840-0B46C53E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11F5-2E68-4E8F-BBE3-3FB2C5AE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9647-4325-4E48-9913-9F3C5D4F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267B-7DA3-4F02-962F-0D461555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98F4-2FDA-4E30-88E8-D8D55835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5E9B-851A-41C4-B0CB-952863D2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C8C7-7983-4573-8389-7BB09B18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9BD5-E06B-4FC6-B21D-CEAA95E7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F11-CBC1-4736-BB25-B317E551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A15F-66F8-4686-AD06-0EB9762F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DAE3-A3E6-4A30-AC1E-CD28F513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A77B-CE8F-4FEB-845E-E0C02694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C5FF-B21B-46C9-99C0-90A763E5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106D-2A24-4E3E-8538-2FDE27E0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31E-2FBF-4A9F-8BFB-D6C1D90E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E5B-713C-4C1E-8F76-ABA68EB1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40C-FCBE-4A08-AC83-56C4F07B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B1F-E9F2-4FF9-A36B-3C682036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CB7-4DAE-40C1-927B-C2B1531F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F18-EA74-4E5C-AFDD-CC905A00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76E-ADB8-4E20-9ED2-8908733F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dfd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5627-BFB1-4F4B-9C03-CFDAA467E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" descr="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/>
              </a:gs>
              <a:gs pos="100000">
                <a:srgbClr val="fdfbe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1540-890F-474A-8E58-B513E5D2E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5" name="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evnik2@rambler.ru" TargetMode="External"/><Relationship Id="rId2" Type="http://schemas.openxmlformats.org/officeDocument/2006/relationships/hyperlink" Target="mailto:evnik2@rambler.ru" TargetMode="External"/><Relationship Id="rId3" Type="http://schemas.openxmlformats.org/officeDocument/2006/relationships/hyperlink" Target="mailto:evnik2@rambler.ru" TargetMode="External"/><Relationship Id="rId4" Type="http://schemas.openxmlformats.org/officeDocument/2006/relationships/hyperlink" Target="mailto:evnik2@rambler.ru" TargetMode="External"/><Relationship Id="rId5" Type="http://schemas.openxmlformats.org/officeDocument/2006/relationships/hyperlink" Target="mailto:evnik2@rambler.ru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706400"/>
            <a:ext cx="51879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MyTest на уроках физики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882" t="14764" r="65867" b="74320"/>
          <a:stretch/>
        </p:blipFill>
        <p:spPr>
          <a:xfrm>
            <a:off x="270000" y="4522680"/>
            <a:ext cx="2120760" cy="1092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03040" y="3768840"/>
            <a:ext cx="607536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икитин Евгений Анато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БОУ «Шадейская СОШ», 2019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Если открыть редактор то еще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170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 букв (цвет фона за букв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отдельных слов или бук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ирование абзацев (слева, по центру, спра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ерация абза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 шрифта (начерт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символы (математические, греческие буквы и другие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ы, дроби, интегралы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вставлять звуковой вопрос или пояснение к вопросу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 добавить видеоклип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48814" t="20204" r="49514" b="76470"/>
          <a:stretch/>
        </p:blipFill>
        <p:spPr>
          <a:xfrm>
            <a:off x="8391600" y="5289480"/>
            <a:ext cx="53028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325520"/>
            <a:ext cx="8483760" cy="119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пасибо за внимание</a:t>
            </a:r>
            <a:br>
              <a:rPr sz="4800"/>
            </a:b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4160" y="2411280"/>
            <a:ext cx="5148000" cy="203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-908-26-58-493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evnik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2"/>
              </a:rPr>
              <a:t>2@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rambler</a:t>
            </a:r>
            <a:r>
              <a:rPr b="1" lang="ru-RU" sz="3200" spc="-1" strike="noStrike" u="sng">
                <a:solidFill>
                  <a:srgbClr val="a8d02a"/>
                </a:solidFill>
                <a:uFillTx/>
                <a:latin typeface="Arial"/>
                <a:hlinkClick r:id="rId4"/>
              </a:rPr>
              <a:t>.</a:t>
            </a:r>
            <a:r>
              <a:rPr b="1" lang="en" sz="3200" spc="-1" strike="noStrike" u="sng">
                <a:solidFill>
                  <a:srgbClr val="a8d02a"/>
                </a:solidFill>
                <a:uFillTx/>
                <a:latin typeface="Arial"/>
                <a:hlinkClick r:id="rId5"/>
              </a:rPr>
              <a:t>r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35000" y="4168800"/>
            <a:ext cx="572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а сетевой верс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группы уч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тестов, для учител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1200" y="1208160"/>
            <a:ext cx="89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 д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ивной проверки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тический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, темы, разделы, ОГЭ/Е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е те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5-7 мину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практических навык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мерения физ. велич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мпиа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е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текстовой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ГЭ вопрос №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195800" y="0"/>
            <a:ext cx="49482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латная тестовая оболочка (работает п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 8)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созданная специально для учебных заведений. Практически нет недоста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MyTest это - система программ для создания и проведения компьютерного тестирования, сбора и анализа результатов, выставления оценки по указанной в тесте шка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0200" y="1648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Преимущества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MyTest</a:t>
            </a:r>
            <a:endParaRPr b="1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57400"/>
            <a:ext cx="91440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бумажного носител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-»печать, хранение, раздатка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ая проверка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ибкая система оценивания, «здесь и сейчас», «5»-«12»-«100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мешивание вопросов и ответов в тес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ы вопросов. (Вариативность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дача теста, в удобное врем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вопросов (1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заданий теста / качества те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енный вид тес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цв. фот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звук, 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а дома… (пароль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ет с фле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шрифта для слабовидя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ехнология создания теста (для ОГЭ, ЕГЭ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пируем с сай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pi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ы на определенную тему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+C, Ctrl+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фика (таблицы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в граф. редактор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ор. клавиши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м групп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годам/по смысловым тем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аем… отве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о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4960" y="0"/>
            <a:ext cx="15634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Настройка сервера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бкая настройка сервера для мониторинг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 результатов, в т.ч. за пределы  программы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ипломы, сертификаты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результатов тес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13640" y="0"/>
            <a:ext cx="15303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Обнаруженные системы списывания)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65200"/>
            <a:ext cx="91440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паргал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(мобильный и на 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 с экрана и размещение в группе в В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ие теста программой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estEdi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MyTest работает с восемью типами заданий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4806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оч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енный выбо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порядка следо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ление соответств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азание истинности или ложности утвержде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числа (или с интервалом ввод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чной ввод текс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ор места на изобра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 редакторе вопросов и ответов есть: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25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рный / курсив / подчеркивание / зачерк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хние индексы / нижние инде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 шрифта во всем т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9-02-22T05:39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