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0640" cy="124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наибольшей степени курсы по выбору  удовлетворили запросам пятиклассников  в области математики (геометрии) и русского языка (хотя русский язык по первой диагностике не входит в число предпочитаемых). Следует отметить тот факт, что соотношение удовлетворенных индивидуальных запросов в начале года и в конце основываются на результатах разных методик: в первом случае – это объективная методика, во втором –субъективная. Возможно, этим объясняется расхождение в цифрах. Более того, если  в начале года опросу  подлежали все уч-ся 5-х классов, то в конце года рефлексировали в данном случае только те, кто через эти курсы проше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2D677-AF7E-4091-9F0E-0ED018BB4B68}" type="slidenum"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15C59-8369-4E4A-98B7-776D07C47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D402-1D2C-4CD3-A0A9-AFBAF90AC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A3B4-B201-438D-9377-420BC34A4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E293-28ED-44AE-B621-44FF51D34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FD7BF-9D61-4989-B2CC-87783D1B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6E5CA-F689-47E8-ACB1-20986D26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0CC58-C351-495C-AFDF-38BC11C5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712FD-6615-41DF-BC0B-71FC15F9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6076C-AD99-4285-A719-E684653A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4E0A1-2406-4C13-B9DD-EC95E3D3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C02F4-3934-40CD-BA5F-9379C7A3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A2D16-3DB5-4925-974D-23D3E0358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5984F-0370-4AB9-B715-60FD7A1D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CE913-EBF3-4567-A9C8-B4F9EC82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DA2C3-1A25-4A29-BCD1-08896059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A5AA4-CC30-4C10-8E28-7263C205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C8328-9224-436D-A222-86CBA282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4E1C8-BA7C-49F8-B0E1-9A9F0A758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95EE-E3A9-4C41-A7D8-5C93783F8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10D6-C326-4D54-AA5B-0CB11BBBD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AEE1-FFE6-4943-8F67-29D0E8FCF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3D91-1993-476C-A31F-5442A3773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B2F1-7476-4E95-9ABB-DC7B19CC9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C9AE-809F-46CF-A046-9024938BD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05B24-8858-4E9A-8641-82544F496DF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6524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31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3CD0D-F9C9-49D0-BCA8-1F47F7971B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360360" y="720720"/>
            <a:ext cx="8318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«Формирование мотивационного компонента готовности к профессиональному самоопределению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60360" y="4608360"/>
            <a:ext cx="8318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Бурачкова Ольга Николае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заместитель директора по воспитательной работе МАОУ «Юго-Камская средняя школа Пермского райо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179280" y="260280"/>
            <a:ext cx="8785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ценка предметного предпочтения  внеурочной деятельности обучающихся старшей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ласс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 11 «А»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классный руководитель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Белова О. Л.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2001" t="0" r="2309" b="9512"/>
          <a:stretch/>
        </p:blipFill>
        <p:spPr>
          <a:xfrm>
            <a:off x="-1440" y="1400040"/>
            <a:ext cx="9145440" cy="3407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rcRect l="0" t="0" r="0" b="35696"/>
          <a:stretch/>
        </p:blipFill>
        <p:spPr>
          <a:xfrm>
            <a:off x="0" y="4807080"/>
            <a:ext cx="914400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9640" y="286920"/>
            <a:ext cx="6599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тоги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формирована интегрированная модель учебного плана, внеурочной деятельности и дополнительного образования через курсы по интересам и систему воспитательной деятельности на параллел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 мониторинг индивидуальной занятости детей во внеурочной деятельности по направлениям «Курсы-мероприятия-система дополнительного образования»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иагностические материалы по выявлению предметного предпочтения и умения учиться  каждого ученика при переходе с основного уровня образования на средний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пределена  диагностика «Мой выбор» для определения индивидуального выбора предметной области и индивидуальной сферы деятельности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ханизм обеспечения выбора каждым  учеником направления  внеурочной деятельности, а в последующем предметной (образовательной) област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о и апробировано 46 программ ВД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8088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  модель внеуроч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990720" y="3429000"/>
            <a:ext cx="2133360" cy="60948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ов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057400" y="4724280"/>
            <a:ext cx="2286000" cy="6858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 воспит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циал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581280" y="3352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57400" y="2209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пл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>
            <a:off x="3105000" y="3657600"/>
            <a:ext cx="495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514600" y="2971800"/>
            <a:ext cx="1440" cy="3808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V="1">
            <a:off x="2514600" y="4247640"/>
            <a:ext cx="1440" cy="4194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4495680" y="441972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0800000">
            <a:off x="1295280" y="260964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 rot="16200000">
            <a:off x="4438800" y="2552400"/>
            <a:ext cx="533160" cy="609480"/>
          </a:xfrm>
          <a:custGeom>
            <a:avLst/>
            <a:gdLst>
              <a:gd name="textAreaLeft" fmla="*/ 7560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 rot="5400000">
            <a:off x="1275840" y="447660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553080" y="2362320"/>
            <a:ext cx="2438640" cy="2361960"/>
          </a:xfrm>
          <a:prstGeom prst="ellipse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ю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5791320" y="3429000"/>
            <a:ext cx="761760" cy="38088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8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интересам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ые проб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основным вид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у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6-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динение дете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араллели по интерес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абочие груп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в т.ч. в по предметны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ластя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7-9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0-11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ая деятельность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б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295280"/>
          <a:ext cx="8215200" cy="5423040"/>
        </p:xfrm>
        <a:graphic>
          <a:graphicData uri="http://schemas.openxmlformats.org/drawingml/2006/table">
            <a:tbl>
              <a:tblPr/>
              <a:tblGrid>
                <a:gridCol w="1685880"/>
                <a:gridCol w="3036960"/>
                <a:gridCol w="3492360"/>
              </a:tblGrid>
              <a:tr h="19256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ь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часов для формирования индивидуального маршру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число времени, использованное в индивидуальных маршрутах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0360" y="-144360"/>
            <a:ext cx="84232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мотивационного 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792000"/>
            <a:ext cx="854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ктивные формы, технологии (проекты, web-квесты, реальные квесты, дебаты, круглые столы, научно-практические конференции и т.д.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Бально-рейтинговая оценк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«Ученик года», «Класс года», «Объединение года», «Учитель года» - стимулирование деятельности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ивлечение «интересных» людей, тьюторская позиция педагог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чет желаний обучающихся, родителей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словия среды (материальные, информационные, психологический комфорт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роки самоопределени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Курс «Атлас профессий»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менты оценивания осознанного вы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936720"/>
          <a:ext cx="8213760" cy="5400720"/>
        </p:xfrm>
        <a:graphic>
          <a:graphicData uri="http://schemas.openxmlformats.org/drawingml/2006/table">
            <a:tbl>
              <a:tblPr/>
              <a:tblGrid>
                <a:gridCol w="4575240"/>
                <a:gridCol w="3638520"/>
              </a:tblGrid>
              <a:tr h="45648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367524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Среда-метафора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Мотивы изучения предметов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ка проф.интересов и склонностей, Г. Резапк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 «Перекресток» (Н.С. Пряжников, Е.Ю.Пряжников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метное предпочтение В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едельная занят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 экспертных оце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- Удовлетворенность инд.за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ЗАЧЕМ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1288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еститель директора по В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ный руководи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й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6480">
                <a:tc gridSpan="2"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ая книжка учета выбо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57200" y="936720"/>
          <a:ext cx="8213760" cy="5610240"/>
        </p:xfrm>
        <a:graphic>
          <a:graphicData uri="http://schemas.openxmlformats.org/drawingml/2006/table">
            <a:tbl>
              <a:tblPr/>
              <a:tblGrid>
                <a:gridCol w="2297160"/>
                <a:gridCol w="2197080"/>
                <a:gridCol w="1924200"/>
                <a:gridCol w="1795320"/>
              </a:tblGrid>
              <a:tr h="11613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 по выбо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чало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 (конец 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я родословна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лора и фауна земли Пермско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эк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/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мейные праздни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атр музы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ингвистические игр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узыка вет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028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итать себя как книгу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я, литера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глядная  геометр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индивидуальных запросов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стоявшийся выбор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9 класс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844640"/>
          <a:ext cx="8231400" cy="3668760"/>
        </p:xfrm>
        <a:graphic>
          <a:graphicData uri="http://schemas.openxmlformats.org/drawingml/2006/table">
            <a:tbl>
              <a:tblPr/>
              <a:tblGrid>
                <a:gridCol w="2743200"/>
                <a:gridCol w="2745000"/>
                <a:gridCol w="2743200"/>
              </a:tblGrid>
              <a:tr h="887400">
                <a:tc>
                  <a:txBody>
                    <a:bodyPr lIns="90000" rIns="90000" tIns="152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бор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9478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полность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460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частич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8740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остоял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ремина Инга Анатольевна</dc:creator>
  <dc:description/>
  <dc:language>en-US</dc:language>
  <cp:lastModifiedBy>Dremina-IA</cp:lastModifiedBy>
  <cp:lastPrinted>2019-02-06T06:25:41Z</cp:lastPrinted>
  <dcterms:modified xsi:type="dcterms:W3CDTF">2020-03-27T12:11:3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