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560F-E0E6-4DED-AC9A-4C4922D6730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78D1-6678-4AF3-A5C2-A0F85C7823C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0F6B-BC79-4EA6-A4C2-44DBB78DEE1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EF55-3A69-437C-A600-97F7A676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E08-D839-492A-9D95-214BBD8E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D59-5C2C-4F8D-8E73-1EA58E34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EF0A-D592-4993-8876-3C775EDB0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6F3D-92B9-45D9-B779-CDA08E63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385A-AED0-4934-82DB-F087D3E3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33F5-0FD6-4C27-809F-79FAE7E0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7395-C47F-416D-B3B7-36E0FA41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E914-41D9-4F77-9B0B-10972154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0331-481E-48F8-B2B7-EBC68AFE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5FE1-CF96-42CD-892E-887F1855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CE56-D371-4659-B697-6B03F756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2720-72F7-4D2E-BE62-7F6D0D6F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4F11-1BCE-4F51-9F6E-CB648D1E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4256-2FE0-4631-AA72-A70B7C3A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9AFF-2A46-445B-A6A5-E0BB57E7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763F-8EAA-42A6-8FB4-1F7FE5C5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1D49-C26F-4AA1-B1D0-476A0F68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541-D089-469F-9B44-2C7893AA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0075-F254-406B-8763-AD54EBEA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7A52-B317-40F9-BD44-77CF3493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D9BD-F8CD-4C90-9BC9-A6AA1E3E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EAE8-56FE-4815-B811-838536A8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2906-B790-4253-A1CB-72A6E556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3140-C42F-4ECD-82AB-1B43BF8300F1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6227-6C3A-4221-A3FD-80FB3E493E53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9000"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mbri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ЭФФЕКТИВНЫЕ ФОРМЫ</a:t>
            </a:r>
            <a:br>
              <a:rPr sz="3600"/>
            </a:b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И МЕХАНИЗМЫ ПОВЫШЕНИЯ ОБРАЗОВАТЕЛЬНЫХ РЕЗУЛЬТАТОВ ОБУЧАЮЩИХС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35812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Times New Roman"/>
              </a:rPr>
              <a:t>СОПРОВОЖДЕНИЯ ГРУПП УЧИТЕЛЕЙ-ПРЕДМЕТНИКОВ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1143000"/>
          <a:ext cx="8229600" cy="5616720"/>
        </p:xfrm>
        <a:graphic>
          <a:graphicData uri="http://schemas.openxmlformats.org/drawingml/2006/table">
            <a:tbl>
              <a:tblPr/>
              <a:tblGrid>
                <a:gridCol w="3441600"/>
                <a:gridCol w="2768760"/>
                <a:gridCol w="201924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рта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апрел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ма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-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июн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1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 контр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</a:rPr>
                        <a:t>осн. шк.– 4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сен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октября 2018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.шк.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. шк.– 7 пред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екада ноября 2018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В 2018 ГО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екте было охваче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9 челове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чальная школа; основная и средня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, иностранный язык, математика, химия, история и обществознание, физика, географ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о окол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целевы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овышению образовательных результатов обучающихся в урочной и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научно-методических рекоменд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инятию новых управленческих решений со стороны управлений образованием, административных команд, учителей-предметников, направленных на качественную подготовку выпускников к государственной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ОБРАЗОВАТЕЛЬНЫЙ ЛИФТ – 20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ая направленност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предметно-методической компетентности учителей-предмет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ая задач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ление дефицитных образовательн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ания для их реализации (вариатив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образования, тьюторского сопровождения учащихся и др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ой принцип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евая оценка предметной и методической компетенций уч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различных форм взаимодействия в групп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образовательных результатов обучающихся в зависимости от возможностей и способностей кажд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шная социализа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301320"/>
            <a:ext cx="8991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ПЛАН-ПРОЕКТ НАУЧНО-МЕТОДИЧЕСКОГО</a:t>
            </a:r>
            <a:br>
              <a:rPr sz="2800"/>
            </a:b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СОПРОВОЖДЕНИЯ УЧИТЕЛЕЙ-ПРЕДМЕТ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136520"/>
          <a:ext cx="8610480" cy="5567400"/>
        </p:xfrm>
        <a:graphic>
          <a:graphicData uri="http://schemas.openxmlformats.org/drawingml/2006/table">
            <a:tbl>
              <a:tblPr/>
              <a:tblGrid>
                <a:gridCol w="3600360"/>
                <a:gridCol w="3257640"/>
                <a:gridCol w="1752480"/>
              </a:tblGrid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ная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Установ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т-апрель 2019 г.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полученного   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1 по результатам проверки выполнен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й 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олнение групп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ей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2 по результатам проверки дополнительных зад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юн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Промежуточный семин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ч.шк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. шк.– 8 предм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русский язык, математика, английский язык, обществознание, химия, география, физкульту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густ-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3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7375e"/>
                          </a:solidFill>
                          <a:latin typeface="Calibri"/>
                          <a:ea typeface="Times New Roman"/>
                        </a:rPr>
                        <a:t>русский язык, математика, английский язык, 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>
                      <a:noFill/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н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бинар-консультация № 4 по результатам проверки програм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ябрь 201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2520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тоговый семинар-конферен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и работы в рамках предметных сек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ябрь 2019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25200">
                      <a:solidFill>
                        <a:srgbClr val="4f81bd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ДАНИЯ ПРОЕК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534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838080"/>
            <a:ext cx="7391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7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Дети не должны быть заложниками социального или культурного статуса своих сем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сли школы работают в трудных социальных условиях, то и они, а  не только гимназии и лицеи, работающие, как правило, с благополучными детьми, должны получать специальную поддержку – и методическую, и кадровую, и финансовую»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.В.Пу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Яковлева Надежда Геннадьевна,  научный сотрудник отдела сопровождения ФГОС ИРО ПК (р.т. 8-342- 212-21-99; с.т. 8-909-731-01-80,  </a:t>
            </a:r>
            <a:r>
              <a:rPr b="0" lang="en-U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e-mail fanni1909@yandex.r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ПРЕДЫСТОРИЯ ВОПРО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1760" y="1295280"/>
            <a:ext cx="776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каз Министерства образования и науки Пермского кр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 28.11.2014г  № СЭД-26-01-04-1037 (пункт 13.4.9. «Об утверждении Перечня краевых мероприятий краевых, объема средств и способов закупки товаров и услуг для их реализации в 2015 году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сти бюджетные очные кур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вышения квалификации по программам дополнительного профессионального образования в рамках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аевого проекта «Образовательный лифт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учителей Александровского, Бардымского, Карагайского, Косинского, Кочёвского, Ординского, Сивинского, Соликамского, Уинского, Усольского муниципальных район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жидаемый образовательный результат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владение учителями продуктивными методами и приёмами подготовки выпускников к итоговой аттестаци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лучшение результатов ГИА и ЕГЭ по русскому языку  в данных АТЕ в 2015 год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6» Александр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25» г. Губах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Средняя общеобразовательная школа №3» Гремяч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Средняя общеобразовательная школа № 1» Кизел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Госконзаводская средняя общеобразовательная школа» Куед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сновная общеобразовательная школа № 13» Лысьве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Новоильинский казачий кадетский корпус имени Атамана Ермака» Нытвенского 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Петропавловская средняя общеобразовательная школа» Октябрь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Очерская средняя общеобразовательная школа № 2» Очер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«Средняя общеобразовательная школа № 107» г. Перм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«Деменевская средняя общеобразовательная школа» Чернуши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редняя общеобразовательная школа № 91» Чусов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СПИСОК ОО-АП КРАЕВОГО ПРОЕКТА «ОБРАЗОВАТЕЛЬНЫЙ ЛИФТ» В 2017 Г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</a:rPr>
              <a:t>РЕЗУЛЬТАТЫ НАУЧНО-МЕТОДИЧЕСКОГО СОПРОВОЖДЕНИЯ ГРУПП УЧИТЕЛЕЙ-ПРЕДМЕТНИКОВ – 2017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е было охвачен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 челове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ы практико-ориентированные курсы повышения квалификации (72 ч.) по предметам:«русский язык», «математика», «обществознание», «биология», «химия», «английский язык» – с целью подготовки к ЕГЭ, ОГЭ, по предмету «физическая культура» – с целью повышения уровня социализации обучаю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ны модели эффективной школы на базе ОУ-апробационных площадок (МБОУ «СОШ № 1» г Кизела; МБОУ «СОШ № 6» Александровского района; МКОУ «СОШ № 3» Гремячинского района; МБОУ «СОШ № 91»» Чусовского рай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формированы сетевые проблемные группы педагогов-предметников школ с НРО, НСУ (около 200 человек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уществлена диссеминация лучших методик и практ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ились инициативные центры, точки роста по обобщению лучших методик и практик по подготовке к ОГЭ и ЕГЭ по предмету, а также осуществлена трансляция их на краевом, межрегиональном уровн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НИТОРИНГОВЫЕ ИССЛЕДОВАНИЯ ШКОЛ В 2017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52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 и проведен экспертный опрос руководителей МОУО по оценке шко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эффективности образовательной деятельности школ (НРО, СРО, ВРО) по 17 показателям – охват 732 О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и апробирована методика объективированной оценки социальных условий (НСУ, ОНСУ, ССУ, БСУ, ВСУ) по 18 показателям – охват 702 ОО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ы сводные списки школ по объективированным показателям образовательных результатов и социальных усло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</a:rPr>
              <a:t>ЧТО ОЗНАЧАЕТ «ШКОЛА С НИЗКИМИ РЕЗУЛЬТАТА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школы, в которых результаты ЕГЭ, ОГЭ ниже среднерегиональных на 15 и более бал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у анализа были взяты результаты ЕГЭ, ОГЭ по русскому языку и математике за 2016 год в СОШ Пермского кра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выведен интегральный показатель и составлен рейтинг 291 СОШ (из 701 ОО Пермского кра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му рейтингу было выявлено 55 школ, в которых интегральный показатель был ниже среднекраевого на 12 и более баллов, из них в 21 СОШ интегральный показатель был ниже среднекраевого на 14,7 и более бал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Для работы в качестве апробационных площадок было выбрано 12 школ из 12 муниципальных районов Пермского края 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+   </a:t>
            </a:r>
            <a:r>
              <a:rPr b="0" lang="ru-RU" sz="32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присоединившиеся ОО по решению муниципалитетов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(участники - школы с низкими результатами обучения (НРО), функционирующие в социально неблагоприятных условиях (НСУ)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СПИСОК ОО-АП КРАЕВОГО ПРОЕКТА «ОБРАЗОВАТЕЛЬНЫЙ ЛИФТ» В 2018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редняя общеобразовательная школа №1» г. Охан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Основная общеобразовательная школа № 7» г. Краснокам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Екатерининская средняя общеобразовательная школа» Сив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Чермозская средняя общеобразовательная школа им. В.Ершова» Иль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«Стряпунинская средняя общеобразовательная школа» Краснока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Средняя общеобразовательная школа» п.Пашия Горнозавод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Старо-Шагиртская средняя общеобразовательная школа» Куеди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юндюковская средняя общеобразовательная школа» Бардым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Тюшевская средняя общеобразовательная школа» Октябрь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Усть-Туркская средняя общеобразовательная школа» Кунгур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ОУ «Тисовская средняя общеобразовательная школа – Детский сад» Суксун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600" indent="-55260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 «Кордонская средняя общеобразовательная школа им. М.Ю.Шатунова» Кишертского рай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0132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</a:rPr>
              <a:t>ТЕХНИЧЕСКОЕ ЗАДАНИЕ ДЛЯ УЧИТЕЛЕЙ 2018 ГОДА.</a:t>
            </a:r>
            <a:r>
              <a:rPr b="0" lang="ru-RU" sz="3200" spc="-1" strike="noStrike">
                <a:solidFill>
                  <a:srgbClr val="17375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ситу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индивидуальных затруднений обучающихся при подготовке к сдаче экзамен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предметной компетентности выпускни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воды по принятию управленческих решений, направленных на повышение образовательных результатов школьни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работка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формата задания; сроков; актуальности;  целей, задач; условий (кадровых, технических, методических, социальных); планируемых результа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на основе диагностики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дульн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атическ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ткосрочное (четверть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ое (полугодие, год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дактическое, содержательное  наполнение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лож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9-04-22T08:38:27Z</dcterms:modified>
  <cp:revision>2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