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F0A9-0008-4A04-ACE1-FAC3AFCC0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CC5B-835D-4494-8108-E089EBEF8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AB63-B09C-4415-8AEA-5E6F9C51B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B369-5077-4479-8078-4B0346A8C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0569-38D0-47FC-A035-FBE8AEE37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1E08-9FEF-410C-BE78-18998BEA9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FF73-0EFD-418A-BD23-2B7653697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8F3D-0E2D-4E24-B069-C76BB5B11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D31E-E0E0-45F3-B61A-622ADA62A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1A6B-3922-4675-8F7E-DBC61B80B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03C2-2CA2-4C72-8D86-5737E949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DAA0-2087-4AE2-9D91-5C5D11C15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D9C2D-A61C-4EB2-99AB-EC35A2E7D00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nglishdom.com/" TargetMode="External"/><Relationship Id="rId2" Type="http://schemas.openxmlformats.org/officeDocument/2006/relationships/hyperlink" Target="https://www.englishdom.com/blog/25-interesnyx-zhurnalov-na-anglijskom-yazyke/" TargetMode="External"/><Relationship Id="rId3" Type="http://schemas.openxmlformats.org/officeDocument/2006/relationships/hyperlink" Target="https://www.englishdom.com/blog/podborka-sajtov-dlya-chteniya-na-anglijskom/" TargetMode="External"/><Relationship Id="rId4" Type="http://schemas.openxmlformats.org/officeDocument/2006/relationships/hyperlink" Target="https://www.englishdom.com/blog/rekomendacii-kak-ispolzovat-socialnye-seti-dlya-izucheniya-anglijskogo/" TargetMode="External"/><Relationship Id="rId5" Type="http://schemas.openxmlformats.org/officeDocument/2006/relationships/hyperlink" Target="https://www.englishdom.com/blog/podborka-memov-na-anglijskom/" TargetMode="External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puzzle-english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0872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 Narrow"/>
              </a:rPr>
              <a:t>22 апреля 2021</a:t>
            </a:r>
            <a:br>
              <a:rPr sz="2400"/>
            </a:b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В</a:t>
            </a:r>
            <a:r>
              <a:rPr b="1" lang="ru-RU" sz="2800" spc="-1" strike="noStrike">
                <a:solidFill>
                  <a:srgbClr val="374c81"/>
                </a:solidFill>
                <a:latin typeface="Arial"/>
              </a:rPr>
              <a:t>ебинар- консультация</a:t>
            </a:r>
            <a:br>
              <a:rPr sz="2800"/>
            </a:br>
            <a:r>
              <a:rPr b="1" lang="ru-RU" sz="2800" spc="-1" strike="noStrike">
                <a:solidFill>
                  <a:srgbClr val="374c81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374c81"/>
                </a:solidFill>
                <a:latin typeface="Arial"/>
              </a:rPr>
              <a:t>«Предметная компетенция учителя английского языка: анализ результатов выполнения задания №1</a:t>
            </a:r>
            <a:br>
              <a:rPr sz="2800"/>
            </a:br>
            <a:br>
              <a:rPr sz="2800"/>
            </a:b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Региональный проект 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Arial Narrow"/>
              </a:rPr>
              <a:t>«Образовательный лифт: ШНОР»-2021</a:t>
            </a:r>
            <a:br>
              <a:rPr sz="1800"/>
            </a:b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Предметная группа : учителя английского языка общеобразовательных учреждений Пермского края</a:t>
            </a:r>
            <a:r>
              <a:rPr b="1" lang="ru-RU" sz="2800" spc="-1" strike="noStrike">
                <a:solidFill>
                  <a:srgbClr val="374c81"/>
                </a:solidFill>
                <a:latin typeface="Arial Narrow"/>
              </a:rPr>
              <a:t>. </a:t>
            </a:r>
            <a:r>
              <a:rPr b="1" lang="ru-RU" sz="2800" spc="-1" strike="noStrike">
                <a:solidFill>
                  <a:srgbClr val="c00000"/>
                </a:solidFill>
                <a:latin typeface="Arial Narrow"/>
              </a:rPr>
              <a:t>(</a:t>
            </a:r>
            <a:r>
              <a:rPr b="1" lang="ru-RU" sz="1800" spc="-1" strike="noStrike">
                <a:solidFill>
                  <a:srgbClr val="c00000"/>
                </a:solidFill>
                <a:latin typeface="Arial Narrow"/>
              </a:rPr>
              <a:t>Группа </a:t>
            </a:r>
            <a:r>
              <a:rPr b="1" lang="en-US" sz="1800" spc="-1" strike="noStrike">
                <a:solidFill>
                  <a:srgbClr val="c00000"/>
                </a:solidFill>
                <a:latin typeface="Arial Narrow"/>
              </a:rPr>
              <a:t>B</a:t>
            </a:r>
            <a:r>
              <a:rPr b="1" lang="ru-RU" sz="1800" spc="-1" strike="noStrike">
                <a:solidFill>
                  <a:srgbClr val="c00000"/>
                </a:solidFill>
                <a:latin typeface="Arial Narrow"/>
              </a:rPr>
              <a:t>2-С2</a:t>
            </a:r>
            <a:r>
              <a:rPr b="1" lang="ru-RU" sz="2800" spc="-1" strike="noStrike">
                <a:solidFill>
                  <a:srgbClr val="c00000"/>
                </a:solidFill>
                <a:latin typeface="Arial Narrow"/>
              </a:rPr>
              <a:t>)</a:t>
            </a:r>
            <a:br>
              <a:rPr sz="2800"/>
            </a:b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Руководитель группы: Тихомирова О.А., снс  отдела научно-методического сопровождения общего образования </a:t>
            </a:r>
            <a:br>
              <a:rPr sz="1800"/>
            </a:b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ГАУ ДПО ИРО ПК </a:t>
            </a:r>
            <a:r>
              <a:rPr b="1" lang="en-US" sz="1800" spc="-1" strike="noStrike">
                <a:solidFill>
                  <a:srgbClr val="374c81"/>
                </a:solidFill>
                <a:latin typeface="Arial Narrow"/>
              </a:rPr>
              <a:t>e-mail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:</a:t>
            </a:r>
            <a:r>
              <a:rPr b="1" lang="en-US" sz="1800" spc="-1" strike="noStrike">
                <a:solidFill>
                  <a:srgbClr val="374c81"/>
                </a:solidFill>
                <a:latin typeface="Arial Narrow"/>
              </a:rPr>
              <a:t>oat_poipkro@mail.ru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Times New Roman"/>
                <a:ea typeface="Times New Roman"/>
              </a:rPr>
              <a:t>Основные рекомендации для тренировки навыков чт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ярное чтение (15-20 минут в день) поможет расширить словарный запас, усвоить грамматические структуры, развить умение догадываться о значении слова из контекста. Читать нужно в особенности тем, кто лучше воспринимает информацию зритель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www.englishdom.c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ОП 10 сайтов для тренировки навыков чтения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3d464a"/>
                </a:solidFill>
                <a:latin typeface="Times New Roman"/>
                <a:ea typeface="Times New Roman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логе выходили стать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44ad6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ТОП журналов на английс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44ad6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ТОП сайтов для чтения книг разного уровня слож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44ad6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/>
              </a:rPr>
              <a:t>Как учить английский в социальных сет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44ad6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5"/>
              </a:rPr>
              <a:t>Английский по мем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Times New Roman"/>
                <a:ea typeface="Times New Roman"/>
              </a:rPr>
              <a:t>Основные рекомендации для тренировки </a:t>
            </a:r>
            <a:br>
              <a:rPr sz="2400"/>
            </a:br>
            <a:r>
              <a:rPr b="1" lang="ru-RU" sz="2400" spc="-1" strike="noStrike">
                <a:solidFill>
                  <a:srgbClr val="374c81"/>
                </a:solidFill>
                <a:latin typeface="Times New Roman"/>
                <a:ea typeface="Times New Roman"/>
              </a:rPr>
              <a:t>лексико- грамматических  навы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90792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ентируемся на кодификатор  ЕГЭ-2021- раздел «Грамматическая сторона  речи », пункты 3.3.1.-3.3.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ем современные пособия, в том числ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611280" y="1919160"/>
            <a:ext cx="8064360" cy="2087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6300720" y="4113360"/>
            <a:ext cx="2374920" cy="2411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3"/>
          <a:stretch/>
        </p:blipFill>
        <p:spPr>
          <a:xfrm>
            <a:off x="3502080" y="4113360"/>
            <a:ext cx="255600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Типология заданий для самостоятельной работы педаг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I</a:t>
            </a: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. </a:t>
            </a:r>
            <a:r>
              <a:rPr b="1" lang="ru-RU" sz="2400" spc="-1" strike="noStrike" u="sng">
                <a:solidFill>
                  <a:srgbClr val="025198"/>
                </a:solidFill>
                <a:uFillTx/>
                <a:latin typeface="Arial"/>
                <a:ea typeface="Times New Roman"/>
              </a:rPr>
              <a:t>Предметная компетентность</a:t>
            </a: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: Выполнение заданий по аудированию, чтению, переводу, письменной и устной(?)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II.</a:t>
            </a: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 u="sng">
                <a:solidFill>
                  <a:srgbClr val="025198"/>
                </a:solidFill>
                <a:uFillTx/>
                <a:latin typeface="Arial"/>
                <a:ea typeface="Times New Roman"/>
              </a:rPr>
              <a:t>Методическая компетентность</a:t>
            </a: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. Выполнение заданий по методике проектирования уроков/занятий, использовании  оптимальных приемов обу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III</a:t>
            </a: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. </a:t>
            </a:r>
            <a:r>
              <a:rPr b="1" lang="ru-RU" sz="2400" spc="-1" strike="noStrike" u="sng">
                <a:solidFill>
                  <a:srgbClr val="025198"/>
                </a:solidFill>
                <a:uFillTx/>
                <a:latin typeface="Arial"/>
                <a:ea typeface="Times New Roman"/>
              </a:rPr>
              <a:t>Психолого- педагогическая компетентность</a:t>
            </a: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. Анализ педагогических ситуаций  в образовательном процес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25198"/>
                </a:solidFill>
                <a:latin typeface="Arial"/>
                <a:ea typeface="Times New Roman"/>
              </a:rPr>
              <a:t>Задание №2. Методическая компетентн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50920" y="981000"/>
            <a:ext cx="86421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Вы получите  на электронную почту записи двух урок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глийского языка, участников регионального конкурса «Учитель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да- 2021»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ок №1 представлен учителем английского языка МБОУ № 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 Чайковск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Чирковой Елизаветой Игорев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ок №2 представлен учителем английского языка  МАО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Ш № 87 г. Перми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Щипициным Александром Александрович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Ваша задача - посмотреть оба урока и их краткий анализ, затем выбрать один урок из двух предложенных и  ответить на вопросы по методическому сопровождению урока, которые также будут отправлены вам на почту вместе с записями уро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Срок выполнения задания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20 мая 2021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25198"/>
                </a:solidFill>
                <a:latin typeface="Arial"/>
                <a:ea typeface="Times New Roman"/>
              </a:rPr>
              <a:t>Региональный семинар для участников проекта «Образовательный лифт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ма: «Формирование у обучающихся мотивации к изучению иностранного языка: проблемы и решен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а проведения: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9 апреля 2021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 проведения: МАОУ «СОШ № 65 с углубленным изучением английского язы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рес: г. Пермь, ул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ровоградская, д. 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о мероприятия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0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кончание мероприятия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0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роприятие проводится с соблюдением масочного режим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25198"/>
                </a:solidFill>
                <a:latin typeface="Arial"/>
                <a:ea typeface="Times New Roman"/>
              </a:rPr>
              <a:t>План мероприятий проекта ОЛ- ШН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57200" y="1268280"/>
          <a:ext cx="8229600" cy="5329440"/>
        </p:xfrm>
        <a:graphic>
          <a:graphicData uri="http://schemas.openxmlformats.org/drawingml/2006/table">
            <a:tbl>
              <a:tblPr/>
              <a:tblGrid>
                <a:gridCol w="3251160"/>
                <a:gridCol w="2951280"/>
                <a:gridCol w="2027160"/>
              </a:tblGrid>
              <a:tr h="547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Мероприят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Вре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Да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становочный семинар/ вебин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ы 1,2: 12.00-13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.03.2021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25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ебинар-консультация №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1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2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.04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.04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2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Вебинар-консультация №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Группа 1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Группа 2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24.06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25.06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2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межуточный семинар/вебина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1: 12.00-13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2: 13.00-14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6.08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7.08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2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ебинар-консультация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1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2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.09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.09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27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вый семинар/вебина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1: 12.00-13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2: 13.00-14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.10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.10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03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вая конференция по проекту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ябрь 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Примерный формат итоговых работ участников </a:t>
            </a:r>
            <a:br>
              <a:rPr sz="2400"/>
            </a:b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проекта «Образовательный лифт:ШНОР-21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68360" y="1125360"/>
            <a:ext cx="8229600" cy="507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1. Разработать систему разноуровневых заданий к блокам КИМ ВПР, ГИА, вызывающим наибольшие затруднения у обучающих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2. Разработать программу для самостоятельного повторения  материала и самоконтроля по предмету с использованием возможностей сети Интернет: образовательных платформ, сайтов, сообществ, отдельных ЦОР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3. Разработать программу внеурочной деятельности/ спецкурса/кружка/ др, направленную на повышение образовательного результата на уровне начального/ основного/ среднего образо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4.  Описать обобщение  своего педагогического опыта по подготовке учащихся к  различным  внешним оценочным процедур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5.  Представить систему обучения учащихся с низким уровнем языковой подготовки и мотивации к изучению английского язы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6.  Представить систему удаленного обучения(на примере собственного опыт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7.Друг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Calibri"/>
              </a:rPr>
              <a:t>Задание: определиться с темой своей выпускной работы и сообщить название работы до 20 мая 2021 г. 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СОСТАВ </a:t>
            </a:r>
            <a:r>
              <a:rPr b="1" lang="en-US" sz="2400" spc="-1" strike="noStrike">
                <a:solidFill>
                  <a:srgbClr val="374c81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ГРУППЫ ( </a:t>
            </a:r>
            <a:r>
              <a:rPr b="1" lang="en-US" sz="2400" spc="-1" strike="noStrike">
                <a:solidFill>
                  <a:srgbClr val="374c81"/>
                </a:solidFill>
                <a:latin typeface="Arial"/>
              </a:rPr>
              <a:t>B2-C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79280" y="44280"/>
          <a:ext cx="8785440" cy="6796080"/>
        </p:xfrm>
        <a:graphic>
          <a:graphicData uri="http://schemas.openxmlformats.org/drawingml/2006/table">
            <a:tbl>
              <a:tblPr/>
              <a:tblGrid>
                <a:gridCol w="360360"/>
                <a:gridCol w="1871640"/>
                <a:gridCol w="1873440"/>
                <a:gridCol w="431640"/>
                <a:gridCol w="2303640"/>
                <a:gridCol w="1944720"/>
              </a:tblGrid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лександрова Татьяна Никола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АОУ СОШ 3 Горнозаводс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c788e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c788e"/>
                          </a:solidFill>
                          <a:latin typeface="Arial"/>
                        </a:rPr>
                        <a:t>Канисева Елена Александро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c788e"/>
                          </a:solidFill>
                          <a:latin typeface="Arial"/>
                        </a:rPr>
                        <a:t>МБОУ Ашапская СОШ Ординский рай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79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Урецкая  Марина Геннад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АОУ СОШ р.п.Паш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c788e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c788e"/>
                          </a:solidFill>
                          <a:latin typeface="Arial"/>
                        </a:rPr>
                        <a:t>Коржавина Наталья Игор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c788e"/>
                          </a:solidFill>
                          <a:latin typeface="Arial"/>
                        </a:rPr>
                        <a:t>МБОУ Орд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абурова Инна Никола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АОУ СОШ р.п.Паш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Крупнова Софья Юр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Серебрякова Анна Евген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МАОУ СОШ №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МАОУСОШ 18 г. Кунгу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65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Белозерова Людмила Юр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МБОУ СОШ №1 г. Оче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Малых Анастасия Павло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МАОУ СОШ №1 г. Кунгу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65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5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Политова Татьяна Андре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МБОУ ОСОШ №1 г. Оче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Черемных Ольга Серге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БОУ ДООШ №1 КШ г.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обря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Тимошенко Наталья Витал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МБОУ ОСОШ №2 г. Оче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Некрасова Людмила Никола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МАОУ СОШ №60 г. Перм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0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 u="sng">
                          <a:solidFill>
                            <a:srgbClr val="222268"/>
                          </a:solidFill>
                          <a:uFillTx/>
                          <a:latin typeface="Arial"/>
                        </a:rPr>
                        <a:t>Шафранова Диана Викторо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 u="sng">
                          <a:solidFill>
                            <a:srgbClr val="222268"/>
                          </a:solidFill>
                          <a:uFillTx/>
                          <a:latin typeface="Arial"/>
                        </a:rPr>
                        <a:t>С.П. Кипринская школа-детский сад г. Оче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b6bcf"/>
                          </a:solidFill>
                          <a:latin typeface="Arial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b6bcf"/>
                          </a:solidFill>
                          <a:latin typeface="Arial"/>
                        </a:rPr>
                        <a:t>Опишнян Елена Геннад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b6bcf"/>
                          </a:solidFill>
                          <a:latin typeface="Arial"/>
                        </a:rPr>
                        <a:t>МАОУ Рябининская СОШ Чердынский  р-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50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Габдукаева Алина Рамило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Березниковская СОШ им. М.Г. Имашева Бардымский рай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антелеева Наталья Игор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АОУ СОШ №16 г. Соликамс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65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Джумалиева Евгения Серге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МБОУ СОШ №16 с уиоп г. Лысь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 u="sng">
                          <a:solidFill>
                            <a:srgbClr val="1e4649"/>
                          </a:solidFill>
                          <a:uFillTx/>
                          <a:latin typeface="Arial"/>
                        </a:rPr>
                        <a:t>Заварыкина Татьяна Валер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 u="sng">
                          <a:solidFill>
                            <a:srgbClr val="1e4649"/>
                          </a:solidFill>
                          <a:uFillTx/>
                          <a:latin typeface="Arial"/>
                        </a:rPr>
                        <a:t>МАОУ Юго-Камская СОШ Пермский рай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77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Фахртдинова Динара Вахито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МБОУ СОШ №16 с уиоп г. Лысь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Штернберг Арина Ильинич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МАОУ Сав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79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Жужгина Елена Анатол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МАОУ СОШ №15 г. Губах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Первакова Екатерина Серге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МБОУ Сив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77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Кускова Марина Серге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МАОУ СОШ №2 г. Губах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Селиверстова Любовь Римовн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МБОУ Сив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Рихсиева Лариса Исламо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МАОУ СОШ №15 г. Губах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адилова Людмила Никола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БОУ СОШ №11 г. Краснокамс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D:\Users\Tihomirova-OA\Downloads\b335b97551f9f797b1e88637e8323ec4.jpeg"/>
          <p:cNvPicPr/>
          <p:nvPr/>
        </p:nvPicPr>
        <p:blipFill>
          <a:blip r:embed="rId1"/>
          <a:stretch/>
        </p:blipFill>
        <p:spPr>
          <a:xfrm>
            <a:off x="0" y="412920"/>
            <a:ext cx="9144000" cy="64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Уровень В2 (Пороговый продвинутый уровен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в видах речев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24000" y="836280"/>
            <a:ext cx="8640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удир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онимаю развернутые доклады и лекции и содержащуюся в них даже сложную аргументацию, если тематика этих выступлений мне достаточно знакома. Я понимаю почти все новости и репортажи о текущих событиях. Я понимаю содержание большинства фильмов, если их герои говорят на литературном язык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т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онимаю статьи и сообщения по современной проблематике, авторы которых занимают особую позицию или высказывают особую точку зрения. Я понимаю современную художественную проз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овор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иал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мею без подготовки довольно свободно участвовать в диалогах с носителями изучаемого языка. Я умею принимать активное участие в дискуссии по знакомой мне проблеме, обосновывать и отстаивать свою точку зр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нол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могу понятно и обстоятельно высказываться по широкому кругу интересующих меня вопросов. Я могу объяснить свою точку зрения по актуальной проблеме, высказывая все аргументы «за» и «против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исьм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мею писать понятные подробные сообщения по широкому кругу интересующих меня вопросов. Я умею писать эссе или доклады, освещая вопросы или аргументируя точку зрения «за» или «против». Я умею писать письма, выделяя те события и впечатления, которые являются для меня особо важны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Уровень С1(Уровень профессионального владения) в видах речев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24000" y="907560"/>
            <a:ext cx="87120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удир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онимаю развернутые сообщения, даже если они имеют нечеткую логическую структуру и недостаточно выраженные смысловые связи. Я почти свободно понимаю все телевизионные программы и фильм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т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онимаю большие сложные нехудожественные и художественные тексты, их стилистические особенности. Я понимаю также специальные статьи и технические инструкции большого объема, даже если они не касаются сферы моей деяте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овор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иал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мею спонтанно и бегло, не испытывая трудностей в подборе слов, выражать свои мысли. Моя речь отличается разнообразием языковых средств и точностью их употребления в ситуациях профессионального и повседневного общения. Я умею точно формулировать свои мысли и выражать свое мнение, а также активно поддерживать любую бесед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нол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мею понятно и обстоятельно излагать сложные темы, объединять в единое целое составные части, развивать отдельные положения и делать соответствующие вывод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исьм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мею четко и логично выражать свои мысли в письменной форме и подробно .освещать свои взгляды. Я умею подробно излагать в письмах, сочинениях, докладах сложные проблемы, выделяя то, что мне представляется наиболее важным. Я умею использовать языковой стиль, соответствующий предполагаемому адресат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Times New Roman"/>
                <a:ea typeface="Times New Roman"/>
              </a:rPr>
              <a:t>C2 (Уровень владения в совершенстве) в видах речев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764640"/>
            <a:ext cx="82296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удир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свободно понимаю любую разговорную речь при непосредственно или опосредованном общении. Я свободно понимаю речь носителя языка, говорящего в быстром темпе, если у меня есть возможность привыкнуть к индивидуальным особенностям его произнош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т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свободно понимаю все типы текстов, включая тексты абстрактного характера, сложные в композиционном или языковом отношении: инструкции, специальные статьи и художественные произвед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овор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л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могу свободно участвовать в любом разговоре или дискуссии, владею разнообразными идиоматическими и разговорными выражениями. Я бегло высказываюсь и умею выражать любые оттенки значения. Если у меня возникают трудности в использовании языковых средств, я умею быстро и незаметно для окружающих перефразировать свое высказыва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ло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мею бегло свободно и аргументированно высказываться, используя соответствующие языковые средства в зависимости от ситуации. Я умею логически построить свое сообщение таким образом, чтобы привлечь внимание слушателей и помочь им отметить и запомнить наиболее важные полож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исьм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мею логично и последовательно выражать свои мысли в письменной форме, используя при этом необходимые языковые средства. Я умею писать сложные письма, отчеты, доклады или статьи, которые имеют четкую логическую структуру, помогающую адресату отметить и запомнить наиболее важные моменты. Я умею писать резюме и рецензии как на работы профессионального характера, так и на художественные произвед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Спецификация задания №1 ( Предметная компетентно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539640" y="1341360"/>
          <a:ext cx="8229600" cy="4824360"/>
        </p:xfrm>
        <a:graphic>
          <a:graphicData uri="http://schemas.openxmlformats.org/drawingml/2006/table">
            <a:tbl>
              <a:tblPr/>
              <a:tblGrid>
                <a:gridCol w="935280"/>
                <a:gridCol w="2736720"/>
                <a:gridCol w="1440000"/>
                <a:gridCol w="1295280"/>
                <a:gridCol w="1822320"/>
              </a:tblGrid>
              <a:tr h="95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Раздел рабо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Кол-во задани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Мах. бал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Тип зада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удиров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09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ение и письм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, Р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мматика и лекси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en-US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Times New Roman"/>
                <a:ea typeface="Times New Roman"/>
              </a:rPr>
              <a:t>Основные результаты выполнения задания №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 В составе группы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2-C1)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27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педагог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ставлено  27 работ. 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(100%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Справились со всеми заданиями 24 педагога.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(89%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92%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ей справились с заданиями раздела «Аудирование» ( 25 из 2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100%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чителей, выполнявших работу, справились с заданиями в разделах «Чтение» и «Грамматика и лекси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92%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ей справились с заданиями раздела «Письмо» ( 25 из 2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44704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Основные рекомендации для тренировки навыков ауд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08000" y="836640"/>
            <a:ext cx="88567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ярно слушать  различные аудиоматериалы: аудиоуроки, подкасты, песни, фильмы и сериалы на английском языке (ориентируйтесь на свой уровень знаний). Главное — подобрать увлекательный для себя материал. Попробуйте пробудить в себе интере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регулярным занятиям, тогда заниматься им будет намного проще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www.puzzle-english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Tihomirova-OA</cp:lastModifiedBy>
  <dcterms:modified xsi:type="dcterms:W3CDTF">2021-06-02T09:15:01Z</dcterms:modified>
  <cp:revision>884</cp:revision>
  <dc:subject/>
  <dc:title>Diapositiva 1</dc:title>
</cp:coreProperties>
</file>