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27B-0DF9-4142-B414-59B490D8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9CF-9FE5-49A8-9B3B-DA1FF912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783-BFC1-4E1E-A564-C19C6101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9E5-BB1D-4260-BDB0-9D9C6D1D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6DB-E263-4958-A1A7-8CED9375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FD4-AA4C-49A1-8CA0-304EC62C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CE5-0913-424D-99B5-5BF913F1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BE50-2797-4CEA-8731-7F6561FB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0A6-26C6-43C4-9A5C-2B505C47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681A-FD08-4E19-B209-2C63533E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A76B-9D86-45C2-9536-20318FA5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E917-235A-4EDF-985F-85729643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A6CE-5759-4924-BF3E-527C0426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E8AE-2870-439A-80AE-61F0ED6C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FD2A-E588-4FBC-AD40-4F98E395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1EAB-B9CD-45BE-8061-CCBC269C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844D-C050-49D4-91C6-ABAF1011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E478-8FA7-4901-B82C-3287A308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1BBC-249B-4F68-8741-CB9E73E2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24CE-0E78-4D08-A147-941F54A4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11DE-136C-4F35-9BE7-E9C907C2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B4D-4633-458E-8C48-947A625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F81-2ACB-4266-B713-FE45619E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C13-265C-484D-B440-15877FA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365F-36C3-482F-8D7B-992DA088C9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3"/>
          <a:stretch/>
        </p:blipFill>
        <p:spPr>
          <a:xfrm>
            <a:off x="6558120" y="2532240"/>
            <a:ext cx="5634000" cy="4344840"/>
          </a:xfrm>
          <a:prstGeom prst="rect">
            <a:avLst/>
          </a:prstGeom>
          <a:ln w="0">
            <a:noFill/>
          </a:ln>
        </p:spPr>
      </p:pic>
      <p:sp>
        <p:nvSpPr>
          <p:cNvPr id="44" name="Блок-схема: подготовка 8"/>
          <p:cNvSpPr/>
          <p:nvPr/>
        </p:nvSpPr>
        <p:spPr>
          <a:xfrm rot="2913600">
            <a:off x="-528120" y="4389840"/>
            <a:ext cx="4257720" cy="374796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одготовка 8"/>
          <p:cNvSpPr/>
          <p:nvPr/>
        </p:nvSpPr>
        <p:spPr>
          <a:xfrm rot="2913600">
            <a:off x="124200" y="-770400"/>
            <a:ext cx="2170080" cy="253368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одготовка 8"/>
          <p:cNvSpPr/>
          <p:nvPr/>
        </p:nvSpPr>
        <p:spPr>
          <a:xfrm rot="2913600">
            <a:off x="-414360" y="4390560"/>
            <a:ext cx="4195800" cy="41576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одготовка 8"/>
          <p:cNvSpPr/>
          <p:nvPr/>
        </p:nvSpPr>
        <p:spPr>
          <a:xfrm rot="2913600">
            <a:off x="970560" y="1677240"/>
            <a:ext cx="9359640" cy="98852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-469800" y="4179960"/>
            <a:ext cx="6565680" cy="267804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A60F-790D-4ABC-8EAC-B8F9A4661A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373720" y="4076640"/>
            <a:ext cx="6818400" cy="278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111320"/>
            <a:ext cx="738504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Уровневый подход в создании объективных условий реализации Региональной программы воспит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0" y="568512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ева Любовь Валер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ректор МБУ ДО «ЦДО» с. Коч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Муниципальный уровен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92400" y="1386000"/>
            <a:ext cx="2885760" cy="3179520"/>
          </a:xfrm>
          <a:prstGeom prst="rect">
            <a:avLst/>
          </a:prstGeom>
          <a:solidFill>
            <a:srgbClr val="a5a5a5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2324160" y="111456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195640" y="1528920"/>
            <a:ext cx="733320" cy="707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503600" y="1373040"/>
            <a:ext cx="3251160" cy="3179880"/>
          </a:xfrm>
          <a:prstGeom prst="rect">
            <a:avLst/>
          </a:prstGeom>
          <a:solidFill>
            <a:srgbClr val="f4b183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методических площадок по обобщению результативного опыта образовательных организаций в реализации рабочих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49280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6138720" y="1055520"/>
            <a:ext cx="733680" cy="733680"/>
          </a:xfrm>
          <a:prstGeom prst="ellipse">
            <a:avLst/>
          </a:prstGeom>
          <a:solidFill>
            <a:srgbClr val="fbe5d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8102520" y="1420920"/>
            <a:ext cx="3229200" cy="317952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объективного и своевременного предъявления результатов мониторинга качества реализации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791676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2"/>
          <p:cNvSpPr/>
          <p:nvPr/>
        </p:nvSpPr>
        <p:spPr>
          <a:xfrm>
            <a:off x="9412200" y="1125360"/>
            <a:ext cx="733680" cy="733680"/>
          </a:xfrm>
          <a:prstGeom prst="ellipse">
            <a:avLst/>
          </a:prstGeom>
          <a:solidFill>
            <a:srgbClr val="dae3f3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1343160" y="2117880"/>
            <a:ext cx="2813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5a11"/>
                </a:solidFill>
                <a:latin typeface="Calibri"/>
              </a:rPr>
              <a:t>Разработка и реализация муниципальных программ воспитания и каникулярно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0" y="3527280"/>
            <a:ext cx="3252960" cy="31813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я и проведение конкурсов, слетов, фестивалей и мероприятий детских ,молодежных общественных объединений,  органов ученического самоуправления, волонтерских отрядов, имеющих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522600" y="3898800"/>
            <a:ext cx="2886120" cy="3179880"/>
          </a:xfrm>
          <a:prstGeom prst="rect">
            <a:avLst/>
          </a:prstGeom>
          <a:solidFill>
            <a:srgbClr val="ed7d31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уществления мониторинга профилактики безнадзорности и правонарушений несовершеннолетних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6637320" y="3817800"/>
            <a:ext cx="2886120" cy="3179880"/>
          </a:xfrm>
          <a:prstGeom prst="rect">
            <a:avLst/>
          </a:prstGeom>
          <a:solidFill>
            <a:srgbClr val="dbdbdb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Координация взаимодействия субъектов воспитания на территории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20"/>
          <p:cNvSpPr/>
          <p:nvPr/>
        </p:nvSpPr>
        <p:spPr>
          <a:xfrm>
            <a:off x="973080" y="3267000"/>
            <a:ext cx="733320" cy="73368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72c4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1"/>
          <p:cNvSpPr/>
          <p:nvPr/>
        </p:nvSpPr>
        <p:spPr>
          <a:xfrm>
            <a:off x="4562640" y="371952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2"/>
          <p:cNvSpPr/>
          <p:nvPr/>
        </p:nvSpPr>
        <p:spPr>
          <a:xfrm>
            <a:off x="7710480" y="352260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838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Важно отмети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Полилиния: фигура 4"/>
          <p:cNvSpPr/>
          <p:nvPr/>
        </p:nvSpPr>
        <p:spPr>
          <a:xfrm>
            <a:off x="984240" y="1579680"/>
            <a:ext cx="2279520" cy="3571920"/>
          </a:xfrm>
          <a:prstGeom prst="pie">
            <a:avLst/>
          </a:prstGeom>
          <a:gradFill rotWithShape="0">
            <a:gsLst>
              <a:gs pos="0">
                <a:srgbClr val="8faadc"/>
              </a:gs>
              <a:gs pos="100000">
                <a:srgbClr val="447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: фигура 6"/>
          <p:cNvSpPr/>
          <p:nvPr/>
        </p:nvSpPr>
        <p:spPr>
          <a:xfrm rot="10800000">
            <a:off x="3908160" y="1579320"/>
            <a:ext cx="2354040" cy="3733560"/>
          </a:xfrm>
          <a:prstGeom prst="pie">
            <a:avLst/>
          </a:prstGeom>
          <a:gradFill rotWithShape="0">
            <a:gsLst>
              <a:gs pos="0">
                <a:srgbClr val="f4b183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: фигура 8"/>
          <p:cNvSpPr/>
          <p:nvPr/>
        </p:nvSpPr>
        <p:spPr>
          <a:xfrm>
            <a:off x="6805440" y="1579680"/>
            <a:ext cx="2581560" cy="3768480"/>
          </a:xfrm>
          <a:prstGeom prst="pie">
            <a:avLst/>
          </a:prstGeom>
          <a:gradFill rotWithShape="0">
            <a:gsLst>
              <a:gs pos="0">
                <a:srgbClr val="c9c9c9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: фигура 10"/>
          <p:cNvSpPr/>
          <p:nvPr/>
        </p:nvSpPr>
        <p:spPr>
          <a:xfrm>
            <a:off x="9704520" y="1584360"/>
            <a:ext cx="2263680" cy="3289320"/>
          </a:xfrm>
          <a:prstGeom prst="pie">
            <a:avLst/>
          </a:prstGeom>
          <a:gradFill rotWithShape="0">
            <a:gsLst>
              <a:gs pos="0">
                <a:srgbClr val="ffd966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1" descr=""/>
          <p:cNvPicPr/>
          <p:nvPr/>
        </p:nvPicPr>
        <p:blipFill>
          <a:blip r:embed="rId1"/>
          <a:stretch/>
        </p:blipFill>
        <p:spPr>
          <a:xfrm>
            <a:off x="1746360" y="181620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2" descr=""/>
          <p:cNvPicPr/>
          <p:nvPr/>
        </p:nvPicPr>
        <p:blipFill>
          <a:blip r:embed="rId2"/>
          <a:stretch/>
        </p:blipFill>
        <p:spPr>
          <a:xfrm>
            <a:off x="4672080" y="1816200"/>
            <a:ext cx="560160" cy="560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3" descr=""/>
          <p:cNvPicPr/>
          <p:nvPr/>
        </p:nvPicPr>
        <p:blipFill>
          <a:blip r:embed="rId3"/>
          <a:stretch/>
        </p:blipFill>
        <p:spPr>
          <a:xfrm>
            <a:off x="7569360" y="18162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4" descr=""/>
          <p:cNvPicPr/>
          <p:nvPr/>
        </p:nvPicPr>
        <p:blipFill>
          <a:blip r:embed="rId4"/>
          <a:stretch/>
        </p:blipFill>
        <p:spPr>
          <a:xfrm>
            <a:off x="10468080" y="181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071720" y="2400480"/>
            <a:ext cx="14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терная модель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1108080" y="3368520"/>
            <a:ext cx="191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тивность и решение разноплановы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091040" y="2400480"/>
            <a:ext cx="18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и и индикаторы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4305240" y="3587760"/>
            <a:ext cx="15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ые показатели для каждой 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6988320" y="2390760"/>
            <a:ext cx="228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меющихся ресурсов и поиск новых в практической реализации муниципальной программы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9710640" y="240048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роль муниципалитета и поставлены конкретные задачи в региональной системе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"/>
          <p:cNvSpPr/>
          <p:nvPr/>
        </p:nvSpPr>
        <p:spPr>
          <a:xfrm>
            <a:off x="9977400" y="2789280"/>
            <a:ext cx="148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480" y="365040"/>
            <a:ext cx="1120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Обновление системы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5760" y="1793520"/>
            <a:ext cx="850752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472c4"/>
                </a:solidFill>
                <a:latin typeface="Calibri"/>
              </a:rPr>
              <a:t>Задачи направле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увеличение охвата дополнительным образованием детей (в том числе детей, проживающих в сельской местности, находящихся в трудной жизненной ситуации, детей с ограниченными возможностями здоровья (далее – ОВ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механизмов преемственности образовательных траекторий общего, профессионального, высшего образования с в дополнительным образова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обновление содержания, технологий и форматов дополнительного образования детей для удовлетворения индивидуальных запросов и решения задач социального и технологического развития реги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эффективной межведомственной системы управления развитием дополнительн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4" descr=""/>
          <p:cNvPicPr/>
          <p:nvPr/>
        </p:nvPicPr>
        <p:blipFill>
          <a:blip r:embed="rId1"/>
          <a:stretch/>
        </p:blipFill>
        <p:spPr>
          <a:xfrm>
            <a:off x="7743960" y="3100320"/>
            <a:ext cx="3757320" cy="3757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2f5597">
                <a:alpha val="40000"/>
              </a:srgbClr>
            </a:outerShdw>
          </a:effectLst>
        </p:spPr>
      </p:pic>
      <p:sp>
        <p:nvSpPr>
          <p:cNvPr id="289" name="Прямоугольник 5"/>
          <p:cNvSpPr/>
          <p:nvPr/>
        </p:nvSpPr>
        <p:spPr>
          <a:xfrm>
            <a:off x="10002960" y="547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Средств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спользование потенциала неформального и информального образования (образовательный туризм, музейная и театральная педагогика, а также социальные медиа, блогинг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нтеграция и сетевое взаимодействие общего и дополните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геймификация (образовательных игр)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Возможные проекты в развитии дополнительного образ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3000" y="1378080"/>
            <a:ext cx="117950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включение в содержание дополнительных общеобразовательных программ всех направленностей модуля или воспитательного компонента, направленного на формирование у детей и молодежи общероссийской гражданской идентичности, патриотизма, гражданской ответственности, чувства гордости за историю России, воспитание культуры межнационального общени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азработка и внедрение организациями дополнительного образования детей программ вос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еализация образовательных моделей, обеспечивающих применение получаемых знаний для решения актуальных проблем сообщества (хакатоны, практики, профориентационные каникулы, социально-значимые проекты, например, «Я – гражданин», Менторские КРУ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8:34:05Z</dcterms:created>
  <dc:creator>User Obstinate</dc:creator>
  <dc:description/>
  <dc:language>en-US</dc:language>
  <cp:lastModifiedBy>user</cp:lastModifiedBy>
  <dcterms:modified xsi:type="dcterms:W3CDTF">2021-08-16T12:19:10Z</dcterms:modified>
  <cp:revision>21</cp:revision>
  <dc:subject/>
  <dc:title>Презентация PowerPoint</dc:title>
</cp:coreProperties>
</file>