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6AC-9416-45CF-8158-804703E4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E26-0C90-4922-B81D-318A46A4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684-3DDA-48E5-8A27-1153780A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3D8-8848-4416-8BBA-E79AD061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27A0-1967-4C38-84E8-2AB9D844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B69D-4883-4F5F-A055-D67B915E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DAB2-9553-4615-B1D0-435428B7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0AD7-CD84-4269-A311-B9F87D93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FDB3-7035-4ADA-9588-25E25A9A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B10E-5CAD-486E-BFA7-7AC74B5E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5E20-035B-4348-9552-A28819F8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C36-718D-4B93-8EC3-5D07FAE3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7F66-2743-4952-A78D-4756DFF2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CCA1-7C49-4A57-BF07-F8245083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C520-7354-4907-9175-E85FDF11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A9AE-85D5-4F37-81A0-1286C92C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4CEA-726E-40C5-A411-7E5186DB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283A0-E91F-4E79-822D-0BAAC54D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98475-025D-4E7D-ACD8-A5FD458C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930CD-0CA0-458E-8D0D-983CF222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CB846-2237-4CC6-97BE-B39CD72E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138B6-51FF-4F5B-82AE-3509D11C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054B-2499-40A2-ABC6-DA66BD78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8BC1F-7264-4C2B-88D7-DF19F851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EBD63-57AB-4711-86BA-023EF1B3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1026C-5952-4928-8E30-EE12235B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5C221-F32F-407E-9C19-51A4FE0B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95033-D69E-4C5C-AD15-5E693D9F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C55F4-188B-4BBE-9276-C6A7DE26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8C4FA-C9A0-4C0A-AFE9-B1AA7561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D3940-01D2-43FB-9876-D5E93617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F3C57-CD95-4DA9-87B6-3ABAF9CE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83E13-6394-473D-BF50-0C5F3655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B69-CB12-4D23-89B8-7D54AC14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8D93A-AB18-4A23-A0DB-6DF2856B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95A23-1D73-40C9-9D06-F0D135A0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13354-AE4A-431E-BAD2-5E9B56A1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90B8C-E36E-4650-B6A9-93EC1116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C7C23-1767-41AF-85EF-07B31D0D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29347-8E0F-4D76-B566-CFCBA924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28BA6-8EC4-4FE3-9CEF-B9F3F1F3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F316A-DE4A-4ED1-8A5D-BA880920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38D07-1541-4FBE-9C6D-1FD6F28F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8EC82-75E0-475F-855F-EC96FAD9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A5D-CB3F-4A17-AD08-91F0906E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9DB46-8854-4E79-85E3-FB1BC854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AD81A-37CB-44B8-87D9-83CA052B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E614C-DCE2-4828-9727-2B709BE2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5507B-E35E-4533-92F4-1DC2BBC4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124CD-A7F6-4D57-ADA5-AB558634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65315-932C-4D7E-9B85-81E6E12A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40F72-6006-4AFF-B50D-7ABF8075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CB4CD-95E0-4B85-BFB9-97E14000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FF0EA-E73E-457C-9F5F-D948298F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D252B-1CA8-480C-A7E0-D105C466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182-735B-4B61-B0C1-0C7FBC10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B1BDE-D984-4EE6-AC6B-58C53B56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9BDCA-3D2B-492A-876F-F26894BD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CD494-2FDD-4E90-B976-E9BB3E1E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8A94A-8097-469B-86F5-6BFFDBEF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7683E-6456-4C3A-A9BC-447137EA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A029F-1900-42DF-8C22-80743ED8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D4BBA-BDF2-4A0C-8B36-F4F18A20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6E3BB-F2C4-476D-AAC4-C0C8AA55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DBD58-7278-4A8A-88D9-E4297EA4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82BB9-F8D9-4744-96D3-68720D06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F4B-D6C4-4F20-831F-51D63F85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8D818-CE4E-4628-92EC-4F135B1B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48C97-E5B7-4001-86DD-2DB73770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95FAB-B2F2-4229-8E16-36F45921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FAE63-798A-459D-9CC6-A4E1D771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D3258-6495-484B-936A-EDB03C24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243E8-B0EB-448A-820F-9677DAF9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BEF70-44A3-42F6-8542-46488463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96167-A41E-464C-9498-CF3EBE93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9F930-6514-4A4C-9035-5620FD00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3758E-41F0-4E15-9EA0-494EB9F8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A4BF-F273-42E6-B675-237FE755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F88AE-1A36-4711-80E5-5EC18DD7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D9F11-28BD-4D14-9749-C99438D3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2B4BC-0B4E-4085-9D9C-BD948580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FC7F6-3A26-4A28-B261-5E8229E3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0F2B8-4E69-4525-B6D6-8179570C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6F391-364E-43DF-B20F-D7C624F5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37E72-A325-4D9C-BBED-4CF8E690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910CA-7878-494F-B917-60DDE8DE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42FD9-456E-4985-9234-C97E8A36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1E7A6-DED0-4187-B994-B1898CB2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FDD-5941-4635-B2EC-AF97C1C6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86F30-E5CF-4934-923D-28B5B150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EE6D4-F0C9-4699-AAE1-87AC5E91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46B98-9C72-45A3-981C-AA9654BB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AAE37-E2CE-4240-B2C8-FAC6DCCC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DAF4D-A79C-4389-A498-2CF3DC3C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38052-4471-4FC3-A873-604AC7AA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DB141-9DC0-4C7A-AAB3-1C68B115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AE35-A5DB-44F5-8457-FC93C66F25D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0ADF-2592-4154-BBC8-8291BD7E490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DBF5-C2CD-4CB6-B1DB-77EFC702903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62C6-47D8-4433-9636-C3CC6FAAC5B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41EF-EEBD-4397-9320-9BC20806473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750E-2D06-4097-8895-324894675DA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1CF5-B03E-4F1F-BCF5-E96AA57CF92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575E-A5F5-49FC-813D-6562EDB92DF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9217080" cy="2114640"/>
          </a:xfrm>
          <a:prstGeom prst="rect">
            <a:avLst/>
          </a:prstGeom>
          <a:ln w="0">
            <a:noFill/>
          </a:ln>
        </p:spPr>
      </p:pic>
      <p:sp>
        <p:nvSpPr>
          <p:cNvPr id="371" name="Подзаголовок 2"/>
          <p:cNvSpPr/>
          <p:nvPr/>
        </p:nvSpPr>
        <p:spPr>
          <a:xfrm>
            <a:off x="4929120" y="3286080"/>
            <a:ext cx="4214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рпова Окса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ыкова Ларис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пкова Юлия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Шаманаева Любовь Хали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2357280" y="6286680"/>
            <a:ext cx="4214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5 ноябр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928800" y="1429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ая научно-практическая 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ффективные механизмы повышения образовательных результатов обучающих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5000760" y="4714920"/>
            <a:ext cx="3214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Школа №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Губах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9968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сороконожки 40 ножек. К зиме она прикупила 6 пар сапожек. Все равно 10 ножек остались без сапожек. Сколько у сороконожки было пар старых сапожек до того, как она купила новы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рифметический способ реш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 • 2 = 12 ног в нов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0 — 12 = 28 ног босые и в старых сапог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8 — 10 = 18 ног в стар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8 : 2 = 9 пар старых сапог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0-(6+5)=9 (пар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9 пар старых сапожек было у сороконож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 того, как она купила нов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грамма краткосрочного кур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о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теллектуальному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 направл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ение нестандартных задач по математике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0 часов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428760" y="11430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7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адачи курс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ирование общеинтеллектуальных уме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углубление и расширение знаний учащихся по математик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создание условий для повышения эффективности подготовки выпускников начальной школы к ВП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и развитие логического мышл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развитие внимание, памя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положительной мотивации к учен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умение работать в групп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298440" y="85680"/>
            <a:ext cx="83948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7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571920" y="600084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олилиния 45"/>
          <p:cNvSpPr/>
          <p:nvPr/>
        </p:nvSpPr>
        <p:spPr>
          <a:xfrm>
            <a:off x="1297080" y="1859040"/>
            <a:ext cx="6159240" cy="3836880"/>
          </a:xfrm>
          <a:prstGeom prst="pie">
            <a:avLst/>
          </a:prstGeom>
          <a:solidFill>
            <a:srgbClr val="ffffff"/>
          </a:solidFill>
          <a:ln w="5508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6"/>
          <p:cNvSpPr/>
          <p:nvPr/>
        </p:nvSpPr>
        <p:spPr>
          <a:xfrm>
            <a:off x="5143680" y="1214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ороконожки 40 н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Прямая со стрелкой 48"/>
          <p:cNvCxnSpPr/>
          <p:nvPr/>
        </p:nvCxnSpPr>
        <p:spPr>
          <a:xfrm flipH="1">
            <a:off x="5928840" y="1714320"/>
            <a:ext cx="8582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8"/>
          <p:cNvSpPr/>
          <p:nvPr/>
        </p:nvSpPr>
        <p:spPr>
          <a:xfrm>
            <a:off x="357120" y="135720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зиме она прикупила 6 пар сап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6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0"/>
          <p:cNvSpPr/>
          <p:nvPr/>
        </p:nvSpPr>
        <p:spPr>
          <a:xfrm>
            <a:off x="357120" y="1285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7" name="Группа 68"/>
          <p:cNvGrpSpPr/>
          <p:nvPr/>
        </p:nvGrpSpPr>
        <p:grpSpPr>
          <a:xfrm>
            <a:off x="4357800" y="1214280"/>
            <a:ext cx="4786200" cy="1500840"/>
            <a:chOff x="4357800" y="1214280"/>
            <a:chExt cx="4786200" cy="1500840"/>
          </a:xfrm>
        </p:grpSpPr>
        <p:sp>
          <p:nvSpPr>
            <p:cNvPr id="668" name="TextBox 55"/>
            <p:cNvSpPr/>
            <p:nvPr/>
          </p:nvSpPr>
          <p:spPr>
            <a:xfrm>
              <a:off x="4357800" y="121428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 ножек остались без сапож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Прямая со стрелкой 56"/>
            <p:cNvCxnSpPr/>
            <p:nvPr/>
          </p:nvCxnSpPr>
          <p:spPr>
            <a:xfrm flipH="1">
              <a:off x="6572160" y="1785960"/>
              <a:ext cx="643320" cy="929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Прямая со стрелкой 56"/>
          <p:cNvCxnSpPr>
            <a:stCxn id="722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Lucida Sans Unicode"/>
              </a:rPr>
              <a:t>Методы обучения и формы занят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ловесны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глядны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рактически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сследовательск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 методом является исследовательский. Организаторами исследований могут, кроме учителя, становиться д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2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Прямая со стрелкой 56"/>
          <p:cNvCxnSpPr>
            <a:stCxn id="776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TextBox 59"/>
          <p:cNvSpPr/>
          <p:nvPr/>
        </p:nvSpPr>
        <p:spPr>
          <a:xfrm>
            <a:off x="3357720" y="59292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шиеся ножки в старых сапож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Прямая со стрелкой 56"/>
          <p:cNvCxnSpPr>
            <a:stCxn id="832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TextBox 59"/>
          <p:cNvSpPr/>
          <p:nvPr/>
        </p:nvSpPr>
        <p:spPr>
          <a:xfrm>
            <a:off x="1500120" y="58579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у сороконожки бы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арых сапож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4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7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Прямая со стрелкой 56"/>
          <p:cNvCxnSpPr>
            <a:stCxn id="897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9" name="TextBox 59"/>
          <p:cNvSpPr/>
          <p:nvPr/>
        </p:nvSpPr>
        <p:spPr>
          <a:xfrm>
            <a:off x="5143680" y="5786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пар старых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67"/>
          <p:cNvSpPr/>
          <p:nvPr/>
        </p:nvSpPr>
        <p:spPr>
          <a:xfrm>
            <a:off x="3714840" y="62118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. 5 класс (по программе 4 клас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9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96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. 4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3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82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6" name=""/>
          <p:cNvGraphicFramePr/>
          <p:nvPr/>
        </p:nvGraphicFramePr>
        <p:xfrm>
          <a:off x="457200" y="1481040"/>
          <a:ext cx="8258040" cy="3233880"/>
        </p:xfrm>
        <a:graphic>
          <a:graphicData uri="http://schemas.openxmlformats.org/drawingml/2006/table">
            <a:tbl>
              <a:tblPr/>
              <a:tblGrid>
                <a:gridCol w="2328840"/>
                <a:gridCol w="1976400"/>
                <a:gridCol w="1976400"/>
                <a:gridCol w="197640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,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480680"/>
            <a:ext cx="85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Личност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удут сформирован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ебно­познавательный интерес к новому учебному материалу и способам решения новой задач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ация на понимание причин успеха в учебной деятельности, в том числе на самоанализ и самоконтроль результата, на анализ соответствия результатов требованиям конкретной задачи, на понимание оценок учителе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пособность к оценке свое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гуля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инимать и сохранять учебную задач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ланировать свои действия в соответствии с поставленной задачей и условиями её реализации, в том числе во внутреннем план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итоговый и пошаговый контроль по результат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наватель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ироваться на разнообразие способов решения задач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новам смыслового восприятия текстов, выделять существенную информацию из сообщений разных видов (в первую очередь текстов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анализ объектов с выделением существенных и несущественных признак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ладеть рядом общих приёмов решения задач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оммуника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улировать собственное мнение и позиц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вать вопрос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457200" y="1719360"/>
          <a:ext cx="8258040" cy="3520800"/>
        </p:xfrm>
        <a:graphic>
          <a:graphicData uri="http://schemas.openxmlformats.org/drawingml/2006/table">
            <a:tbl>
              <a:tblPr/>
              <a:tblGrid>
                <a:gridCol w="473040"/>
                <a:gridCol w="6927840"/>
                <a:gridCol w="85716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разде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курса. Решение простейш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 метод решения задач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фический метод решения 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упорядоченного пере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тичный мет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бличный спосо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гра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 занятие.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374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7T09:06:39Z</dcterms:created>
  <dc:creator>Buch-02</dc:creator>
  <dc:description/>
  <dc:language>en-US</dc:language>
  <cp:lastModifiedBy>Buch-02</cp:lastModifiedBy>
  <dcterms:modified xsi:type="dcterms:W3CDTF">2021-11-18T10:53:26Z</dcterms:modified>
  <cp:revision>46</cp:revision>
  <dc:subject/>
  <dc:title>Тема выступления</dc:title>
</cp:coreProperties>
</file>