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0BED-E4CF-49EE-98AA-C7F6F7A6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B734-7256-4397-ADCE-961E77D9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9CE0-2F3F-44CF-8E1C-F46649FD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F48B-42CE-4961-8C01-DFAE9C88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34B4-2265-4DC1-908B-C28C6495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9227-9486-4D8F-A287-345D7211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33D6-AC22-4A6A-BB46-3058BD84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7118-DE3D-47FC-92E4-AA4B938B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5E1F-B39A-4966-8CFF-30B27A8C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0CF5-E06D-4F14-89CE-E3EDF0F5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6AEF-7DFE-4D2E-925E-335F1D9E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F829-9D32-493F-8F09-1BF32350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B825-D495-42A1-A818-5917541F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9A43-B8E9-4B8F-8377-06F1F9B2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A1E2-56C7-4897-B019-50E2D293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837D-FD1F-4890-8C69-78FEA445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C9A9-C1A6-415C-9606-32844C8F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F6264-1A43-411D-9324-260A0832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5A4CA-0ACE-45A9-A388-A4DC738F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063FC-E5F3-4546-8DC5-48134FA5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46CC5-8CBB-47FE-9013-52E49D4D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8BAD2-DE63-4DDD-8C8F-3EF6DD7F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C23C-8CC7-42DD-AED6-D7AE56CC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E8826-C4EB-489A-9799-6D628D90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84899-BB06-4460-80A5-D581A06F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C5380-BE66-4605-B76C-94EC60E8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A8BE9-FFE4-4127-9B4B-11ADFFDC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23EF6-0524-461D-9D60-7752D098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51E17-2DC8-4B9B-9E24-840357E2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4DFCE-010E-46B9-9C3E-9D0D13CD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F4B68-1B35-4842-956F-12C6CAAD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02D47-1600-40AF-B18B-F19A0965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CD968-DF77-41B0-A964-5D5B8384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9712-9261-4155-A0BC-416D03C3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63434-A76D-45A0-AD3F-00F94926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1606A-EE35-49C0-B3F4-73E95B33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8ED95-BC2E-4B53-9931-56D8217D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6E860-13B5-4A0F-9683-C2F08813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885FF-2A20-46CB-BB50-7F7850CF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7A725-FDD8-4FA6-B2E2-F085750B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2ABC3-282E-43A4-B598-D848FDCF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6FC13-4FAC-4098-AD76-A61D4911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43643-2B41-49C5-8AF0-9B2C4F40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D8430-64E1-462A-BA3C-8CBAC606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07D8-647B-465B-BF5C-8B7753D2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11151-AD5B-4715-B783-8502E37E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B8F47-8582-4E21-B8B3-1D66F7CD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DEC0A-402B-4328-B4B0-AD153013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15C2F-FB1D-46ED-AAD2-7329127A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7482B-D044-439B-BE03-0F5F5602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946F6-2F91-4455-B018-D11F167D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CC146-74FD-4858-8781-547F3BCB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0A705-198E-4C37-A38A-547BD406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4C541-9C54-441F-89C5-20CCB0D0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6EC32-0ED8-49AE-89C3-33996B02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97B7-806D-45A8-892D-B372DC4D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E775E-0D96-4E9B-B1F7-5FA2BD8F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06799-DCAF-4CA5-800B-A3AB92CC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CD508-E6C8-4445-86CB-02C1481B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29C34-F92B-4ED8-82B5-99E38C4E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C619B-E802-4417-8FEA-A0E0C810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C4955-BA75-4BA7-ACC1-6FEC45D1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47F4E-4E18-4DC2-A0C4-3051717F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A749E-D628-46D1-A6BD-FF63484E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CA085-ECD0-4D40-A9C6-714F5C25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E9788-0D20-47B9-8B88-39E3F65D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9F49-B371-445B-BC71-ED389A1E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4E65D-26CD-4508-9BAE-E127B51B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AE83C-D666-4F33-B630-B4E3D63F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846A3-4C51-421B-8722-1C2C667A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0BC53-04EF-4DA8-955B-6C915A5D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28D90-9728-47C6-8DFD-367474C5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588FB-A4F8-4497-8BA5-1F7819D7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0DD8D-A11C-4E6F-939C-BD5BDF18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49051-1C81-41E5-9208-45F62A20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90010-BBAA-4D2E-BC74-5FE00D8E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5A0EA-648B-4D45-98E2-3094B94E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BA76-596E-4D26-AF25-B7DFA584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98B0D-F2A5-4F91-B2A0-2AA0FF78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61F31-1FF1-49AB-9E30-C3224269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D30F0-BD06-447E-9A63-DBC9D75C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C0090-5F4A-4521-837B-74F8D952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30868-947E-4F6F-B79C-EBCDE483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90E25-81DD-4649-AB38-8D80E560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7C7FC-E7BF-4CC1-A1CB-EF7DA4FF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D8BF5-F246-4A0B-BC6C-30DED2BE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9D37B-1EAF-4C1D-9BB4-719BCA74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965A1-451C-4AC7-ACD5-399B0281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20CB-D71C-4522-9D28-A66CDFE6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48F51-2BCB-4F36-AA4F-22EE59FA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7678D-F6B8-414D-86E8-E6361D1A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43973-486D-4818-9DD0-543D4529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4B5D8-32F4-4DE4-8DA6-476F1127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A2C73-3B5D-49CC-AD9D-FE94127D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5C8D7-9F61-45FC-B4F7-63374E00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DDC85-EBAF-4315-A14E-CA19C628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7FEF-CAD4-4E22-B5BE-BBBF677A653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ECE6-8A9A-470A-9944-98A339E22881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BEBF-87F2-4CC6-8D9C-52E63187FFA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9D71-2DDE-4283-A63A-37BAC4FFC1E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6C9A-EB55-4397-90DF-CB683742B82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75E8-3155-4582-8C3E-B92B2F2D5F9E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62AF-9060-474B-996C-8447E69DB7B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06CA-EF20-47FD-8FAB-560CB8DE07A9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1066680"/>
            <a:ext cx="9217080" cy="2114640"/>
          </a:xfrm>
          <a:prstGeom prst="rect">
            <a:avLst/>
          </a:prstGeom>
          <a:ln w="0">
            <a:noFill/>
          </a:ln>
        </p:spPr>
      </p:pic>
      <p:sp>
        <p:nvSpPr>
          <p:cNvPr id="371" name="Подзаголовок 2"/>
          <p:cNvSpPr/>
          <p:nvPr/>
        </p:nvSpPr>
        <p:spPr>
          <a:xfrm>
            <a:off x="4929120" y="3286080"/>
            <a:ext cx="42148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арпова Оксана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Быкова Ларис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Чепкова Юлия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Шаманаева Любовь Хали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одзаголовок 2"/>
          <p:cNvSpPr/>
          <p:nvPr/>
        </p:nvSpPr>
        <p:spPr>
          <a:xfrm>
            <a:off x="2357280" y="6286680"/>
            <a:ext cx="4214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25 ноябр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"/>
          <p:cNvSpPr/>
          <p:nvPr/>
        </p:nvSpPr>
        <p:spPr>
          <a:xfrm>
            <a:off x="928800" y="14292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ая научно-практическая конферен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Эффективные механизмы повышения образовательных результатов обучающих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6"/>
          <p:cNvSpPr/>
          <p:nvPr/>
        </p:nvSpPr>
        <p:spPr>
          <a:xfrm>
            <a:off x="5000760" y="4714920"/>
            <a:ext cx="3214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Школа №2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Губаха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49968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сороконожки 40 ножек. К зиме она прикупила 6 пар сапожек. Все равно 10 ножек остались без сапожек. Сколько у сороконожки было пар старых сапожек до того, как она купила новые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рифметический способ реш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 • 2 = 12 ног в нов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0 — 12 = 28 ног босые и в старых сапог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8 — 10 = 18 ног в стар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8 : 2 = 9 пар старых сапог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20-(6+5)=9 (пар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твет: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9 пар старых сапожек было у сороконожк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до того, как она купила новы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грамма краткосрочного кур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о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нтеллектуальному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 направле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«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шение нестандартных задач по математике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»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 клас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10 часов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5"/>
          <p:cNvSpPr/>
          <p:nvPr/>
        </p:nvSpPr>
        <p:spPr>
          <a:xfrm>
            <a:off x="428760" y="11430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8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4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5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0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1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3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4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7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85480" y="164304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Задачи курса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буч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ирование общеинтеллектуальных умени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углубление и расширение знаний учащихся по математик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создание условий для повышения эффективности подготовки выпускников начальной школы к ВПР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развив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и развитие логического мышлени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развитие внимание, памят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оспитательны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положительной мотивации к учен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умение работать в групп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298440" y="85680"/>
            <a:ext cx="839484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0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2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5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8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7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4"/>
          <p:cNvSpPr/>
          <p:nvPr/>
        </p:nvSpPr>
        <p:spPr>
          <a:xfrm>
            <a:off x="3571920" y="600084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олилиния 45"/>
          <p:cNvSpPr/>
          <p:nvPr/>
        </p:nvSpPr>
        <p:spPr>
          <a:xfrm>
            <a:off x="1297080" y="1859040"/>
            <a:ext cx="6159240" cy="3836880"/>
          </a:xfrm>
          <a:prstGeom prst="pie">
            <a:avLst/>
          </a:prstGeom>
          <a:solidFill>
            <a:srgbClr val="ffffff"/>
          </a:solidFill>
          <a:ln w="5508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46"/>
          <p:cNvSpPr/>
          <p:nvPr/>
        </p:nvSpPr>
        <p:spPr>
          <a:xfrm>
            <a:off x="5143680" y="1214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сороконожки 40 н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Прямая со стрелкой 48"/>
          <p:cNvCxnSpPr/>
          <p:nvPr/>
        </p:nvCxnSpPr>
        <p:spPr>
          <a:xfrm flipH="1">
            <a:off x="5928840" y="1714320"/>
            <a:ext cx="85824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58"/>
          <p:cNvSpPr/>
          <p:nvPr/>
        </p:nvSpPr>
        <p:spPr>
          <a:xfrm>
            <a:off x="357120" y="1357200"/>
            <a:ext cx="59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зиме она прикупила 6 пар сап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6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50"/>
          <p:cNvSpPr/>
          <p:nvPr/>
        </p:nvSpPr>
        <p:spPr>
          <a:xfrm>
            <a:off x="357120" y="12859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67" name="Группа 68"/>
          <p:cNvGrpSpPr/>
          <p:nvPr/>
        </p:nvGrpSpPr>
        <p:grpSpPr>
          <a:xfrm>
            <a:off x="4357800" y="1214280"/>
            <a:ext cx="4786200" cy="1500840"/>
            <a:chOff x="4357800" y="1214280"/>
            <a:chExt cx="4786200" cy="1500840"/>
          </a:xfrm>
        </p:grpSpPr>
        <p:sp>
          <p:nvSpPr>
            <p:cNvPr id="668" name="TextBox 55"/>
            <p:cNvSpPr/>
            <p:nvPr/>
          </p:nvSpPr>
          <p:spPr>
            <a:xfrm>
              <a:off x="4357800" y="1214280"/>
              <a:ext cx="47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0 ножек остались без сапоже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Прямая со стрелкой 56"/>
            <p:cNvCxnSpPr/>
            <p:nvPr/>
          </p:nvCxnSpPr>
          <p:spPr>
            <a:xfrm flipH="1">
              <a:off x="6572160" y="1785960"/>
              <a:ext cx="643320" cy="9295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7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2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Прямая со стрелкой 56"/>
          <p:cNvCxnSpPr>
            <a:stCxn id="722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785520"/>
            <a:ext cx="82296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000000"/>
                </a:solidFill>
                <a:latin typeface="Lucida Sans Unicode"/>
              </a:rPr>
              <a:t>Методы обучения и формы занятий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ловесны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наглядные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практически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исследовательск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дущим методом является исследовательский. Организаторами исследований могут, кроме учителя, становиться де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2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6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Прямая со стрелкой 56"/>
          <p:cNvCxnSpPr>
            <a:stCxn id="776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TextBox 59"/>
          <p:cNvSpPr/>
          <p:nvPr/>
        </p:nvSpPr>
        <p:spPr>
          <a:xfrm>
            <a:off x="3357720" y="592920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вшиеся ножки в старых сапож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9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8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3" name="Прямая со стрелкой 56"/>
          <p:cNvCxnSpPr>
            <a:stCxn id="832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4" name="TextBox 59"/>
          <p:cNvSpPr/>
          <p:nvPr/>
        </p:nvSpPr>
        <p:spPr>
          <a:xfrm>
            <a:off x="1500120" y="585792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у сороконожки был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арых сапож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6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84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7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8" name="Прямая со стрелкой 56"/>
          <p:cNvCxnSpPr>
            <a:stCxn id="897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9" name="TextBox 59"/>
          <p:cNvSpPr/>
          <p:nvPr/>
        </p:nvSpPr>
        <p:spPr>
          <a:xfrm>
            <a:off x="5143680" y="5786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пар старых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0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Прямоугольник 67"/>
          <p:cNvSpPr/>
          <p:nvPr/>
        </p:nvSpPr>
        <p:spPr>
          <a:xfrm>
            <a:off x="3714840" y="62118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1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. 5 класс (по программе 4 класс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09.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96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3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. 4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3.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4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82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6" name=""/>
          <p:cNvGraphicFramePr/>
          <p:nvPr/>
        </p:nvGraphicFramePr>
        <p:xfrm>
          <a:off x="457200" y="1481040"/>
          <a:ext cx="8258040" cy="3233880"/>
        </p:xfrm>
        <a:graphic>
          <a:graphicData uri="http://schemas.openxmlformats.org/drawingml/2006/table">
            <a:tbl>
              <a:tblPr/>
              <a:tblGrid>
                <a:gridCol w="2328840"/>
                <a:gridCol w="1976400"/>
                <a:gridCol w="1976400"/>
                <a:gridCol w="1976400"/>
              </a:tblGrid>
              <a:tr h="14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,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6840" y="1480680"/>
            <a:ext cx="8543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Личност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Будут сформированы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ебно­познавательный интерес к новому учебному материалу и способам решения новой задач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ация на понимание причин успеха в учебной деятельности, в том числе на самоанализ и самоконтроль результата, на анализ соответствия результатов требованиям конкретной задачи, на понимание оценок учителе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пособность к оценке своей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Регуля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ринимать и сохранять учебную задачу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итывать выделенные учителем ориентиры действия в новом учебном материале в сотрудничестве с учителем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ланировать свои действия в соответствии с поставленной задачей и условиями её реализации, в том числе во внутреннем план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итоговый и пошаговый контроль по результат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знаватель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ироваться на разнообразие способов решения задач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новам смыслового восприятия текстов, выделять существенную информацию из сообщений разных видов (в первую очередь текстов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анализ объектов с выделением существенных и несущественных признаков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ладеть рядом общих приёмов решения задач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Коммуника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улировать собственное мнение и позиц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адавать вопрос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457200" y="1719360"/>
          <a:ext cx="8258040" cy="3520800"/>
        </p:xfrm>
        <a:graphic>
          <a:graphicData uri="http://schemas.openxmlformats.org/drawingml/2006/table">
            <a:tbl>
              <a:tblPr/>
              <a:tblGrid>
                <a:gridCol w="473040"/>
                <a:gridCol w="6927840"/>
                <a:gridCol w="85716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именование разде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зентация курса. Решение простейших зад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ий метод решения задач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афический метод решения зад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упорядоченного пере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тичный мет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бличный спосо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гра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ое занятие. Рефлек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6374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7T09:06:39Z</dcterms:created>
  <dc:creator>Buch-02</dc:creator>
  <dc:description/>
  <dc:language>en-US</dc:language>
  <cp:lastModifiedBy>Buch-02</cp:lastModifiedBy>
  <dcterms:modified xsi:type="dcterms:W3CDTF">2021-11-18T10:53:26Z</dcterms:modified>
  <cp:revision>46</cp:revision>
  <dc:subject/>
  <dc:title>Тема выступления</dc:title>
</cp:coreProperties>
</file>