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076D-0901-4E10-8ED2-03C455FD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13E3-414A-4355-A112-0AD28AAD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4644-7384-4E82-A9B5-6C2AB6FB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82E0-BD45-40E3-8B78-76A098F9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4AE13-9B16-407D-9942-49C9FB9D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58A5A-B584-4327-B805-C584F9DB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FAF62-8A1B-46F2-A026-B33B37ED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7CD38-B0BB-493D-B2A6-8AA3F72C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8A350-1FF0-4759-BDE1-22AB0B11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E78B5-3811-4D7A-AE59-CA685397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345B6-DB13-4986-8FE9-B717A21C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513F-A43F-40E6-A609-B52A58EF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BCA2B-4F38-4E42-9131-6BC7AC30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4FC03-9BB8-49CE-B4FD-D1A16EBE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3A500-5059-4398-90FA-2B4FDFA5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98E88-A1CE-47A7-B5CE-53496834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710DE-2099-4BF4-BE89-179C70A4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016C-A2C9-48E3-B617-DE601A01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539E-0FD6-4CE6-8689-84731914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94AD-0B60-4E1D-AEDE-ED2AD165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4B01-A1AE-4351-8848-ACFC6E4F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D2FB-104B-479B-8BD4-6E22E183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20DD-49DF-4B13-9A78-C806B280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19ED-C5CC-442A-AA06-0CC772C0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0A00-8885-4794-BD85-B322721D22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d2f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8B91-F65C-4F7B-B0B7-7384BA7B924C}" type="slidenum">
              <a:rPr b="0" lang="ru-RU" sz="1200" spc="-1" strike="noStrike">
                <a:solidFill>
                  <a:srgbClr val="ffd2f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hukchi_boats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КОТСКИ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ТОНОМНЫ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РУГ РФ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3" name="Рисунок 2" descr="ЧАО.gif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одержимое 3" descr="чукчи мо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есни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узык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анцы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6760" y="571464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d8ff"/>
                </a:solidFill>
                <a:latin typeface="Arial"/>
              </a:rPr>
              <a:t>Чукотская резная кость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2333520" cy="2168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2"/>
          <a:stretch/>
        </p:blipFill>
        <p:spPr>
          <a:xfrm>
            <a:off x="5292720" y="3068640"/>
            <a:ext cx="2444760" cy="27860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image0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6048000"/>
            <a:ext cx="840096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Ремесло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резьба по кости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Содержимое 3" descr="gallery_20018_163_243685.jpg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ЧУДО Чукотской природы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4400"/>
            </a:b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северное сияние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00040" y="2571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1" lang="ru-RU" sz="9600" spc="-1" strike="noStrike">
                <a:solidFill>
                  <a:srgbClr val="ffd2f5"/>
                </a:solidFill>
                <a:latin typeface="Arial"/>
              </a:rPr>
              <a:t>!!!</a:t>
            </a:r>
            <a:endParaRPr b="0" lang="en-US" sz="96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29120" y="856800"/>
            <a:ext cx="36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&lt;&lt;&lt;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лаг ЧА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5" name="Рисунок 2" descr="19204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04956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785880" y="4214880"/>
            <a:ext cx="3686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рб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&gt;&gt;&gt;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АО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27" name="Рисунок 4" descr="19203.jpg"/>
          <p:cNvPicPr/>
          <p:nvPr/>
        </p:nvPicPr>
        <p:blipFill>
          <a:blip r:embed="rId2"/>
          <a:stretch/>
        </p:blipFill>
        <p:spPr>
          <a:xfrm>
            <a:off x="6215040" y="3240000"/>
            <a:ext cx="292896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ренное население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чукчи (1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772 чел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9" name="Рисунок 5" descr="1381890734_voiny.jpg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2" descr="яранг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002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яранг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-2214720" y="9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Жилище</a:t>
            </a:r>
            <a:r>
              <a:rPr b="0" lang="en-US" sz="4400" spc="-1" strike="noStrike" u="sng">
                <a:solidFill>
                  <a:srgbClr val="0049db"/>
                </a:solidFill>
                <a:uFillTx/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5" descr="олен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5586480"/>
            <a:ext cx="822960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9db"/>
                </a:solidFill>
                <a:latin typeface="Arial"/>
              </a:rPr>
              <a:t>оленеводств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500200" y="0"/>
            <a:ext cx="82296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1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http://upload.wikimedia.org/wikipedia/commons/thumb/7/76/Chukchi_boats.jpg/300px-Chukchi_boa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2610000"/>
            <a:ext cx="5689440" cy="32810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1_Моржи, ЗФИ. Фото - А. Каменев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морская охот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1600200"/>
            <a:ext cx="4859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Чукотская одежда </a:t>
            </a:r>
            <a:r>
              <a:rPr b="1" lang="ru-RU" sz="2800" spc="-1" strike="noStrike">
                <a:solidFill>
                  <a:srgbClr val="ffd2f5"/>
                </a:solidFill>
                <a:latin typeface="Arial"/>
              </a:rPr>
              <a:t>«кухлянка»</a:t>
            </a: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 - двойная меховая рубаха  длиной до колен или короче; нижняя рубаха надевалась мехом внутрь, верхняя—мехом наружу. Кухлянка подпоясывалась ремнем, так что образовывался напуск. К ремню привешивался нож, кисет и другие предметы. </a:t>
            </a: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5003640" y="1484280"/>
            <a:ext cx="3713400" cy="4608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22253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55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Национальная одежда чукчей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(кухлянка и торбаса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85880" y="107136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Средства передвижения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2357280" y="4500720"/>
            <a:ext cx="842472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рты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3786120" y="3436920"/>
            <a:ext cx="5357880" cy="3421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5332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571760"/>
            <a:ext cx="40006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Чукотский</a:t>
            </a: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шаман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ечи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сказывае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лдует</a:t>
            </a:r>
            <a:endParaRPr b="0" lang="en-US" sz="40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48" name="Содержимое 3" descr="шаман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31:41Z</dcterms:created>
  <dc:creator>Артём</dc:creator>
  <dc:description/>
  <dc:language>en-US</dc:language>
  <cp:lastModifiedBy>Лена</cp:lastModifiedBy>
  <dcterms:modified xsi:type="dcterms:W3CDTF">2016-01-28T13:24:55Z</dcterms:modified>
  <cp:revision>36</cp:revision>
  <dc:subject/>
  <dc:title>Чукчи</dc:title>
</cp:coreProperties>
</file>