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19.jpeg" ContentType="image/jpeg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3.png" ContentType="image/png"/>
  <Override PartName="/ppt/media/image8.png" ContentType="image/png"/>
  <Override PartName="/ppt/media/image6.jpeg" ContentType="image/jpeg"/>
  <Override PartName="/ppt/media/image10.png" ContentType="image/png"/>
  <Override PartName="/ppt/media/image5.jpeg" ContentType="image/jpeg"/>
  <Override PartName="/ppt/media/image24.png" ContentType="image/png"/>
  <Override PartName="/ppt/media/image18.jpeg" ContentType="image/jpeg"/>
  <Override PartName="/ppt/media/image23.png" ContentType="image/png"/>
  <Override PartName="/ppt/media/image2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2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15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5A63F-496E-46BB-9511-312A1BA58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33012-FFAC-46B3-94A2-CB31BFC5C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EBC96-6185-4516-862A-6BAECA43D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6062D-1DAE-4369-8C13-F84BE96F8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FCCEE-C3F4-413A-BE79-4139D9E80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B23BA-AF06-4D7F-9AA2-E316956FF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98A8D-9510-499A-B998-A88963270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908DA-B8D4-455E-BFC5-DC0325EBF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3ACCD-C8F9-4DFF-A93B-5419ABB58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5E9D1-6B37-431E-BD2D-361DC1195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D9775-FF87-41F2-A0AA-046D558FB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BDA7F-5A6A-42A9-86CB-18689ED1A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1976E-9386-4CDE-80FB-B77996A185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" Target="slide12.xml"/><Relationship Id="rId6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&quot;Арктическая пустыня&quot;&#13;&#13;&#10;В Арктике и Антарктике образуется особый ландшафт, который называется арктическая, или полярная пустыня. Она отличается крайне скудной растительностью, способной существовать среди снегов и ледников.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2057400" y="0"/>
            <a:ext cx="5486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еверный олен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149480" y="1600200"/>
            <a:ext cx="68450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2195640" y="679320"/>
            <a:ext cx="1564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есе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4648320" y="3938760"/>
            <a:ext cx="4038480" cy="218736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304920" y="2209680"/>
            <a:ext cx="3809880" cy="37814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1051560" y="1338120"/>
            <a:ext cx="140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кайр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5257800" y="609480"/>
            <a:ext cx="3048120" cy="48006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5776920" y="5529240"/>
            <a:ext cx="185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топори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3724200" cy="46483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898560" y="5273640"/>
            <a:ext cx="205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уропат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5065560" y="2057400"/>
            <a:ext cx="3544920" cy="403848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6080040" y="701640"/>
            <a:ext cx="94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ус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9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вцебы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447920" y="1905120"/>
            <a:ext cx="6172200" cy="44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тюлен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260360" y="1600200"/>
            <a:ext cx="66232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олярный вол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224000" y="1600200"/>
            <a:ext cx="66960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Растения тундр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79280" y="1557360"/>
            <a:ext cx="2876760" cy="33051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3419640" y="1844640"/>
            <a:ext cx="2914560" cy="19144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6804000" y="1628640"/>
            <a:ext cx="2114640" cy="30290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3492360" y="4581360"/>
            <a:ext cx="3076560" cy="15242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3708360" y="386064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Times New Roman"/>
              </a:rPr>
              <a:t>мх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916360" y="6165720"/>
            <a:ext cx="475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Times New Roman"/>
              </a:rPr>
              <a:t>лишайн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>
            <a:hlinkClick r:id="rId5" action="ppaction://hlinksldjump"/>
          </p:cNvPr>
          <p:cNvSpPr/>
          <p:nvPr/>
        </p:nvSpPr>
        <p:spPr>
          <a:xfrm>
            <a:off x="8459640" y="404640"/>
            <a:ext cx="289080" cy="432000"/>
          </a:xfrm>
          <a:custGeom>
            <a:avLst/>
            <a:gdLst>
              <a:gd name="textAreaLeft" fmla="*/ 18720 w 289080"/>
              <a:gd name="textAreaRight" fmla="*/ 270360 w 289080"/>
              <a:gd name="textAreaTop" fmla="*/ 18720 h 432000"/>
              <a:gd name="textAreaBottom" fmla="*/ 413280 h 432000"/>
            </a:gdLst>
            <a:ahLst/>
            <a:rect l="textAreaLeft" t="textAreaTop" r="textAreaRight" b="textAreaBottom"/>
            <a:pathLst>
              <a:path w="21600" h="32266">
                <a:moveTo>
                  <a:pt x="0" y="0"/>
                </a:moveTo>
                <a:lnTo>
                  <a:pt x="21600" y="0"/>
                </a:lnTo>
                <a:lnTo>
                  <a:pt x="21600" y="32266"/>
                </a:lnTo>
                <a:lnTo>
                  <a:pt x="0" y="32266"/>
                </a:lnTo>
                <a:close/>
              </a:path>
              <a:path fill="lightenLess" w="21600" h="3226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2266">
                <a:moveTo>
                  <a:pt x="21600" y="0"/>
                </a:moveTo>
                <a:lnTo>
                  <a:pt x="21600" y="32266"/>
                </a:lnTo>
                <a:lnTo>
                  <a:pt x="20200" y="30866"/>
                </a:lnTo>
                <a:lnTo>
                  <a:pt x="20200" y="1400"/>
                </a:lnTo>
                <a:close/>
              </a:path>
              <a:path fill="darkenLess" w="21600" h="32266">
                <a:moveTo>
                  <a:pt x="21600" y="32266"/>
                </a:moveTo>
                <a:lnTo>
                  <a:pt x="0" y="32266"/>
                </a:lnTo>
                <a:lnTo>
                  <a:pt x="1400" y="30866"/>
                </a:lnTo>
                <a:lnTo>
                  <a:pt x="20200" y="30866"/>
                </a:lnTo>
                <a:close/>
              </a:path>
              <a:path fill="lighten" w="21600" h="32266">
                <a:moveTo>
                  <a:pt x="0" y="32266"/>
                </a:moveTo>
                <a:lnTo>
                  <a:pt x="0" y="0"/>
                </a:lnTo>
                <a:lnTo>
                  <a:pt x="1400" y="1400"/>
                </a:lnTo>
                <a:lnTo>
                  <a:pt x="1400" y="30866"/>
                </a:lnTo>
                <a:close/>
              </a:path>
              <a:path fill="darken" w="21600" h="32266">
                <a:moveTo>
                  <a:pt x="3794" y="16133"/>
                </a:moveTo>
                <a:lnTo>
                  <a:pt x="17806" y="9126"/>
                </a:lnTo>
                <a:lnTo>
                  <a:pt x="17806" y="2313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28600" y="380880"/>
            <a:ext cx="3962520" cy="30337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445320" y="3341520"/>
            <a:ext cx="25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лярный ма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4648320" y="380880"/>
            <a:ext cx="4038480" cy="307656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5167440" y="3265560"/>
            <a:ext cx="8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х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228600" y="3809880"/>
            <a:ext cx="4011480" cy="26146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1143000" y="6491160"/>
            <a:ext cx="136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лишайн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4"/>
          <a:stretch/>
        </p:blipFill>
        <p:spPr>
          <a:xfrm>
            <a:off x="4572000" y="3809880"/>
            <a:ext cx="4038480" cy="25909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5015520" y="6284880"/>
            <a:ext cx="14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амнелом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олярная со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554120" y="1600200"/>
            <a:ext cx="6033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oner-XP</cp:lastModifiedBy>
  <dcterms:modified xsi:type="dcterms:W3CDTF">2011-05-12T15:51:0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