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2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2003-570B-45C5-8C10-462033FEF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0392-D11F-437F-B354-7858A25E3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D512-0265-4745-9935-3D079C5C8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C944-062B-4B84-B455-ABC5F2D22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DCC4-B754-4C6E-BCFF-E43811D97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F857-5BA3-4993-BEF1-47E3A77A6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CD67-3FFB-4FD6-AC32-9EFF060C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E9EE-526C-4677-88EB-B1D922059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1DFD-2C86-4D73-BD84-50214A537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BE04-9619-4344-9D9C-057153F1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EF76-3070-41FB-AA8E-E6B64847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6715-783F-4C67-93D3-3A988F2B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CE9A3-164E-4F72-9ACA-A99CD9222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" Target="slide12.xml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&quot;Арктическая пустыня&quot;&#13;&#13;&#10;В Арктике и Антарктике образуется особый ландшафт, который называется арктическая, или полярная пустыня. Она отличается крайне скудной растительностью, способной существовать среди снегов и ледников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05740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еверный ол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149480" y="1600200"/>
            <a:ext cx="6845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195640" y="679320"/>
            <a:ext cx="156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есе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04920" y="2209680"/>
            <a:ext cx="3809880" cy="3781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051560" y="1338120"/>
            <a:ext cx="14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ай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5257800" y="609480"/>
            <a:ext cx="3048120" cy="4800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776920" y="5529240"/>
            <a:ext cx="185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опор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3724200" cy="46483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98560" y="527364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уропа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065560" y="2057400"/>
            <a:ext cx="3544920" cy="40384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080040" y="701640"/>
            <a:ext cx="94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у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вцебы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6172200" cy="44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юле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60360" y="1600200"/>
            <a:ext cx="6623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лярный вол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224000" y="1600200"/>
            <a:ext cx="6696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стения тунд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2876760" cy="3305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419640" y="1844640"/>
            <a:ext cx="2914560" cy="1914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804000" y="1628640"/>
            <a:ext cx="2114640" cy="30290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3492360" y="4581360"/>
            <a:ext cx="3076560" cy="1524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708360" y="3860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мх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16360" y="6165720"/>
            <a:ext cx="47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лишай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5" action="ppaction://hlinksldjump"/>
          </p:cNvPr>
          <p:cNvSpPr/>
          <p:nvPr/>
        </p:nvSpPr>
        <p:spPr>
          <a:xfrm>
            <a:off x="8459640" y="404640"/>
            <a:ext cx="289080" cy="43200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432000"/>
              <a:gd name="textAreaBottom" fmla="*/ 413280 h 432000"/>
            </a:gdLst>
            <a:ahLst/>
            <a:rect l="textAreaLeft" t="textAreaTop" r="textAreaRight" b="textAreaBottom"/>
            <a:pathLst>
              <a:path w="21600" h="32266">
                <a:moveTo>
                  <a:pt x="0" y="0"/>
                </a:moveTo>
                <a:lnTo>
                  <a:pt x="21600" y="0"/>
                </a:lnTo>
                <a:lnTo>
                  <a:pt x="21600" y="32266"/>
                </a:lnTo>
                <a:lnTo>
                  <a:pt x="0" y="32266"/>
                </a:lnTo>
                <a:close/>
              </a:path>
              <a:path fill="lightenLess" w="21600" h="322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266">
                <a:moveTo>
                  <a:pt x="21600" y="0"/>
                </a:moveTo>
                <a:lnTo>
                  <a:pt x="21600" y="32266"/>
                </a:lnTo>
                <a:lnTo>
                  <a:pt x="20200" y="30866"/>
                </a:lnTo>
                <a:lnTo>
                  <a:pt x="20200" y="1400"/>
                </a:lnTo>
                <a:close/>
              </a:path>
              <a:path fill="darkenLess" w="21600" h="32266">
                <a:moveTo>
                  <a:pt x="21600" y="32266"/>
                </a:moveTo>
                <a:lnTo>
                  <a:pt x="0" y="32266"/>
                </a:lnTo>
                <a:lnTo>
                  <a:pt x="1400" y="30866"/>
                </a:lnTo>
                <a:lnTo>
                  <a:pt x="20200" y="30866"/>
                </a:lnTo>
                <a:close/>
              </a:path>
              <a:path fill="lighten" w="21600" h="32266">
                <a:moveTo>
                  <a:pt x="0" y="32266"/>
                </a:moveTo>
                <a:lnTo>
                  <a:pt x="0" y="0"/>
                </a:lnTo>
                <a:lnTo>
                  <a:pt x="1400" y="1400"/>
                </a:lnTo>
                <a:lnTo>
                  <a:pt x="1400" y="30866"/>
                </a:lnTo>
                <a:close/>
              </a:path>
              <a:path fill="darken" w="21600" h="32266">
                <a:moveTo>
                  <a:pt x="3794" y="16133"/>
                </a:moveTo>
                <a:lnTo>
                  <a:pt x="17806" y="9126"/>
                </a:lnTo>
                <a:lnTo>
                  <a:pt x="17806" y="2313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3962520" cy="3033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45320" y="3341520"/>
            <a:ext cx="25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лярный м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648320" y="380880"/>
            <a:ext cx="4038480" cy="3076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167440" y="3265560"/>
            <a:ext cx="8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х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228600" y="3809880"/>
            <a:ext cx="4011480" cy="26146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143000" y="6491160"/>
            <a:ext cx="13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шай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4572000" y="3809880"/>
            <a:ext cx="4038480" cy="2590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015520" y="628488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мнелом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лярная с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oner-XP</cp:lastModifiedBy>
  <dcterms:modified xsi:type="dcterms:W3CDTF">2011-05-12T15:51:0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