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0280" cy="34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move the slide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028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9F64F-1631-4270-845A-9C326C254A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4D4D2-4CF1-468C-9802-0494D3CDC2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03780-3463-46E6-A7C2-42F9A729FD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8AEA6-D804-4E8D-A829-8082609948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4655D-DF0F-4B1C-BDA7-3D97C2FF08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63174-01D3-42F5-96C7-489ED7973B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FF07E-A2A9-4301-8854-BFE17B41A2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A733E-7627-4C85-B3A8-109EA96128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BD94C-739B-4FFE-8732-90DFC1347E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569D2-98B4-41A6-BA37-3CCBAADD50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00E6C-7BF5-4D02-A7E1-5E861ED46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7C82D-1A07-4E72-B3CD-5CA6053F22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784F0-EB23-4D22-AAC5-E064FFFBA7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6EB-4995-4950-99FC-4923A6E2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20D0-96C6-4F7C-827F-73C352AF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2EDB-1B1E-4580-9D01-0753BA51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571-0F67-44E1-A5A3-F6EFBEB7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3253-204E-4F58-99BE-DC75BD3E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FB4E-1988-4514-89A3-910DF28B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9959-CCDF-4B08-88E9-935CE2B0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DE83-D022-407D-8F3A-2B5488E8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4DFD-EFFD-4298-A695-0A9B89F2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3A43-74F0-418A-8814-DF9F1277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966E-39CA-4E60-AC15-C6429CB3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31C8-11B8-4961-994D-87CA699D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B092-0A79-42BC-A767-1949136B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B9B6-B380-4D40-8DAB-D91E5422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F767-B5AF-469C-ABC8-BCCE8907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9777-61A6-4AA4-A8F5-D85AA019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BD76-3AEC-462B-92E9-25990F1A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231-7082-4A65-850E-C95E597B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730-103F-49D5-88B0-3F72214D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D72-67A1-4578-9D05-39BE728F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7A96-81EB-41E3-AD92-FF35BE1F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F5B3-F1AE-4BA4-A66B-292C854A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1169-5F55-4540-9357-428767CD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8BF7-9A75-4217-83BD-B162B020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567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84000" y="5164200"/>
            <a:ext cx="2338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86280" y="5164200"/>
            <a:ext cx="3186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F950B-E3E9-4D2E-8919-47BE481748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4440" cy="328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3280" y="5165280"/>
            <a:ext cx="2341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7720" y="5165280"/>
            <a:ext cx="31892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360" y="5165280"/>
            <a:ext cx="2341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E8DBE-8967-43DD-8B4E-DAF83D58F2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15C47-6CFD-425C-8518-1DDA4B729F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216000"/>
            <a:ext cx="7956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d1f63"/>
                </a:solidFill>
                <a:latin typeface="Arial Black"/>
              </a:rPr>
              <a:t>Институциональная модель управления деятельностью педагогов по повышению образовательных результатов по английскому языку 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887640" y="3606840"/>
            <a:ext cx="6191280" cy="17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омнина Т.В.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меститель директора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 УР,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читель английского языка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АОУ «Гимназия №10» г. Перм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970CD-C329-4D94-A0A2-444B023628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Работа с кадрами,</a:t>
            </a:r>
            <a:br>
              <a:rPr sz="2800"/>
            </a:b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 родительской общественностью</a:t>
            </a:r>
            <a:endParaRPr b="0" lang="en-US" sz="28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63000"/>
          </a:bodyPr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ланы профессионального развития педагогов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систематическое повышение квалификации учителей английского язык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ежегодное участие в международном проекте ПРОФИ-КРА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 саморазвитие учителе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рофилактика профессионального выгорания педагогов через поощрения и создание ситуации успех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540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сихологическое сопровождение образовательного процесс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ая работа с учащимися и их родителями по выбору базового и углубленного изучения язык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открытых уроков для родителей, 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ые консультации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88CC5-A55A-47E7-9FF1-70EF99D23B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19280" y="1368360"/>
          <a:ext cx="8091360" cy="4218120"/>
        </p:xfrm>
        <a:graphic>
          <a:graphicData uri="http://schemas.openxmlformats.org/drawingml/2006/table">
            <a:tbl>
              <a:tblPr/>
              <a:tblGrid>
                <a:gridCol w="4046400"/>
                <a:gridCol w="4044960"/>
              </a:tblGrid>
              <a:tr h="422280">
                <a:tc gridSpan="2">
                  <a:txBody>
                    <a:bodyPr lIns="90000" rIns="90000" tIns="83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</a:rPr>
                        <a:t>Качество образовательных достижений учащих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80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251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ровень обученнос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55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ачество знан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О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3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Е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2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476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мониторинга предметных результатов учащихся 8 класс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0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C99E2-321B-48EB-B47A-1995E56ECB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 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19280" y="1368000"/>
            <a:ext cx="809136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19280" y="1368360"/>
          <a:ext cx="8094600" cy="4335480"/>
        </p:xfrm>
        <a:graphic>
          <a:graphicData uri="http://schemas.openxmlformats.org/drawingml/2006/table">
            <a:tbl>
              <a:tblPr/>
              <a:tblGrid>
                <a:gridCol w="4048200"/>
                <a:gridCol w="4046400"/>
              </a:tblGrid>
              <a:tr h="368280"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ачество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разование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 педагогов с высшим педагогическим  образова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748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валификация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величение за три года учителей с высшей квалификационной категори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нание предм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тестирования уч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одика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ладение цифровыми образовательными технологи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63640"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5B981-0689-4FED-869F-169F514625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003d73"/>
                </a:solidFill>
                <a:latin typeface="Arial Black"/>
              </a:rPr>
              <a:t>Качество образования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944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160" y="2438280"/>
            <a:ext cx="10088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440000" y="1728720"/>
            <a:ext cx="2592360" cy="2087640"/>
          </a:xfrm>
          <a:prstGeom prst="wedgeEllipseCallout">
            <a:avLst>
              <a:gd name="adj1" fmla="val -27013"/>
              <a:gd name="adj2" fmla="val 128518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у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103640" y="1511280"/>
            <a:ext cx="2735280" cy="2519280"/>
          </a:xfrm>
          <a:prstGeom prst="wedgeEllipseCallout">
            <a:avLst>
              <a:gd name="adj1" fmla="val -4523"/>
              <a:gd name="adj2" fmla="val 112800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антия ка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ординиров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з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6983280" y="1008000"/>
            <a:ext cx="3168720" cy="2879640"/>
          </a:xfrm>
          <a:prstGeom prst="wedgeEllipseCallout">
            <a:avLst>
              <a:gd name="adj1" fmla="val 6069"/>
              <a:gd name="adj2" fmla="val 79421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независим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ов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Э, ЕГЭ, НИКО, ВПР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D8D53-0470-4DCF-AE8C-B14735A02D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129960"/>
            <a:ext cx="80978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декомпозиции деятельности администрации в целях повышения качества образовательных услуг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планирование качества — формирование стратегии деятельности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 управление качеством — методы и виды деятельности организации оперативного характера, используемые для выполнения требований к качеству образования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беспечение качества — методы и виды деятельности организации, направленные на создание уверенности в том, что требования к качеству будут выполнены: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улучшение качества — виды деятельности, направленные на улучшение способности выполнить требования к качеству образования (результативность, эффективность…)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ценка качества — доказательство того, что заданные требования к качеству образования выполнены.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1537E-4EFE-4562-A759-5743B2027F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3800" y="70920"/>
            <a:ext cx="809784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d73"/>
                </a:solidFill>
                <a:latin typeface="Arial Black"/>
              </a:rPr>
              <a:t>Институциональная модель управления деятельностью педагогов МАОУ «Гимназия №10» по повышению качества образовательных результатов по английскому языку</a:t>
            </a:r>
            <a:endParaRPr b="0" lang="en-US" sz="20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8101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1224000" y="-360360"/>
            <a:ext cx="71280" cy="144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608360" y="3095640"/>
            <a:ext cx="3095640" cy="2592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616720" y="3959280"/>
            <a:ext cx="144360" cy="144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863640" y="3527280"/>
            <a:ext cx="2160720" cy="1800360"/>
          </a:xfrm>
          <a:prstGeom prst="flowChartProcess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БО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ЮЩ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584360" y="1584360"/>
            <a:ext cx="1871640" cy="1224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608360" y="1511280"/>
            <a:ext cx="1656000" cy="1368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7056360" y="1008000"/>
            <a:ext cx="3168720" cy="1079640"/>
          </a:xfrm>
          <a:prstGeom prst="cloudCallout">
            <a:avLst>
              <a:gd name="adj1" fmla="val -20777"/>
              <a:gd name="adj2" fmla="val 35699"/>
            </a:avLst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КИ,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8064360" y="3527280"/>
            <a:ext cx="1656000" cy="1944720"/>
          </a:xfrm>
          <a:custGeom>
            <a:avLst/>
            <a:gdLst>
              <a:gd name="textAreaLeft" fmla="*/ 80640 w 1656000"/>
              <a:gd name="textAreaRight" fmla="*/ 1575360 w 1656000"/>
              <a:gd name="textAreaTop" fmla="*/ 80640 h 1944720"/>
              <a:gd name="textAreaBottom" fmla="*/ 1864080 h 1944720"/>
            </a:gdLst>
            <a:ahLst/>
            <a:rect l="textAreaLeft" t="textAreaTop" r="textAreaRight" b="textAreaBottom"/>
            <a:pathLst>
              <a:path w="21600" h="25365">
                <a:moveTo>
                  <a:pt x="3600" y="0"/>
                </a:moveTo>
                <a:arcTo wR="3600" hR="3600" stAng="16200000" swAng="-5400000"/>
                <a:lnTo>
                  <a:pt x="0" y="21765"/>
                </a:lnTo>
                <a:arcTo wR="3600" hR="3600" stAng="10800000" swAng="-5400000"/>
                <a:lnTo>
                  <a:pt x="18000" y="25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tretch/>
        </p:blipFill>
        <p:spPr>
          <a:xfrm>
            <a:off x="3154320" y="392580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2"/>
          <a:stretch/>
        </p:blipFill>
        <p:spPr>
          <a:xfrm>
            <a:off x="2041560" y="2808360"/>
            <a:ext cx="62244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3"/>
          <a:stretch/>
        </p:blipFill>
        <p:spPr>
          <a:xfrm>
            <a:off x="3456000" y="183816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4"/>
          <a:stretch/>
        </p:blipFill>
        <p:spPr>
          <a:xfrm>
            <a:off x="6121440" y="1511280"/>
            <a:ext cx="33829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259F1-0AE8-48A2-86CA-3080B9B00D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84360" y="144360"/>
            <a:ext cx="8097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по управлению качеством обучения английскому языку в гимназии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3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0000"/>
          </a:bodyPr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1. Диагнос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2. Организационны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3. Прак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4. Анали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896000" y="1150920"/>
            <a:ext cx="720720" cy="3889440"/>
          </a:xfrm>
          <a:custGeom>
            <a:avLst/>
            <a:gdLst>
              <a:gd name="textAreaLeft" fmla="*/ 0 w 720720"/>
              <a:gd name="textAreaRight" fmla="*/ 260280 w 72072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985000" y="1440000"/>
            <a:ext cx="3951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342"/>
                </a:solidFill>
                <a:latin typeface="Arial"/>
              </a:rPr>
              <a:t>Работа с педагогическим коллективом, учащимися, родительской обществен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8223B-24FD-4E02-B26C-AEE7C8A37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Диагностически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4000"/>
          </a:bodyPr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тартовый педагогический совет по результатам внешней независимой оценки качества образования (ОГЭ, ЕГЭ, НИКО, ВПР) -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ходная диагностика —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оздание проблемной группы по актуальным проблемам (Например: «Разработка разноуровневых заданий на уроках английского языка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ыбор методической темы каждым педагогом на учебный год в соответсвии с выявленными проблемами (Например: «Цифровые образовательные ресурсы в обучении грамматике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4BA50-70A2-49B0-85C9-6AD6364174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Организационны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71640" y="136836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4680000" y="3456000"/>
            <a:ext cx="2076480" cy="2025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др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564320" y="4176720"/>
            <a:ext cx="2152800" cy="1362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уроч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800360" y="3365640"/>
            <a:ext cx="2447640" cy="2106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124760" y="1420920"/>
            <a:ext cx="2592360" cy="19638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одитель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енност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871640" y="151128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тив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                 матери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6"/>
          <a:stretch/>
        </p:blipFill>
        <p:spPr>
          <a:xfrm>
            <a:off x="3672000" y="1413000"/>
            <a:ext cx="366696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156EC-6068-4041-A4DC-5CE757DEC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d73"/>
                </a:solidFill>
                <a:latin typeface="Arial Black"/>
              </a:rPr>
              <a:t>Нормативно-правовая база, материально-техническое обеспечение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8000"/>
          </a:bodyPr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1. Нормативно-правовая база (изменение в локальном акте «Положение о текущей и промежуточной аттестации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2. Материально-техническая база (100% кабинетов оснащены компьютерами, проекторами, в наличие смарт-доски, лингафонный кабинет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53B34-46A4-48ED-A249-DBC7912D1C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Организационно-методическая работа, внеурочная деятельность 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9000"/>
          </a:bodyPr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коррекция содержания тематического планирования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мониторинговые карты учащихся по видам деятельности,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ный анализ контрольных работ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разработка индивидуальных карт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 внутренних мониторингов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учительский «аудит»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765760" y="1368360"/>
            <a:ext cx="39499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765760" y="1368360"/>
            <a:ext cx="3948120" cy="32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ежегодные декады английского язы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школьный конкурс песен о любви на английском язы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Конкурс Спикеров «</a:t>
            </a: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We discover the world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олимпиадное движ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а факультати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2T11:40:59Z</dcterms:created>
  <dc:creator>User</dc:creator>
  <dc:description/>
  <dc:language>en-US</dc:language>
  <cp:lastModifiedBy>1</cp:lastModifiedBy>
  <dcterms:modified xsi:type="dcterms:W3CDTF">2019-02-07T03:20:46Z</dcterms:modified>
  <cp:revision>8</cp:revision>
  <dc:subject/>
  <dc:title>DNA</dc:title>
</cp:coreProperties>
</file>