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7.jpeg" ContentType="image/jpeg"/>
  <Override PartName="/ppt/media/image16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A801-E5F2-4AF8-9665-B242DF540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C667-F29C-4FD1-8B8E-8651AC47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A818-F11B-4102-8A15-9FAE293F5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64C7-A58B-48C1-8517-9EEEF63F3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A8F9-6303-41E1-BFA1-23CF3101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92C3-3F69-449D-A3A4-E2ED8287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F037-3E4E-48DD-ADF5-0BE478ED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7701-D1CF-4C91-882A-A0335CDD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A040-ECEC-4484-8793-ADC1BA50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CDA6-6111-43F6-8E60-730642FE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6BFA-76BC-41C1-AD88-F70F6C9C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2875-E482-4CA4-8EA1-576B3E2B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A0D0-FA07-475D-AA7B-B850B5FE1A1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индивидуальных образовательных маршрутов при подготовке обучающихся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ГИА по хим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5264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я Михайловна Сырчикова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Чёрмозская СОШ им. В. Ершов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0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ботка тематических задан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Объект 3" descr=""/>
          <p:cNvPicPr/>
          <p:nvPr/>
        </p:nvPicPr>
        <p:blipFill>
          <a:blip r:embed="rId1"/>
          <a:stretch/>
        </p:blipFill>
        <p:spPr>
          <a:xfrm>
            <a:off x="4575240" y="1197000"/>
            <a:ext cx="4114800" cy="556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Рисунок 4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4108680" cy="556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групповых дополнительных занят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4716360" y="1792440"/>
            <a:ext cx="4191120" cy="4725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" name="Объект 5" descr=""/>
          <p:cNvPicPr/>
          <p:nvPr/>
        </p:nvPicPr>
        <p:blipFill>
          <a:blip r:embed="rId2"/>
          <a:stretch/>
        </p:blipFill>
        <p:spPr>
          <a:xfrm>
            <a:off x="179280" y="1792440"/>
            <a:ext cx="4211640" cy="4725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Объект 5" descr=""/>
          <p:cNvPicPr/>
          <p:nvPr/>
        </p:nvPicPr>
        <p:blipFill>
          <a:blip r:embed="rId1"/>
          <a:stretch/>
        </p:blipFill>
        <p:spPr>
          <a:xfrm>
            <a:off x="5003640" y="1052640"/>
            <a:ext cx="3565800" cy="56466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6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3620880" cy="564660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индивидуальных дополнительных занят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индивидуальных домашних рабо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Объект 10" descr=""/>
          <p:cNvPicPr/>
          <p:nvPr/>
        </p:nvPicPr>
        <p:blipFill>
          <a:blip r:embed="rId1"/>
          <a:stretch/>
        </p:blipFill>
        <p:spPr>
          <a:xfrm>
            <a:off x="4575240" y="1409760"/>
            <a:ext cx="4111560" cy="544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Рисунок 12" descr=""/>
          <p:cNvPicPr/>
          <p:nvPr/>
        </p:nvPicPr>
        <p:blipFill>
          <a:blip r:embed="rId2"/>
          <a:stretch/>
        </p:blipFill>
        <p:spPr>
          <a:xfrm>
            <a:off x="457200" y="1417680"/>
            <a:ext cx="3765600" cy="5440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нк вопрос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E:\Сканы для презентации\img131.jpg"/>
          <p:cNvPicPr/>
          <p:nvPr/>
        </p:nvPicPr>
        <p:blipFill>
          <a:blip r:embed="rId1"/>
          <a:stretch/>
        </p:blipFill>
        <p:spPr>
          <a:xfrm>
            <a:off x="4694400" y="1089000"/>
            <a:ext cx="4087800" cy="573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8" name="Рисунок 1" descr=""/>
          <p:cNvPicPr/>
          <p:nvPr/>
        </p:nvPicPr>
        <p:blipFill>
          <a:blip r:embed="rId2"/>
          <a:stretch/>
        </p:blipFill>
        <p:spPr>
          <a:xfrm>
            <a:off x="220680" y="1071720"/>
            <a:ext cx="4233960" cy="576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ÐÐ°ÑÑÐ¸Ð½ÐºÐ¸ Ð¿Ð¾ Ð·Ð°Ð¿ÑÐ¾ÑÑ ÐºÐ°ÑÑÐ¸Ð½ÐºÐ° Ð²ÑÐµ Ð² Ð²Ð°ÑÐ¸Ñ ÑÑÐºÐ°Ñ"/>
          <p:cNvPicPr/>
          <p:nvPr/>
        </p:nvPicPr>
        <p:blipFill>
          <a:blip r:embed="rId2"/>
          <a:stretch/>
        </p:blipFill>
        <p:spPr>
          <a:xfrm>
            <a:off x="611280" y="189000"/>
            <a:ext cx="792144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я Михайловна Сырчикова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МБОУ «Чёрмозская СОШ им. В. Ершов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3"/>
          <p:cNvSpPr/>
          <p:nvPr/>
        </p:nvSpPr>
        <p:spPr>
          <a:xfrm>
            <a:off x="900000" y="907920"/>
            <a:ext cx="727416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и образование ни одному человеку не могут быть даны или сообщены. Всякий, кто желает к ним приобщиться, должен достигнуть этого собственной деятельностью, собственными силами, собственным напряжением“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ольф Дистерве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еализации програм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4000" y="1125360"/>
            <a:ext cx="8496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ение списка желающих сдавать экзамен по химии и их анкетировани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ование обучающихся и их родителей о порядке проведения ГИА в 9 и 11 класс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демоверсией, кодификатором и спецификацией ГИА по химии – 2019 года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банка заданий, тренажёров, опорных схем и т.д. по темам;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трёх тренировочных экзаменов, информирование родителей о их результатах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общих и частных проблем курса и составление индивидуальных образовательных траекторий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вопросами, вызвавшими затруднения у большинства обучающихс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10-12 заданий для получения необходимого минимума баллов для учеников группы «риска»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заданиями высокого уровня сложности для учеников группы «сильные»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курса по выбору «Окислительно-восстановительные реакции»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и анализ тестов из сборника для подготовки и с сайтов «Решу ОГЭ, ЕГЭ», ФИПИ и др.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4000" y="1699920"/>
            <a:ext cx="84960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ились 3 группы обучающихся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группа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ильные» - претенденты на получение высоких баллов – 2 человек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группа -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еся, которые при добросовестной подготовке могут набрать среднее количество баллов – 5 человек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группа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иска» - могут не набрать минимальное количество баллов – 2 человек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выбора химии в качестве ГИА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читаю, что химию сдам лучше, чем другие возможные экзамены в формате ГИА - 4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ланирую изучать химию на профильном уровне в старшей школе (10-11 классы) -3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интересен предмет химия –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зультатов анкетирования обучающихся 9 клас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764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на настоящий момент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м со средним количеством баллов – 5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м с минимальным (или чуть больше) количеством баллов – 4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на будущее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м с высоким количеством баллов - 3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м со средним количеством баллов – 6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611280" y="4149720"/>
            <a:ext cx="792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рудн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ызывают задания связанные со знанием химических свойств веществ, решением задач и ОВ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все собираются заниматься самостоятельно и на дополнительных консультациях в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ажёр по классам неорганических соедин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692280"/>
          <a:ext cx="8229600" cy="475272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  <a:gridCol w="1409760"/>
                <a:gridCol w="1295280"/>
                <a:gridCol w="1224000"/>
                <a:gridCol w="1214640"/>
                <a:gridCol w="1028520"/>
              </a:tblGrid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риа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(N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N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N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H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ru-RU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3" name="TextBox 4"/>
          <p:cNvSpPr/>
          <p:nvPr/>
        </p:nvSpPr>
        <p:spPr>
          <a:xfrm>
            <a:off x="539640" y="5589720"/>
            <a:ext cx="8209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заданий:</a:t>
            </a:r>
            <a:br>
              <a:rPr sz="16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спределить  вещества по классам, назвать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ие вещества варианта могут попарно взаимодействовать, написать уравнения    реакций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кие вещества варианта будут взаимодействовать с соляной кислотой, гидроксидом натрия и т. д., написать уравнения возможных реакц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ажёр по химическим реакци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4360" y="765000"/>
          <a:ext cx="7920000" cy="4608720"/>
        </p:xfrm>
        <a:graphic>
          <a:graphicData uri="http://schemas.openxmlformats.org/drawingml/2006/table">
            <a:tbl>
              <a:tblPr/>
              <a:tblGrid>
                <a:gridCol w="1584000"/>
                <a:gridCol w="1584360"/>
                <a:gridCol w="1582920"/>
                <a:gridCol w="1584360"/>
                <a:gridCol w="1584360"/>
              </a:tblGrid>
              <a:tr h="649440"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4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ариа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 + HCl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aOH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 + Hg(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 + 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9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a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 + HCl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(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O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 + CuC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O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1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(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O + HCl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l(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i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Cu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Cl + Na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g + HCl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9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(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H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 + 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O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g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(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ц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g + H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g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(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ц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9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 + Ag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aC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lC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Ag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 + Ni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6" name="Rectangle 1"/>
          <p:cNvSpPr/>
          <p:nvPr/>
        </p:nvSpPr>
        <p:spPr>
          <a:xfrm>
            <a:off x="755640" y="5458320"/>
            <a:ext cx="77040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меры задан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1. Закончить уравнения возможных реакц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2. Определить тип реакц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3. Для реакций ионного обмена написать уравнения в ионном виде и т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образовательные маршру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Объект 2" descr=""/>
          <p:cNvPicPr/>
          <p:nvPr/>
        </p:nvPicPr>
        <p:blipFill>
          <a:blip r:embed="rId1"/>
          <a:stretch/>
        </p:blipFill>
        <p:spPr>
          <a:xfrm>
            <a:off x="449280" y="1557360"/>
            <a:ext cx="385128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Рисунок 3" descr=""/>
          <p:cNvPicPr/>
          <p:nvPr/>
        </p:nvPicPr>
        <p:blipFill>
          <a:blip r:embed="rId2"/>
          <a:stretch/>
        </p:blipFill>
        <p:spPr>
          <a:xfrm>
            <a:off x="4516560" y="1557360"/>
            <a:ext cx="4259160" cy="4537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" name="Прямоугольник 1"/>
          <p:cNvSpPr/>
          <p:nvPr/>
        </p:nvSpPr>
        <p:spPr>
          <a:xfrm>
            <a:off x="2340000" y="5589720"/>
            <a:ext cx="4535640" cy="100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ы индивидуальные «зачетные книжки» для подготовки к экзаме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диагностических рабо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1" descr=""/>
          <p:cNvPicPr/>
          <p:nvPr/>
        </p:nvPicPr>
        <p:blipFill>
          <a:blip r:embed="rId1"/>
          <a:stretch/>
        </p:blipFill>
        <p:spPr>
          <a:xfrm>
            <a:off x="1116000" y="1143000"/>
            <a:ext cx="3095640" cy="5492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3" name="Объект 3" descr=""/>
          <p:cNvPicPr/>
          <p:nvPr/>
        </p:nvPicPr>
        <p:blipFill>
          <a:blip r:embed="rId2"/>
          <a:stretch/>
        </p:blipFill>
        <p:spPr>
          <a:xfrm>
            <a:off x="5076720" y="1150920"/>
            <a:ext cx="3125880" cy="549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6T16:21:20Z</dcterms:created>
  <dc:creator>Зоя Михайловна</dc:creator>
  <dc:description/>
  <dc:language>en-US</dc:language>
  <cp:lastModifiedBy>Клинова Мария Николаевна</cp:lastModifiedBy>
  <dcterms:modified xsi:type="dcterms:W3CDTF">2018-11-13T07:58:25Z</dcterms:modified>
  <cp:revision>43</cp:revision>
  <dc:subject/>
  <dc:title>Слайд 1</dc:title>
</cp:coreProperties>
</file>