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1AF0-CCD5-4983-9BB4-22D39CBD2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FDCF-FFEF-4287-A9E7-A191C021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652C-62A9-47D7-935C-08EB7B944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529C-E0CD-48ED-A0AF-631D846C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EE63-FB85-4023-8813-9C2B2B157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EC6F-16A2-4505-9A49-7584E5AF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F7F4-F821-4687-9005-FA4EDB2A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B9BF-DC09-4753-91FC-D1BE2D44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598C-DD96-44AE-98CD-EE8C5C1A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76B6-69E4-43C1-A2B9-DB907E85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01BA-5BDB-417A-B398-C8FB5FB9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9028-CCD0-4253-B065-8F23E763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CF80-10FA-42AB-9F44-99B2F3CB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692D-2EA0-4DE5-9DC5-0E8EC948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1DEB-F9A1-4497-917B-9BAB500D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BD2A-BE4B-4297-86A2-CB85B5906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C6B6-2763-454A-B26E-532A149CA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AA45-7FDA-42E1-B233-A0E2D42B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962D-8330-47B6-9783-12205182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DE93-2158-48B4-8660-E5E008BE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8005-5A3C-4708-B149-F9A7D424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3B64-6DAE-4B75-BAC1-62D787BD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705D-136E-47C9-939E-FF1E784D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2FAB-45B7-4831-B151-02ADD218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7B05-BA11-4010-8118-B6B4C960B166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C018-C970-4ADC-A813-AC8D3DB79104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Тьюторское сопровождение  профессионального развития педагога</a:t>
            </a:r>
            <a:br>
              <a:rPr sz="48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343040" y="4351320"/>
            <a:ext cx="409572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Выполнил: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Тяпугина С.Н.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методист по сельским школам МОУ ДПО «ЦНМО»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г. Лысьва, 2009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Профессиональные умения тьютора</a:t>
            </a:r>
            <a:br>
              <a:rPr sz="3600"/>
            </a:b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Тьютор- человек творческий, обладающий педагогическим тактом, способностью к эмпатии, компетентным в своей специальности и имеющий высокий уровень общей культур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Личностные качества тьютор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 сообразительн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работоспособн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эмоциональная восприимчив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увство юмора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психологическая зорк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сосредоточен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критич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стойкость в преодолении консерватизма, отстаивании своей позици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еткость, оригинальность, актив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увство нового, стремление к его познанию, способность к преодолении инерции мышлени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Требования к профессиональной позиции тьютора</a:t>
            </a:r>
            <a:r>
              <a:rPr b="1" i="1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Тьютор является педагогом, работающим в тех же нормативно-организационных и финансово-материальных условиях, что и обучаемый им учитель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Он должен обладать позитивным опытом ведения инновационной деятельности в образовании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Должен быть готов к профессионально-личностному саморазвитию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Ориентирован на профессиональное общение на основе равноправных партнерских отношений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Должен быть профессионально компетентен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Тьюторское сопровождение-</a:t>
            </a:r>
            <a:r>
              <a:rPr b="1" lang="ru-RU" sz="4000" spc="-1" strike="noStrike">
                <a:solidFill>
                  <a:srgbClr val="2a3d7a"/>
                </a:solidFill>
                <a:latin typeface="Times New Roman"/>
              </a:rPr>
              <a:t> это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собый тип педагогического сопровождение педагога, грамотное и заботливое сопровождени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Основные характеристики тьюторского сопровождения педагога: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b5249"/>
                </a:solidFill>
                <a:latin typeface="Times New Roman"/>
              </a:rPr>
              <a:t>субъектная активность, и тьютора, и подопечного.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Преимущества тьюторской технологии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в ходе профессионального общения вырабатывае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продуктивное взаимодействие,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 проявляется инициатива и того, и другого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тьюторская технологи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активизирует обучаемых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, превращает из пассивных потребителей информации в творческих соучастников процесса обучения.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Этапы тьюторской технологии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диагностически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мотивацион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целеполагающи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проектировоч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ценочно- результатив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Эффективность тьюторской технологии для педагог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7724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- удовлетворение профессионально- образовательные потребности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активное развитие компетентности, креативно- аналитического мышления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творческая самореализация и саморазвитие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Эффективность тьюторской технологии для педагога- тьютор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деятельность дает огромные возможности для профессионального и личностного роста педагога - тьютор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8380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«Ученик будет знать, что существует,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ребенок научится ходить сам по проторенному пути,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а подопечный тьютора научится создавать путь.»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(Рыбалкин Н.В. «Тьюторство: идеи и идеалогия»)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09480" y="2133360"/>
            <a:ext cx="81010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609480" y="1752480"/>
            <a:ext cx="792504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Тьютор(</a:t>
            </a:r>
            <a:r>
              <a:rPr b="1" i="1" lang="en-US" sz="4800" spc="-1" strike="noStrike">
                <a:solidFill>
                  <a:srgbClr val="2a3d7a"/>
                </a:solidFill>
                <a:latin typeface="Times New Roman"/>
              </a:rPr>
              <a:t>Tutor</a:t>
            </a: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) -</a:t>
            </a:r>
            <a:r>
              <a:rPr b="1" lang="ru-RU" sz="4400" spc="-1" strike="noStrike">
                <a:solidFill>
                  <a:srgbClr val="5b5249"/>
                </a:solidFill>
                <a:latin typeface="Times New Roman"/>
              </a:rPr>
              <a:t> это преподаватель, консультант(по карьере), наставник, куратор, партнер обучающихся взрослых.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Задачи тьютора: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-сопровождать учителя при овладении им учебной программой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- изучать индивидуальность педагога, с которым работает, его затруднения, профессиональные интересы.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Особенности</a:t>
            </a:r>
            <a:br>
              <a:rPr sz="3600"/>
            </a:b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 педагогической деятельности тьютора: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3276720"/>
            <a:ext cx="7772400" cy="30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тьютор отдает приоритет процессу самообучения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- тьютор отдает предпочтение практической направленности обуче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- цели обучения становя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предметом согласования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 между тьютором и педагогом, обучение строи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на гибкой основе 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и в соответствии с потребностями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Функции тьютора: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609480" y="2455200"/>
            <a:ext cx="7925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Arial"/>
              </a:rPr>
              <a:t>- осуществляет экспертизу педагогической деятельности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5b524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Arial"/>
              </a:rPr>
              <a:t>повышает мотивацию и вовлекает учителя в процесс самообразова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-определяет целеполагание, проектирует учебные модули заняти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проводит консультации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диагностирует состояние и ход обуче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корректирует деятельность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Содержание деятельности тьютора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Информ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Информирование педагогов о дополнительной научной литературе, возможности повысить квалификацию, участвовать в профессиональных конкурсах и т.д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Консульт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Консультирование по методологическим составляющим проектов, современным образовательным технологиям, описанию ИТ опыта и т.д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бучающ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бучение описанию собственного инновационного опыта работы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Содержание деятельности тьютора</a:t>
            </a:r>
            <a:br>
              <a:rPr sz="3600"/>
            </a:b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Мотив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Создание у педагога внутренней установки к собственному развитию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рганиз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рганизация работы временного творческого коллектива, планирование и анализ его деятельности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Диагностическ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Проведение входящей, промежуточной и итоговой диагностики педагогов – инноваторов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Тьютор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должен обладать системой интеллектуальных, волевых и эмоционально- оценочных отношений к миру, к педагогической действительности  и к новой для него деятельности, что становится источником его активност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дмила Александровна Молош</cp:lastModifiedBy>
  <dcterms:modified xsi:type="dcterms:W3CDTF">2018-10-31T04:29:01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