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35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3.png" ContentType="image/png"/>
  <Override PartName="/ppt/media/image20.png" ContentType="image/png"/>
  <Override PartName="/ppt/media/image36.jpeg" ContentType="image/jpeg"/>
  <Override PartName="/ppt/media/image12.png" ContentType="image/png"/>
  <Override PartName="/ppt/media/image32.wmf" ContentType="image/x-wmf"/>
  <Override PartName="/ppt/media/image30.jpeg" ContentType="image/jpeg"/>
  <Override PartName="/ppt/media/image37.jpeg" ContentType="image/jpeg"/>
  <Override PartName="/ppt/media/image33.wmf" ContentType="image/x-wmf"/>
  <Override PartName="/ppt/media/image13.png" ContentType="image/png"/>
  <Override PartName="/ppt/media/image41.jpeg" ContentType="image/jpeg"/>
  <Override PartName="/ppt/media/image42.jpeg" ContentType="image/jpeg"/>
  <Override PartName="/ppt/media/image9.wmf" ContentType="image/x-wmf"/>
  <Override PartName="/ppt/media/image14.png" ContentType="image/png"/>
  <Override PartName="/ppt/media/image43.jpeg" ContentType="image/jpeg"/>
  <Override PartName="/ppt/media/image44.jpeg" ContentType="image/jpeg"/>
  <Override PartName="/ppt/media/image40.jpeg" ContentType="image/jpeg"/>
  <Override PartName="/ppt/media/image45.wmf" ContentType="image/x-wmf"/>
  <Override PartName="/ppt/media/image2.png" ContentType="image/png"/>
  <Override PartName="/ppt/media/image46.wmf" ContentType="image/x-wmf"/>
  <Override PartName="/ppt/media/image48.jpeg" ContentType="image/jpeg"/>
  <Override PartName="/ppt/media/image39.jpeg" ContentType="image/jpeg"/>
  <Override PartName="/ppt/media/image8.jpeg" ContentType="image/jpeg"/>
  <Override PartName="/ppt/media/image5.wmf" ContentType="image/x-wmf"/>
  <Override PartName="/ppt/media/image18.png" ContentType="image/png"/>
  <Override PartName="/ppt/media/image6.jpeg" ContentType="image/jpeg"/>
  <Override PartName="/ppt/media/image11.png" ContentType="image/png"/>
  <Override PartName="/ppt/media/image29.wmf" ContentType="image/x-wmf"/>
  <Override PartName="/ppt/media/image31.jpeg" ContentType="image/jpeg"/>
  <Override PartName="/ppt/media/image10.wmf" ContentType="image/x-wmf"/>
  <Override PartName="/ppt/media/image47.wmf" ContentType="image/x-wmf"/>
  <Override PartName="/ppt/media/image38.jpeg" ContentType="image/jpeg"/>
  <Override PartName="/ppt/media/image2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638B-40D3-4F33-8946-8D1A0AC0829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7DD1-2D0E-431F-AB19-78E06CEE3420}" type="slidenum">
              <a:rPr b="0" lang="ru-RU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7B7A-F927-4034-BCB2-5DF904F8A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24F7-F791-41C6-BF84-093A46B1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C1B5-3293-44AE-B67D-AEBBF1D4E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4047-B53A-4185-84B4-2B1DF51CC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2933-70AF-4269-ACC5-15C576FE7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91E1-FD56-45E0-AEE9-D1B22AA2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771F-CF73-4E0D-A8B4-F957D756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896A-23B2-4FA7-BFCF-B0CB03AD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B463-C831-4A45-9F28-28F676E1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FFEC-C67E-4FA0-974D-AA756162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25B3-14B0-4497-BDBD-F2935D25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86F8-65AA-46C8-9AB4-CE7BD7DB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7B55-D197-4FC4-848B-04F76F70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F082-CA47-4931-9DDB-9AD0A47E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6016-C21B-42E8-9C9D-C7BD3187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714C-E380-4993-9905-0962B23BA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C2B4-542A-44BA-822E-2FF25BCB9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3534-E287-446D-B8F7-F6BF9945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896B-A14A-4D35-A6ED-18AE37AD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FBAD-3019-4A4B-9771-ED7C57FD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AD03-24F2-4215-B0E8-DDE0C519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DAD0-EFBE-4F96-AE7A-9C646E3D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0A25-9046-4025-BEC4-52A9C6C2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543C-8AED-40E2-A807-D5BB7416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240"/>
              <a:ext cx="2869560" cy="2268720"/>
              <a:chOff x="6274080" y="-21240"/>
              <a:chExt cx="2869560" cy="226872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240"/>
                <a:ext cx="2866320" cy="2268720"/>
                <a:chOff x="6274080" y="-21240"/>
                <a:chExt cx="2866320" cy="226872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3960" y="843120"/>
                  <a:ext cx="1063440" cy="1141200"/>
                  <a:chOff x="7833960" y="843120"/>
                  <a:chExt cx="1063440" cy="114120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59800" y="1133640"/>
                    <a:ext cx="8866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8160" y="1604520"/>
                    <a:ext cx="46980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240"/>
                  <a:chOff x="7852320" y="657720"/>
                  <a:chExt cx="1223640" cy="41724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6040" y="799200"/>
                    <a:ext cx="42516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760"/>
                  <a:ext cx="984240" cy="326880"/>
                  <a:chOff x="7845840" y="419760"/>
                  <a:chExt cx="98424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720"/>
                    <a:ext cx="6339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5840" y="456120"/>
                    <a:ext cx="338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040" y="906120"/>
                  <a:ext cx="1062360" cy="1142280"/>
                  <a:chOff x="6539040" y="906120"/>
                  <a:chExt cx="1062360" cy="114228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5360" y="1195200"/>
                    <a:ext cx="88020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840" y="1665000"/>
                    <a:ext cx="47160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480" y="930600"/>
                  <a:ext cx="915120" cy="1247400"/>
                  <a:chOff x="6711480" y="930600"/>
                  <a:chExt cx="915120" cy="12474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3320" y="1260360"/>
                    <a:ext cx="894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760"/>
                    <a:ext cx="47340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560"/>
                  <a:ext cx="618840" cy="1247760"/>
                  <a:chOff x="7014960" y="979560"/>
                  <a:chExt cx="618840" cy="124776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7240" y="1312200"/>
                    <a:ext cx="82764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320" y="1001160"/>
                  <a:ext cx="363240" cy="1217160"/>
                  <a:chOff x="7312320" y="1001160"/>
                  <a:chExt cx="363240" cy="121716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0760" y="1878120"/>
                    <a:ext cx="42228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680" y="1289160"/>
                    <a:ext cx="8452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79480" y="1839960"/>
                    <a:ext cx="4550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480" cy="1242360"/>
                  <a:chOff x="7756920" y="1005120"/>
                  <a:chExt cx="51048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5160" y="1352880"/>
                    <a:ext cx="8240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7200" cy="1131480"/>
                  <a:chOff x="7500240" y="1077840"/>
                  <a:chExt cx="27720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19160" y="1404720"/>
                    <a:ext cx="74448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6560" y="1927080"/>
                    <a:ext cx="39888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3949-D53D-4E16-8662-F65D7252FAAC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1320" y="244800"/>
            <a:ext cx="6895800" cy="5452200"/>
            <a:chOff x="2011320" y="244800"/>
            <a:chExt cx="689580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1320" y="244800"/>
              <a:ext cx="6895800" cy="5452200"/>
              <a:chOff x="2011320" y="244800"/>
              <a:chExt cx="689580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1320" y="244800"/>
                <a:ext cx="6890760" cy="5452200"/>
                <a:chOff x="2011320" y="244800"/>
                <a:chExt cx="689076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1400"/>
                  <a:chOff x="3735720" y="1266120"/>
                  <a:chExt cx="3599280" cy="265140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160"/>
                    <a:ext cx="712440" cy="50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1320" y="244800"/>
                  <a:ext cx="6890760" cy="5452200"/>
                  <a:chOff x="2011320" y="244800"/>
                  <a:chExt cx="689076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58200" y="2323440"/>
                    <a:ext cx="2563200" cy="2739240"/>
                    <a:chOff x="5758200" y="2323440"/>
                    <a:chExt cx="2563200" cy="27392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0000" y="3022920"/>
                      <a:ext cx="213336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3040" y="4142520"/>
                      <a:ext cx="11426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8440" y="2148480"/>
                    <a:ext cx="3038400" cy="2529000"/>
                    <a:chOff x="5788440" y="2148480"/>
                    <a:chExt cx="3038400" cy="252900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1840"/>
                      <a:ext cx="2235600" cy="42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000" y="3723120"/>
                      <a:ext cx="1200960" cy="67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64240"/>
                    <a:ext cx="3097440" cy="1992600"/>
                    <a:chOff x="5774760" y="2064240"/>
                    <a:chExt cx="309744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20000"/>
                      <a:ext cx="214056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840"/>
                      <a:ext cx="1149120" cy="58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69560"/>
                    <a:ext cx="3133800" cy="1608120"/>
                    <a:chOff x="5768280" y="196956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880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00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200"/>
                    <a:ext cx="2938680" cy="1001880"/>
                    <a:chOff x="5806080" y="1879200"/>
                    <a:chExt cx="293868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200"/>
                      <a:ext cx="190368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2200"/>
                      <a:ext cx="1023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4400"/>
                    <a:ext cx="2658960" cy="444960"/>
                    <a:chOff x="5851080" y="1814400"/>
                    <a:chExt cx="2658960" cy="44496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50040"/>
                      <a:ext cx="1730880" cy="27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5920"/>
                      <a:ext cx="929520" cy="42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800" y="1304640"/>
                    <a:ext cx="2364120" cy="785520"/>
                    <a:chOff x="5788800" y="1304640"/>
                    <a:chExt cx="2364120" cy="7855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520" y="1654200"/>
                      <a:ext cx="152028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3200"/>
                      <a:ext cx="816480" cy="41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2840"/>
                    <a:ext cx="2556720" cy="2742120"/>
                    <a:chOff x="2646360" y="247284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040" y="3169800"/>
                      <a:ext cx="212616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480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760" y="2366280"/>
                    <a:ext cx="3039480" cy="2531880"/>
                    <a:chOff x="2084760" y="2366280"/>
                    <a:chExt cx="3039480" cy="25318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280" y="2968920"/>
                      <a:ext cx="2234160" cy="42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000" y="3941280"/>
                      <a:ext cx="11998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2760"/>
                    <a:ext cx="3096360" cy="1991520"/>
                    <a:chOff x="2040840" y="2282760"/>
                    <a:chExt cx="3096360" cy="199152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852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24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1320" y="2189160"/>
                    <a:ext cx="3133800" cy="1607400"/>
                    <a:chOff x="2011320" y="2189160"/>
                    <a:chExt cx="3133800" cy="160740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840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3040"/>
                      <a:ext cx="1110600" cy="64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7000"/>
                    <a:ext cx="2937240" cy="1000800"/>
                    <a:chOff x="2167560" y="2097000"/>
                    <a:chExt cx="2937240" cy="10008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840" y="2223000"/>
                      <a:ext cx="190368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840" y="242856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1840"/>
                    <a:ext cx="2658600" cy="447120"/>
                    <a:chOff x="2403720" y="2031840"/>
                    <a:chExt cx="2658600" cy="4471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892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3000"/>
                      <a:ext cx="92952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21360"/>
                    <a:ext cx="2364120" cy="787320"/>
                    <a:chOff x="2760480" y="152136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12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09920"/>
                      <a:ext cx="81612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920" y="1236960"/>
                    <a:ext cx="2323440" cy="1082160"/>
                    <a:chOff x="2887920" y="1236960"/>
                    <a:chExt cx="2323440" cy="10821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5600"/>
                      <a:ext cx="1520280" cy="26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720" y="1370880"/>
                      <a:ext cx="816120" cy="41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600"/>
                    <a:ext cx="2169720" cy="1506960"/>
                    <a:chOff x="3161160" y="831600"/>
                    <a:chExt cx="2169720" cy="150696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4000"/>
                      <a:ext cx="1520280" cy="26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312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5240"/>
                    <a:ext cx="1987200" cy="1831320"/>
                    <a:chOff x="3437640" y="43524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976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360" y="665280"/>
                      <a:ext cx="8283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1920"/>
                    <a:ext cx="1461600" cy="1889640"/>
                    <a:chOff x="4026960" y="331920"/>
                    <a:chExt cx="1461600" cy="188964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560" y="144324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25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520" y="244800"/>
                    <a:ext cx="1123560" cy="1946880"/>
                    <a:chOff x="4448520" y="244800"/>
                    <a:chExt cx="1123560" cy="194688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160" y="1400400"/>
                      <a:ext cx="13100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9000" y="438120"/>
                      <a:ext cx="7009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1840"/>
                    <a:ext cx="2318760" cy="1112040"/>
                    <a:chOff x="5661720" y="951840"/>
                    <a:chExt cx="231876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240" y="1523880"/>
                      <a:ext cx="151992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90080"/>
                      <a:ext cx="81756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4960"/>
                    <a:ext cx="2201760" cy="1451520"/>
                    <a:chOff x="5529600" y="624960"/>
                    <a:chExt cx="2201760" cy="145152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848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9640"/>
                      <a:ext cx="8175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120" y="1465920"/>
                    <a:ext cx="126540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748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69640"/>
                    <a:ext cx="1194120" cy="1900440"/>
                    <a:chOff x="5355720" y="269640"/>
                    <a:chExt cx="1194120" cy="190044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73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5640"/>
                      <a:ext cx="70272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51040" y="387720"/>
                    <a:ext cx="1889280" cy="1795320"/>
                    <a:chOff x="5351040" y="387720"/>
                    <a:chExt cx="1889280" cy="179532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51680" y="1386360"/>
                      <a:ext cx="1422360" cy="33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320" y="585000"/>
                      <a:ext cx="76788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400" y="291960"/>
                    <a:ext cx="424800" cy="1794960"/>
                    <a:chOff x="5459400" y="291960"/>
                    <a:chExt cx="424800" cy="179496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960" y="1444320"/>
                      <a:ext cx="117612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0680" y="533160"/>
                      <a:ext cx="63144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8640"/>
                    <a:ext cx="2193120" cy="3003480"/>
                    <a:chOff x="3063240" y="2528640"/>
                    <a:chExt cx="219312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7120" y="3313080"/>
                      <a:ext cx="212724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0720"/>
                      <a:ext cx="11390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160" y="2650320"/>
                    <a:ext cx="1482480" cy="2999160"/>
                    <a:chOff x="3791160" y="2650320"/>
                    <a:chExt cx="1482480" cy="299916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8240" y="3441240"/>
                      <a:ext cx="1967040" cy="38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4720" y="4742640"/>
                      <a:ext cx="1055160" cy="60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920" y="2700000"/>
                    <a:ext cx="875880" cy="2927520"/>
                    <a:chOff x="4507920" y="2700000"/>
                    <a:chExt cx="87588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000" y="3485880"/>
                      <a:ext cx="1888200" cy="34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2560"/>
                    <a:ext cx="2280240" cy="2952000"/>
                    <a:chOff x="5677920" y="2482560"/>
                    <a:chExt cx="2280240" cy="29520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080"/>
                      <a:ext cx="212616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6760"/>
                      <a:ext cx="11394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9120" y="2593440"/>
                    <a:ext cx="1753920" cy="3030480"/>
                    <a:chOff x="5649120" y="2593440"/>
                    <a:chExt cx="1753920" cy="30304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6800" y="3394800"/>
                      <a:ext cx="2032560" cy="36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840" y="4720680"/>
                      <a:ext cx="1088640" cy="57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1160"/>
                    <a:ext cx="1227240" cy="2985840"/>
                    <a:chOff x="5576400" y="2711160"/>
                    <a:chExt cx="1227240" cy="298584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2760"/>
                      <a:ext cx="1971720" cy="30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80600" y="4881960"/>
                      <a:ext cx="105912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680" y="2837520"/>
                    <a:ext cx="695880" cy="2780280"/>
                    <a:chOff x="5521680" y="2837520"/>
                    <a:chExt cx="695880" cy="278028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720" y="3604320"/>
                      <a:ext cx="1812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3960"/>
                      <a:ext cx="97416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1160" y="2886840"/>
                    <a:ext cx="666000" cy="2717280"/>
                    <a:chOff x="4961160" y="2886840"/>
                    <a:chExt cx="666000" cy="271728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4920" y="3666240"/>
                      <a:ext cx="1773720" cy="22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3480" y="4933800"/>
                      <a:ext cx="950040" cy="35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1480"/>
                <a:ext cx="6732720" cy="4521960"/>
                <a:chOff x="2174400" y="681480"/>
                <a:chExt cx="6732720" cy="452196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1480"/>
                  <a:ext cx="6732720" cy="4521960"/>
                  <a:chOff x="2174400" y="681480"/>
                  <a:chExt cx="6732720" cy="452196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4280"/>
                    <a:ext cx="3166560" cy="252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9800"/>
                    <a:ext cx="2486880" cy="2933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50320"/>
                    <a:ext cx="1758240" cy="29350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6720"/>
                    <a:ext cx="3133440" cy="293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81480"/>
                    <a:ext cx="2282760" cy="284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5240"/>
                    <a:ext cx="940680" cy="284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304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0520"/>
                  <a:ext cx="5461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20720"/>
              <a:ext cx="6411960" cy="4709160"/>
              <a:chOff x="2343960" y="720720"/>
              <a:chExt cx="6411960" cy="47091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4324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8040"/>
                <a:ext cx="2617200" cy="284184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30480"/>
                <a:ext cx="1534320" cy="293436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6720"/>
                <a:ext cx="2930760" cy="293436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8920"/>
                <a:ext cx="469800" cy="29343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45240"/>
                <a:ext cx="1238040" cy="29343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5536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5560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9264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6520"/>
                <a:ext cx="85824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6160"/>
                <a:ext cx="1242000" cy="197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824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2072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62520"/>
                <a:ext cx="542880" cy="1032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CBC7-CA8A-4576-B335-33A967CE30A6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image" Target="../media/image43.jpeg"/><Relationship Id="rId10" Type="http://schemas.openxmlformats.org/officeDocument/2006/relationships/image" Target="../media/image44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5" descr="Изображение 0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7" name="Объект 2" descr=""/>
          <p:cNvPicPr/>
          <p:nvPr/>
        </p:nvPicPr>
        <p:blipFill>
          <a:blip r:embed="rId1"/>
          <a:stretch/>
        </p:blipFill>
        <p:spPr>
          <a:xfrm>
            <a:off x="493560" y="865080"/>
            <a:ext cx="8156880" cy="52308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Resultado de imagen para cauldron clipart png"/>
          <p:cNvPicPr/>
          <p:nvPr/>
        </p:nvPicPr>
        <p:blipFill>
          <a:blip r:embed="rId2"/>
          <a:stretch/>
        </p:blipFill>
        <p:spPr>
          <a:xfrm>
            <a:off x="2670120" y="3687840"/>
            <a:ext cx="1835280" cy="25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0" name="Объект 2" descr=""/>
          <p:cNvPicPr/>
          <p:nvPr/>
        </p:nvPicPr>
        <p:blipFill>
          <a:blip r:embed="rId1"/>
          <a:stretch/>
        </p:blipFill>
        <p:spPr>
          <a:xfrm>
            <a:off x="493560" y="1011240"/>
            <a:ext cx="8156880" cy="50846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Resultado de imagen para witch hat clipart png"/>
          <p:cNvPicPr/>
          <p:nvPr/>
        </p:nvPicPr>
        <p:blipFill>
          <a:blip r:embed="rId2"/>
          <a:stretch/>
        </p:blipFill>
        <p:spPr>
          <a:xfrm>
            <a:off x="5979960" y="2962440"/>
            <a:ext cx="2268720" cy="22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3" name="Объект 2" descr=""/>
          <p:cNvPicPr/>
          <p:nvPr/>
        </p:nvPicPr>
        <p:blipFill>
          <a:blip r:embed="rId1"/>
          <a:stretch/>
        </p:blipFill>
        <p:spPr>
          <a:xfrm>
            <a:off x="493560" y="1079640"/>
            <a:ext cx="7967880" cy="50162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Resultado de imagen para candies halloween clipart png"/>
          <p:cNvPicPr/>
          <p:nvPr/>
        </p:nvPicPr>
        <p:blipFill>
          <a:blip r:embed="rId2"/>
          <a:stretch/>
        </p:blipFill>
        <p:spPr>
          <a:xfrm>
            <a:off x="5834160" y="3035160"/>
            <a:ext cx="2266920" cy="22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4" descr="j0232601"/>
          <p:cNvPicPr/>
          <p:nvPr/>
        </p:nvPicPr>
        <p:blipFill>
          <a:blip r:embed="rId1"/>
          <a:stretch/>
        </p:blipFill>
        <p:spPr>
          <a:xfrm>
            <a:off x="250920" y="476280"/>
            <a:ext cx="2943000" cy="20732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j0232602"/>
          <p:cNvPicPr/>
          <p:nvPr/>
        </p:nvPicPr>
        <p:blipFill>
          <a:blip r:embed="rId2"/>
          <a:stretch/>
        </p:blipFill>
        <p:spPr>
          <a:xfrm>
            <a:off x="3203640" y="1730520"/>
            <a:ext cx="2663640" cy="22968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j0232603"/>
          <p:cNvPicPr/>
          <p:nvPr/>
        </p:nvPicPr>
        <p:blipFill>
          <a:blip r:embed="rId3"/>
          <a:stretch/>
        </p:blipFill>
        <p:spPr>
          <a:xfrm>
            <a:off x="6035760" y="3716280"/>
            <a:ext cx="2528640" cy="2665440"/>
          </a:xfrm>
          <a:prstGeom prst="rect">
            <a:avLst/>
          </a:prstGeom>
          <a:ln w="0">
            <a:noFill/>
          </a:ln>
        </p:spPr>
      </p:pic>
      <p:sp>
        <p:nvSpPr>
          <p:cNvPr id="398" name="WordArt 7"/>
          <p:cNvSpPr txBox="1"/>
          <p:nvPr/>
        </p:nvSpPr>
        <p:spPr>
          <a:xfrm>
            <a:off x="684360" y="4149720"/>
            <a:ext cx="4535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ack-o-Lantern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45440" cy="45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Dingle, dingle, dowsie,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cat’s in the well,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dog’s away to Berwick,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o buy a new bell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0" name="Picture 5" descr="j0285596"/>
          <p:cNvPicPr/>
          <p:nvPr/>
        </p:nvPicPr>
        <p:blipFill>
          <a:blip r:embed="rId1"/>
          <a:stretch/>
        </p:blipFill>
        <p:spPr>
          <a:xfrm>
            <a:off x="5003640" y="3057480"/>
            <a:ext cx="345600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4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4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4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4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Halloween dishes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2" name="Picture 2" descr="D:\Users\Даниил\Desktop\Новая папка (3)\26.jpeg"/>
          <p:cNvPicPr/>
          <p:nvPr/>
        </p:nvPicPr>
        <p:blipFill>
          <a:blip r:embed="rId1"/>
          <a:stretch/>
        </p:blipFill>
        <p:spPr>
          <a:xfrm>
            <a:off x="395280" y="1844640"/>
            <a:ext cx="4248000" cy="41148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D:\Users\Даниил\Desktop\Новая папка (3)\28.jpeg"/>
          <p:cNvPicPr/>
          <p:nvPr/>
        </p:nvPicPr>
        <p:blipFill>
          <a:blip r:embed="rId2"/>
          <a:stretch/>
        </p:blipFill>
        <p:spPr>
          <a:xfrm>
            <a:off x="5003640" y="2205000"/>
            <a:ext cx="38894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503856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 Black"/>
              </a:rPr>
              <a:t>Halloween -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time for games and fu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time for fortune-tell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time for making mischief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6" name="Picture 4" descr="j0232605"/>
          <p:cNvPicPr/>
          <p:nvPr/>
        </p:nvPicPr>
        <p:blipFill>
          <a:blip r:embed="rId1"/>
          <a:stretch/>
        </p:blipFill>
        <p:spPr>
          <a:xfrm>
            <a:off x="6732720" y="3933720"/>
            <a:ext cx="1833480" cy="25909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j0240213"/>
          <p:cNvPicPr/>
          <p:nvPr/>
        </p:nvPicPr>
        <p:blipFill>
          <a:blip r:embed="rId2"/>
          <a:stretch/>
        </p:blipFill>
        <p:spPr>
          <a:xfrm>
            <a:off x="755640" y="3789360"/>
            <a:ext cx="2314440" cy="23763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j0279294"/>
          <p:cNvPicPr/>
          <p:nvPr/>
        </p:nvPicPr>
        <p:blipFill>
          <a:blip r:embed="rId3"/>
          <a:stretch/>
        </p:blipFill>
        <p:spPr>
          <a:xfrm>
            <a:off x="3924360" y="4005360"/>
            <a:ext cx="218592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3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30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30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5" descr="D:\Users\Даниил\Desktop\Новая папка (3)\12.jpg"/>
          <p:cNvPicPr/>
          <p:nvPr/>
        </p:nvPicPr>
        <p:blipFill>
          <a:blip r:embed="rId1"/>
          <a:stretch/>
        </p:blipFill>
        <p:spPr>
          <a:xfrm>
            <a:off x="4932360" y="1143000"/>
            <a:ext cx="4211640" cy="5715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D:\Users\Даниил\Desktop\Новая папка (3)\11.jpg"/>
          <p:cNvPicPr/>
          <p:nvPr/>
        </p:nvPicPr>
        <p:blipFill>
          <a:blip r:embed="rId2"/>
          <a:stretch/>
        </p:blipFill>
        <p:spPr>
          <a:xfrm>
            <a:off x="0" y="1143000"/>
            <a:ext cx="4643280" cy="57150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8" descr="D:\Users\Даниил\Desktop\Новая папка (3)\15.jpg"/>
          <p:cNvPicPr/>
          <p:nvPr/>
        </p:nvPicPr>
        <p:blipFill>
          <a:blip r:embed="rId3"/>
          <a:stretch/>
        </p:blipFill>
        <p:spPr>
          <a:xfrm>
            <a:off x="2543040" y="581040"/>
            <a:ext cx="4057920" cy="56959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D:\Users\Даниил\Desktop\Новая папка (3)\10.jpg"/>
          <p:cNvPicPr/>
          <p:nvPr/>
        </p:nvPicPr>
        <p:blipFill>
          <a:blip r:embed="rId4"/>
          <a:stretch/>
        </p:blipFill>
        <p:spPr>
          <a:xfrm>
            <a:off x="3429000" y="0"/>
            <a:ext cx="5715000" cy="42210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0" descr="D:\Users\Даниил\Desktop\Новая папка (3)\18.jpg"/>
          <p:cNvPicPr/>
          <p:nvPr/>
        </p:nvPicPr>
        <p:blipFill>
          <a:blip r:embed="rId5"/>
          <a:stretch/>
        </p:blipFill>
        <p:spPr>
          <a:xfrm>
            <a:off x="324000" y="476280"/>
            <a:ext cx="4295520" cy="5238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D:\Users\Даниил\Desktop\Новая папка (3)\14.jpg"/>
          <p:cNvPicPr/>
          <p:nvPr/>
        </p:nvPicPr>
        <p:blipFill>
          <a:blip r:embed="rId6"/>
          <a:stretch/>
        </p:blipFill>
        <p:spPr>
          <a:xfrm>
            <a:off x="1714680" y="1300320"/>
            <a:ext cx="5715000" cy="42573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9" descr="D:\Users\Даниил\Desktop\Новая папка (3)\17.jpg"/>
          <p:cNvPicPr/>
          <p:nvPr/>
        </p:nvPicPr>
        <p:blipFill>
          <a:blip r:embed="rId7"/>
          <a:stretch/>
        </p:blipFill>
        <p:spPr>
          <a:xfrm>
            <a:off x="4067280" y="1413000"/>
            <a:ext cx="4419360" cy="52387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D:\Users\Даниил\Desktop\Новая папка (3)\13.jpg"/>
          <p:cNvPicPr/>
          <p:nvPr/>
        </p:nvPicPr>
        <p:blipFill>
          <a:blip r:embed="rId8"/>
          <a:stretch/>
        </p:blipFill>
        <p:spPr>
          <a:xfrm>
            <a:off x="2362320" y="571680"/>
            <a:ext cx="4419360" cy="57150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D:\Users\Даниил\Desktop\Новая папка (3)\9.jpg"/>
          <p:cNvPicPr/>
          <p:nvPr/>
        </p:nvPicPr>
        <p:blipFill>
          <a:blip r:embed="rId9"/>
          <a:stretch/>
        </p:blipFill>
        <p:spPr>
          <a:xfrm>
            <a:off x="324000" y="115920"/>
            <a:ext cx="5111640" cy="41148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1" descr="D:\Users\Даниил\Desktop\Новая папка (3)\22.jpg"/>
          <p:cNvPicPr/>
          <p:nvPr/>
        </p:nvPicPr>
        <p:blipFill>
          <a:blip r:embed="rId10"/>
          <a:stretch/>
        </p:blipFill>
        <p:spPr>
          <a:xfrm>
            <a:off x="1000080" y="928800"/>
            <a:ext cx="6769080" cy="54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71640" y="3212640"/>
            <a:ext cx="7773840" cy="305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rick or treat,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rick or treat,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Give me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omething good to eat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0" name="Picture 3" descr="j0285600"/>
          <p:cNvPicPr/>
          <p:nvPr/>
        </p:nvPicPr>
        <p:blipFill>
          <a:blip r:embed="rId1"/>
          <a:stretch/>
        </p:blipFill>
        <p:spPr>
          <a:xfrm>
            <a:off x="755640" y="549360"/>
            <a:ext cx="2376360" cy="2249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j0292256"/>
          <p:cNvPicPr/>
          <p:nvPr/>
        </p:nvPicPr>
        <p:blipFill>
          <a:blip r:embed="rId2"/>
          <a:stretch/>
        </p:blipFill>
        <p:spPr>
          <a:xfrm>
            <a:off x="6084720" y="3176640"/>
            <a:ext cx="2590920" cy="21272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j0285602"/>
          <p:cNvPicPr/>
          <p:nvPr/>
        </p:nvPicPr>
        <p:blipFill>
          <a:blip r:embed="rId3"/>
          <a:stretch/>
        </p:blipFill>
        <p:spPr>
          <a:xfrm>
            <a:off x="3995640" y="765000"/>
            <a:ext cx="2019240" cy="25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0" dur="2000" fill="hold"/>
                                        <p:tgtEl>
                                          <p:spTgt spid="4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345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346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5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95280" y="301320"/>
            <a:ext cx="84247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Good-bye, Halloween!!!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4" name="Picture 2" descr="D:\Users\Даниил\Desktop\Новая папка (3)\20.jpg"/>
          <p:cNvPicPr/>
          <p:nvPr/>
        </p:nvPicPr>
        <p:blipFill>
          <a:blip r:embed="rId1"/>
          <a:stretch/>
        </p:blipFill>
        <p:spPr>
          <a:xfrm>
            <a:off x="395280" y="1484280"/>
            <a:ext cx="842472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6920" y="249192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elcome, Halloween!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6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3744720" cy="35546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3552840" cy="444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Organization Chart 6"/>
          <p:cNvGrpSpPr/>
          <p:nvPr/>
        </p:nvGrpSpPr>
        <p:grpSpPr>
          <a:xfrm>
            <a:off x="611280" y="1125360"/>
            <a:ext cx="7703280" cy="4102560"/>
            <a:chOff x="611280" y="1125360"/>
            <a:chExt cx="7703280" cy="4102560"/>
          </a:xfrm>
        </p:grpSpPr>
        <p:cxnSp>
          <p:nvCxnSpPr>
            <p:cNvPr id="362" name="_s1028"/>
            <p:cNvCxnSpPr>
              <a:stCxn id="363" idx="0"/>
              <a:endCxn id="364" idx="2"/>
            </p:cNvCxnSpPr>
            <p:nvPr/>
          </p:nvCxnSpPr>
          <p:spPr>
            <a:xfrm flipV="1" rot="16200000">
              <a:off x="5088600" y="2138400"/>
              <a:ext cx="821160" cy="207504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cc00"/>
              </a:solidFill>
              <a:miter/>
            </a:ln>
          </p:spPr>
        </p:cxnSp>
        <p:cxnSp>
          <p:nvCxnSpPr>
            <p:cNvPr id="365" name="_s1029"/>
            <p:cNvCxnSpPr>
              <a:stCxn id="366" idx="0"/>
              <a:endCxn id="364" idx="2"/>
            </p:cNvCxnSpPr>
            <p:nvPr/>
          </p:nvCxnSpPr>
          <p:spPr>
            <a:xfrm flipH="1" flipV="1" rot="5400000">
              <a:off x="3015000" y="2139120"/>
              <a:ext cx="821160" cy="207396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cc00"/>
              </a:solidFill>
              <a:miter/>
            </a:ln>
          </p:spPr>
        </p:cxnSp>
        <p:sp>
          <p:nvSpPr>
            <p:cNvPr id="364" name="_s1030"/>
            <p:cNvSpPr/>
            <p:nvPr/>
          </p:nvSpPr>
          <p:spPr>
            <a:xfrm>
              <a:off x="2684520" y="1125360"/>
              <a:ext cx="3555360" cy="1640880"/>
            </a:xfrm>
            <a:prstGeom prst="roundRect">
              <a:avLst>
                <a:gd name="adj" fmla="val 16667"/>
              </a:avLst>
            </a:prstGeom>
            <a:solidFill>
              <a:srgbClr val="ff8b17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 Black"/>
                </a:rPr>
                <a:t>31 October</a:t>
              </a:r>
              <a:endParaRPr b="0" lang="en-US" sz="31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66" name="_s1031"/>
            <p:cNvSpPr/>
            <p:nvPr/>
          </p:nvSpPr>
          <p:spPr>
            <a:xfrm>
              <a:off x="611280" y="3587040"/>
              <a:ext cx="3555360" cy="1640880"/>
            </a:xfrm>
            <a:prstGeom prst="roundRect">
              <a:avLst>
                <a:gd name="adj" fmla="val 16667"/>
              </a:avLst>
            </a:prstGeom>
            <a:solidFill>
              <a:srgbClr val="ff8b17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 Black"/>
                </a:rPr>
                <a:t>All Saints’ Day</a:t>
              </a:r>
              <a:endParaRPr b="0" lang="en-US" sz="31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63" name="_s1032"/>
            <p:cNvSpPr/>
            <p:nvPr/>
          </p:nvSpPr>
          <p:spPr>
            <a:xfrm>
              <a:off x="4759200" y="3587040"/>
              <a:ext cx="3555360" cy="1640880"/>
            </a:xfrm>
            <a:prstGeom prst="roundRect">
              <a:avLst>
                <a:gd name="adj" fmla="val 16667"/>
              </a:avLst>
            </a:prstGeom>
            <a:solidFill>
              <a:srgbClr val="ff8b17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 Black"/>
                </a:rPr>
                <a:t>Halloween</a:t>
              </a:r>
              <a:endParaRPr b="0" lang="en-US" sz="31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4" descr="j0237799"/>
          <p:cNvPicPr/>
          <p:nvPr/>
        </p:nvPicPr>
        <p:blipFill>
          <a:blip r:embed="rId1"/>
          <a:stretch/>
        </p:blipFill>
        <p:spPr>
          <a:xfrm>
            <a:off x="4211640" y="2205000"/>
            <a:ext cx="1901880" cy="20415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j0285612"/>
          <p:cNvPicPr/>
          <p:nvPr/>
        </p:nvPicPr>
        <p:blipFill>
          <a:blip r:embed="rId2"/>
          <a:stretch/>
        </p:blipFill>
        <p:spPr>
          <a:xfrm>
            <a:off x="7093080" y="4292640"/>
            <a:ext cx="1698480" cy="23032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" descr="Изображение 039"/>
          <p:cNvPicPr/>
          <p:nvPr/>
        </p:nvPicPr>
        <p:blipFill>
          <a:blip r:embed="rId3"/>
          <a:stretch/>
        </p:blipFill>
        <p:spPr>
          <a:xfrm>
            <a:off x="611280" y="3789360"/>
            <a:ext cx="1730160" cy="27352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ТЫКВА"/>
          <p:cNvPicPr/>
          <p:nvPr/>
        </p:nvPicPr>
        <p:blipFill>
          <a:blip r:embed="rId4"/>
          <a:stretch/>
        </p:blipFill>
        <p:spPr>
          <a:xfrm>
            <a:off x="250920" y="1125360"/>
            <a:ext cx="2519280" cy="20368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Изображение 009"/>
          <p:cNvPicPr/>
          <p:nvPr/>
        </p:nvPicPr>
        <p:blipFill>
          <a:blip r:embed="rId5"/>
          <a:stretch/>
        </p:blipFill>
        <p:spPr>
          <a:xfrm>
            <a:off x="6372360" y="2060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1" descr="j0078763"/>
          <p:cNvPicPr/>
          <p:nvPr/>
        </p:nvPicPr>
        <p:blipFill>
          <a:blip r:embed="rId6"/>
          <a:stretch/>
        </p:blipFill>
        <p:spPr>
          <a:xfrm>
            <a:off x="3203640" y="3789360"/>
            <a:ext cx="3073320" cy="29113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2" descr="j0285616"/>
          <p:cNvPicPr/>
          <p:nvPr/>
        </p:nvPicPr>
        <p:blipFill>
          <a:blip r:embed="rId7"/>
          <a:stretch/>
        </p:blipFill>
        <p:spPr>
          <a:xfrm>
            <a:off x="3059280" y="0"/>
            <a:ext cx="2520720" cy="23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6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6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6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6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5" name="Объект 2" descr=""/>
          <p:cNvPicPr/>
          <p:nvPr/>
        </p:nvPicPr>
        <p:blipFill>
          <a:blip r:embed="rId1"/>
          <a:stretch/>
        </p:blipFill>
        <p:spPr>
          <a:xfrm>
            <a:off x="493560" y="749160"/>
            <a:ext cx="8156880" cy="53467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Resultado de imagen para black cat png"/>
          <p:cNvPicPr/>
          <p:nvPr/>
        </p:nvPicPr>
        <p:blipFill>
          <a:blip r:embed="rId2"/>
          <a:stretch/>
        </p:blipFill>
        <p:spPr>
          <a:xfrm>
            <a:off x="5840280" y="2975040"/>
            <a:ext cx="2035440" cy="264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8" name="Объект 2" descr=""/>
          <p:cNvPicPr/>
          <p:nvPr/>
        </p:nvPicPr>
        <p:blipFill>
          <a:blip r:embed="rId1"/>
          <a:stretch/>
        </p:blipFill>
        <p:spPr>
          <a:xfrm>
            <a:off x="493560" y="579600"/>
            <a:ext cx="8156880" cy="55162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Resultado de imagen para jack o lantern clipart png"/>
          <p:cNvPicPr/>
          <p:nvPr/>
        </p:nvPicPr>
        <p:blipFill>
          <a:blip r:embed="rId2"/>
          <a:stretch/>
        </p:blipFill>
        <p:spPr>
          <a:xfrm>
            <a:off x="5389560" y="3255840"/>
            <a:ext cx="2631960" cy="263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1" name="Объект 2" descr=""/>
          <p:cNvPicPr/>
          <p:nvPr/>
        </p:nvPicPr>
        <p:blipFill>
          <a:blip r:embed="rId1"/>
          <a:stretch/>
        </p:blipFill>
        <p:spPr>
          <a:xfrm>
            <a:off x="493560" y="719280"/>
            <a:ext cx="8156880" cy="53766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Resultado de imagen para spider clipart png"/>
          <p:cNvPicPr/>
          <p:nvPr/>
        </p:nvPicPr>
        <p:blipFill>
          <a:blip r:embed="rId2"/>
          <a:stretch/>
        </p:blipFill>
        <p:spPr>
          <a:xfrm>
            <a:off x="4827600" y="3468600"/>
            <a:ext cx="300528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4" name="Объект 2" descr=""/>
          <p:cNvPicPr/>
          <p:nvPr/>
        </p:nvPicPr>
        <p:blipFill>
          <a:blip r:embed="rId1"/>
          <a:stretch/>
        </p:blipFill>
        <p:spPr>
          <a:xfrm>
            <a:off x="493560" y="1011240"/>
            <a:ext cx="8156880" cy="50846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Imagen relacionada"/>
          <p:cNvPicPr/>
          <p:nvPr/>
        </p:nvPicPr>
        <p:blipFill>
          <a:blip r:embed="rId2"/>
          <a:stretch/>
        </p:blipFill>
        <p:spPr>
          <a:xfrm>
            <a:off x="1085760" y="2895480"/>
            <a:ext cx="1986120" cy="34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10:05:25Z</dcterms:created>
  <dc:creator>User</dc:creator>
  <dc:description/>
  <dc:language>en-US</dc:language>
  <cp:lastModifiedBy>Пользователь</cp:lastModifiedBy>
  <dcterms:modified xsi:type="dcterms:W3CDTF">2019-11-04T13:47:29Z</dcterms:modified>
  <cp:revision>35</cp:revision>
  <dc:subject/>
  <dc:title>Welcome, Halloween!</dc:title>
</cp:coreProperties>
</file>