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8259-A96F-4435-A6E4-C033D3C19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5018-137D-490A-8774-B4DA7D5F0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0354-6872-4508-8991-0B053ADB7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0EBD-037D-425E-AB45-6F652F927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88258-1239-4E31-B950-A8D485D84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74FC1-6EEB-4CA8-8432-AA2A53E32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52246-43E3-4824-904F-CD1C1B4FA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3F4DE-47B6-4C0D-A22D-775DB11F0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C9FC8-B8A7-4AE5-94A8-C2529E37C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F4ED9-C59D-43D9-A14D-6BB45580F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6F2BC-BAD9-4CB6-92E1-985F48681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54DD-0190-4FCE-B4F9-D9EF3F7DA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E9B86-7B75-4563-93C5-F2443976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A54B8-132E-4E70-9EA2-C3805B132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E20EA-9267-474C-B0A4-F7359C17C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F8F6F-4788-4C85-8E93-0181982A6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F6B51-1BCE-428C-ADF1-09F565DA4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31AD-8EB6-43B9-BF7E-AF82269A2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602E-79FC-41E9-87AF-5AB34C728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17FD-3A49-4DC3-BCBF-AA8B9A3D9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C7C5-F020-4F16-8628-30A982655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F643-27E2-4F25-82B2-E11A68FD1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E722-774A-47F2-A4FA-4293A5673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709A-0E57-4E5A-8456-CF05C7BC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8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AA8FE-9124-45A9-988A-6BC496841B4F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8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08818-D034-40B2-B5C7-E313271B6CB7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143000" y="2362320"/>
            <a:ext cx="7467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6920" y="1413000"/>
            <a:ext cx="77724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d3333"/>
                </a:solidFill>
                <a:latin typeface="Times New Roman"/>
              </a:rPr>
              <a:t>Особенености работы сельского учителя в малокомплектной, в малочисленной  школе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16000" y="4005360"/>
            <a:ext cx="763272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йбородова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юдмила Васильевна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.кафедрой педагогических технологий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рославского государственного педагогического университета им.К.Д.Ушинского,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тор педагогических наук, профессор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 научного центра РАО при ЯГПУ,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 межрегиональной  научной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боратор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едагогика сельской школы»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a2d2d"/>
                </a:solidFill>
                <a:latin typeface="Times New Roman"/>
              </a:rPr>
              <a:t>Проблемы в организации  работы </a:t>
            </a:r>
            <a:br>
              <a:rPr sz="3200"/>
            </a:br>
            <a:r>
              <a:rPr b="0" lang="ru-RU" sz="3200" spc="-1" strike="noStrike">
                <a:solidFill>
                  <a:srgbClr val="ba2d2d"/>
                </a:solidFill>
                <a:latin typeface="Times New Roman"/>
              </a:rPr>
              <a:t>в малочисленной школе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ти в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рганизации психолого-педагогической и социальной поддержки разных категорий детей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-за отсутствия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кционных учреждений на селе, психологов, социальных педагогов и других специалистов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енность, обедненность социальных контактов школьников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ий  уровень соревновательности, ограниченность внешних стимулов для развития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ти в выборе педагогических средств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енный доступ учащихся и педагогов к некоторым информационным источникам, сложность посещения культурных и образовательных центров региона и др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Что учесть учителю малочисленной </a:t>
            </a:r>
            <a:br>
              <a:rPr sz="2800"/>
            </a:b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школы  в работе как положительный ресурс</a:t>
            </a:r>
            <a:br>
              <a:rPr sz="2800"/>
            </a:b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990360" y="1828800"/>
            <a:ext cx="761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ные связи школы и социума, педагогов и семьи, всех участников образовательного процесса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тическое освоение обучающимися опыта практического сельскохозяйственного труда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средственная близость детей к живой природе, тесное взаимодействие с окружающим миром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развития интеграционных процессов: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 учебной и внеучебной деятельност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ополнительного образования детей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ияние на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спитан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тей общественного мнения селян,  местных традици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spcBef>
                <a:spcPts val="45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87280" y="47592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Положительные стороны малочисленности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индивидуализации образовательного процесса,  проектирования индивидуального образовательного маршрута, программы, плана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нсивность межличностных и деловых контактов между педагогами и учащимис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взаимопознания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каждому  ребенку проявить себя в общем деле, объединиться, договориться о единстве действий;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приятные условия для сотрудничества, организации совместной деятельности и общения, творчества педагогов и детей, старших и младших;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Положительные стороны малочисленности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ние личностных особенностей, бытовых условий жизни друг друга, отношений в семьях способствует установлению доброжелательных и доверительных отношений между взрослыми и детьми, формируется атмосфера многодетной семьи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ьность развития школьного и детского самоуправления; 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коллективной выработки решений, доступность каждому ребенку и родителю  принять участие в обсуждении школьных пробле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d3333"/>
                </a:solidFill>
                <a:latin typeface="Times New Roman"/>
              </a:rPr>
              <a:t>Задачи образовательной деятельности  сельских  педагогов  определяются с учетом особенностей детей  (сильных сторон, проблем воспитания  и дефицитов в социализированности школьников).</a:t>
            </a:r>
            <a:endParaRPr b="0" lang="en-US" sz="1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ы и трудности сельских детей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ий уровень организаторских и коммуникативных умений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веренность в своих силах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ная тревожность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адекватная самооценка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ормизм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ий уровень мотивации учения, самостоятельности в принятии решений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сти в общении с новыми людьми и затруднения при адаптации в новых условиях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ий уровень профессионального самоопределения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ападает» потребность в самовыражении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иженные требования к своему развитию и образованию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Особенности организации образовательной деятельности  учителя  малочисленн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00000" y="1557360"/>
            <a:ext cx="79200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разновозрастных групп для организации учебной и внеурочной деятельности детей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взаимодействия детей разного возраста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временное обучение детей по нескольким образовательным программам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амостоятельной деятельности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учающихся на занятиях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изация образовательного процесса, обеспечивающая субъектность детей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коммуникативных форм и технологий (групповой и парной работы)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ильность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инамика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высокий уровень импровизации при организации образовательного процесса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ий уровень интеграции средств учебной и внеурочной деятельности детей и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ого образования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и для коллективного принятия решений, развития   школьного самоуправления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ение  и обогащение социальных контактов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spcBef>
                <a:spcPts val="4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71640" y="476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Пути и средства повышения эффективности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деятельности учителя сельск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971640" y="1628640"/>
            <a:ext cx="77724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 algn="just">
              <a:lnSpc>
                <a:spcPct val="80000"/>
              </a:lnSpc>
              <a:spcBef>
                <a:spcPts val="1800"/>
              </a:spcBef>
              <a:buClr>
                <a:srgbClr val="402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Усиление социальной направленности деятельности детей в объединениях и коллективах (решение практических задач, связанных с жизнью села)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1800"/>
              </a:spcBef>
              <a:buClr>
                <a:srgbClr val="402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Разработка и реализация детьми и взрослыми социальных проектов, предусматривающих преобразование жизни на селе (очистка и восстановление водоемов,  поиск способов  повышения плодородия почв и т.п.)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1800"/>
              </a:spcBef>
              <a:buClr>
                <a:srgbClr val="402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Изучение и выявление ресурсов для развития дополнительного образования детей силами местного населения, специалистов местных хозяйств и производств, умельцев, жителей, носителей народных традиций, их привлечение к организации  постоянных и временных объединений, проведению праздников, созданию  творческих  коллективов детей, детей и взрослых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1800"/>
              </a:spcBef>
              <a:buClr>
                <a:srgbClr val="402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Развитие сотрудничества взрослых и детей при проведении праздников села, школы; создание совместных творческих, спортивных, художественных и других коллективов, объединяющих детей и родителей, жителей села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>
              <a:lnSpc>
                <a:spcPct val="80000"/>
              </a:lnSpc>
              <a:spcBef>
                <a:spcPts val="1800"/>
              </a:spcBef>
              <a:buClr>
                <a:srgbClr val="40200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Пути и средства повышения эффективности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деятельности учителя сельск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71640" y="184464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 algn="just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Развитие сотрудничества взрослых и детей при проведении праздников села, школы; создание совместных творческих, спортивных, художественных и других коллективов, объединяющих детей и родителей, жителей села.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Оптимальное использование  кадровых и материальных ресурсов села, всех его учреждений для организации ОП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Создание детско-взрослых сообществ для организации дополнительного образования и развития населения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Привлечение  кадровых и материальных ресурсов ближайших поселений, обмен  специалистами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Использование Интернет-ресурсов для  организации совместного  и оперативного решения проблем, удовлетворения  образовательных потребностей  детей и родителей 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16000" y="23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Times New Roman"/>
              </a:rPr>
              <a:t>Спасибо за внимание !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8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71640" y="141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33"/>
                </a:solidFill>
                <a:latin typeface="Times New Roman"/>
              </a:rPr>
              <a:t>Сельский учитель – лидер  села, энтузиаст, патриот школы, села, предан своему делу, заботлив и трудолюбив, скромен и бескорыстен, воспринимает   учеников как своих собственных детей.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619280" y="3573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51a00"/>
                </a:solidFill>
                <a:latin typeface="Times New Roman"/>
              </a:rPr>
              <a:t>В селе ты не просто порядочный житель,</a:t>
            </a:r>
            <a:br>
              <a:rPr sz="2400"/>
            </a:br>
            <a:r>
              <a:rPr b="0" lang="ru-RU" sz="2400" spc="-1" strike="noStrike">
                <a:solidFill>
                  <a:srgbClr val="351a00"/>
                </a:solidFill>
                <a:latin typeface="Times New Roman"/>
              </a:rPr>
              <a:t>У всех на виду,  твоё имя – Учитель!</a:t>
            </a:r>
            <a:br>
              <a:rPr sz="2400"/>
            </a:br>
            <a:r>
              <a:rPr b="0" lang="ru-RU" sz="2400" spc="-1" strike="noStrike">
                <a:solidFill>
                  <a:srgbClr val="351a00"/>
                </a:solidFill>
                <a:latin typeface="Times New Roman"/>
              </a:rPr>
              <a:t>И спрос с тебя строгий, и честь высока,</a:t>
            </a:r>
            <a:br>
              <a:rPr sz="2400"/>
            </a:br>
            <a:r>
              <a:rPr b="0" lang="ru-RU" sz="2400" spc="-1" strike="noStrike">
                <a:solidFill>
                  <a:srgbClr val="351a00"/>
                </a:solidFill>
                <a:latin typeface="Times New Roman"/>
              </a:rPr>
              <a:t>И ноша твоя на миру нелегка.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51a00"/>
                </a:solidFill>
                <a:latin typeface="Times New Roman"/>
              </a:rPr>
              <a:t>    </a:t>
            </a:r>
            <a:r>
              <a:rPr b="0" i="1" lang="ru-RU" sz="1600" spc="-1" strike="noStrike">
                <a:solidFill>
                  <a:srgbClr val="351a00"/>
                </a:solidFill>
                <a:latin typeface="Times New Roman"/>
              </a:rPr>
              <a:t>(Г.В.Попова, выпускница  сельской школы)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Факторы, влияющие на особенности работы учителя сельской малочисленн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71280" y="1628640"/>
            <a:ext cx="74120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Социально-экономические</a:t>
            </a:r>
            <a:r>
              <a:rPr b="0" lang="ru-RU" sz="2000" spc="-1" strike="noStrike">
                <a:solidFill>
                  <a:srgbClr val="9933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удаленность школы от районных и культурных центров;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автономность, замкнутость сельских поселений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связи школы и  сельского социума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-духовные и культурные традиции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экологическая  и природная среда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наличие организаций  дополнительного образования детей;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 наличие специалистов (психологов, социальных педагогов и др.)  и педагогов ДОД;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 материальная база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Факторы, определяющие особенности работы учителя сельской малочисленн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755640" y="162864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Социально-психологические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трудности социализации сельских детей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постоянный контроль за деятельностью и поведением учителя;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buClr>
                <a:srgbClr val="ce996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устойчивое, более интенсивное, чем в городе,  взаимодействие детского и взрослого поселения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buClr>
                <a:srgbClr val="ce996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- психологическая атмосфера в школьном и педагогическом коллективах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Психолого-педагогические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более тесные повседневные взаимосвязи учителя с  детьми, родителями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всесторонняя информированность о семьях и детях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влияние сложившихся стереотипов  на оценку поведения и достижений детей</a:t>
            </a: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Факторы, определяющие особенности работы учителя сельской малочисленн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75564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Организационно-педагогические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выполнение  дополнительных  функций, кроме  педагогических (участие в решении проблем села,  защита ребенка и семьи,  просветительская работа среди населения, организация  культурных мероприятий на селе)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ce996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ведение нескольких дисциплин,  реализация программ</a:t>
            </a: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дополнительного образования,  ответственность за  работу на нескольких направлениях воспитательной работы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ce996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- стиль управления и отношения в педагогическом коллективе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- ограниченность  профессионального общения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Факторы, определяющие особенности работы учителя сельской малочисленн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Педагогические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- организация образовательного процесса в малочисленных классах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объединение  нескольких классов для проведения учебных занятий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организация  воспитательной работы, дополнительного образования в разновозрастных группах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ce9964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необходимость интеграции средств учебной, внеучебной деятельности  и дополнительного образования детей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ce9964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- возможности  использования методов и форм образовательной  деятельности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ce9964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- подготовленность обучающихся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использование ресурсов социума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Особенности социально-педагогических задач 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сельского учителя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90360" y="1828800"/>
            <a:ext cx="761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1. Развитие экономики села: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609480" indent="-609480" algn="just">
              <a:spcBef>
                <a:spcPts val="2001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воспитание труженика села через включение в различные объединения гражданского, экологического, краеведческого и  трудового направления;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609480" indent="-609480" algn="just">
              <a:spcBef>
                <a:spcPts val="2001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использование ресурсов  образовательного процесса для подготовки к жизни на селе,  приобретения опыта ведения сельского хозяйства;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609480" indent="-609480" algn="just">
              <a:spcBef>
                <a:spcPts val="2001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профориентационная работа, предпрофильная подготовка с привлечением авторитетных, состоявшихся, успешных жителей села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Особенности социально-педагогических задач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и содержания деятельности сельского учителя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42560" y="1628640"/>
            <a:ext cx="7489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2. Развитие духовно-нравственной сферы села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сохранение, восстановление народных традиций через создание творческих и поисковых коллективов детей и взрослых, проведение праздников, использование местных обрядов;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духовно-нравственное оздоровление жителей села, привлечение их к досуговой деятельности через включение в детские творческие коллективы. </a:t>
            </a:r>
            <a:r>
              <a:rPr b="1" lang="ru-RU" sz="1800" spc="-1" strike="noStrike">
                <a:solidFill>
                  <a:srgbClr val="9933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3. Укрепление и восстановление здоровья сельского населения: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организация системы оздоровительной работы  на селе специалистами школы и УДО, охватывающей всех жителей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создание семейных спортивных объединений, кружков, секций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Особенности социально-педагогических задач и содержания деятельности сельского учителя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990720" y="1828800"/>
            <a:ext cx="754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4. Развитие образованности населения  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через  взаимодействие со школьниками и приобщение  жителей к организации образовательной и воспитательной деятельности, дополнительного образования детей (ведение кружков, секций, подготовка и проведение отдельных занятий и мероприятий с детьми).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5. Сохранение экологии села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 через создания школьных лесничеств, экологических отрядов, отрядов юннатов, организацию природоохранной деятельности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3T08:44:37Z</dcterms:created>
  <dc:creator>Гречин</dc:creator>
  <dc:description/>
  <dc:language>en-US</dc:language>
  <cp:lastModifiedBy>Dell</cp:lastModifiedBy>
  <dcterms:modified xsi:type="dcterms:W3CDTF">2021-12-08T14:36:53Z</dcterms:modified>
  <cp:revision>47</cp:revision>
  <dc:subject/>
  <dc:title>Заголовок слайда отсутствует</dc:title>
</cp:coreProperties>
</file>