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7.png" ContentType="image/png"/>
  <Override PartName="/ppt/media/image32.png" ContentType="image/png"/>
  <Override PartName="/ppt/media/image9.png" ContentType="image/png"/>
  <Override PartName="/ppt/media/image22.jpeg" ContentType="image/jpeg"/>
  <Override PartName="/ppt/media/image14.jpeg" ContentType="image/jpeg"/>
  <Override PartName="/ppt/media/image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1.jpeg" ContentType="image/jpeg"/>
  <Override PartName="/ppt/media/image35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11.jpeg" ContentType="image/jpeg"/>
  <Override PartName="/ppt/media/image31.jpeg" ContentType="image/jpeg"/>
  <Override PartName="/ppt/media/image4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F155-1329-4255-8DDF-6C86002A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788B-74A4-49B4-AFF8-F3F36FCB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045A-0C21-4078-AE04-0CCDB93A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B552-4691-429F-B081-2E675806C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30E9-CA7D-4BE1-85C9-64E6E72E7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99B7C-075F-48B2-A30F-0B0B7291A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D12DF-CAE5-4EE7-ADE3-227597EC2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3339-3266-4488-A26D-0295D4BC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DCA7-CB48-438B-9913-0D6D5C14D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4B6D8-B830-426F-B16B-0DC0EED9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FB0B-B302-407B-BA3F-639C6F50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7F29-BC7A-49A5-99C6-59F72F99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47BD-344A-4868-ADD2-19685FFF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23D2B-9501-482F-B79C-EC48D66B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31F72-C86E-4449-9695-C618C8FD1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97DEF-3A9B-4DFD-8852-CAC68A8FC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F80B-963E-464A-9606-844C5FF2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C75-5A18-4801-9BB1-299A1DC8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89F6-F1A8-4DB0-B59D-F773EEAB0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176E-29E4-4D2D-BDB1-FDC7A1BA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1135-AF17-4F21-AFAE-E9B7CA6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5002-398F-4E33-91AC-11FC6361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D68-23BD-4FD6-8723-7D0776A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873-91B7-4094-86DA-4FF51622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Рисунок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B283-C3BC-468F-8505-8B93C7576C3F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EDD4-0C3F-4A62-B292-C76C8266BC6A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1"/>
          <a:stretch/>
        </p:blipFill>
        <p:spPr>
          <a:xfrm>
            <a:off x="1262160" y="1725480"/>
            <a:ext cx="755784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« Коллективно Творческое Дело» (КТД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ующее направление – совместная внеурочная деятельность (КТД по Иванову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34600"/>
            <a:ext cx="321444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ое планирован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ая подготов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ведение де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ллективный анализ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4211640" y="1773360"/>
            <a:ext cx="288144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Calibri"/>
              </a:rPr>
              <a:t>Коллективные де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1628280"/>
            <a:ext cx="6400800" cy="40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1484280"/>
            <a:ext cx="2879640" cy="2160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3059280" y="1519200"/>
            <a:ext cx="2566800" cy="2851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9" descr=""/>
          <p:cNvPicPr/>
          <p:nvPr/>
        </p:nvPicPr>
        <p:blipFill>
          <a:blip r:embed="rId3"/>
          <a:stretch/>
        </p:blipFill>
        <p:spPr>
          <a:xfrm>
            <a:off x="250920" y="386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0" descr=""/>
          <p:cNvPicPr/>
          <p:nvPr/>
        </p:nvPicPr>
        <p:blipFill>
          <a:blip r:embed="rId4"/>
          <a:stretch/>
        </p:blipFill>
        <p:spPr>
          <a:xfrm>
            <a:off x="5076720" y="4265640"/>
            <a:ext cx="3399120" cy="2549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1" descr=""/>
          <p:cNvPicPr/>
          <p:nvPr/>
        </p:nvPicPr>
        <p:blipFill>
          <a:blip r:embed="rId5"/>
          <a:stretch/>
        </p:blipFill>
        <p:spPr>
          <a:xfrm>
            <a:off x="5807160" y="1454040"/>
            <a:ext cx="330192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7375e"/>
                </a:solidFill>
                <a:latin typeface="Calibri"/>
              </a:rPr>
              <a:t>Наши достиж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755640" y="2276280"/>
            <a:ext cx="77040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Фото сертификатов и грамо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одительские чт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187280" y="2637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549360"/>
            <a:ext cx="1612800" cy="15811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187200" y="2852640"/>
            <a:ext cx="2562480" cy="3657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3"/>
          <a:stretch/>
        </p:blipFill>
        <p:spPr>
          <a:xfrm>
            <a:off x="5533920" y="1773360"/>
            <a:ext cx="3286080" cy="2592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4"/>
          <a:stretch/>
        </p:blipFill>
        <p:spPr>
          <a:xfrm>
            <a:off x="2749680" y="4365720"/>
            <a:ext cx="3190680" cy="214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4360" y="115560"/>
            <a:ext cx="7772400" cy="25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Times New Roman"/>
                <a:ea typeface="Calibri"/>
              </a:rPr>
              <a:t>Следующее направление – совместная проектная деятельность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755280" y="1988640"/>
            <a:ext cx="70167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Почему я решила взять – это направлени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первых, мне самой эта деятельность очень нрави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о-вторых, это ещё один из действенных путей к сотрудничеств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46c0a"/>
                </a:solidFill>
                <a:latin typeface="Times New Roman"/>
                <a:ea typeface="Calibri"/>
              </a:rPr>
              <a:t>В-третьих, это одна из возможностей научиться понимать мир детства и собственного ребёнка</a:t>
            </a: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333360"/>
            <a:ext cx="168912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аши проек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4920" y="1699920"/>
            <a:ext cx="7993080" cy="42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2411280" y="1413000"/>
            <a:ext cx="3097440" cy="174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5508720" y="1413000"/>
            <a:ext cx="3511440" cy="174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160200" y="777960"/>
            <a:ext cx="2251080" cy="3011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5724360" y="3429000"/>
            <a:ext cx="3405240" cy="2554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"/>
          <p:cNvPicPr/>
          <p:nvPr/>
        </p:nvPicPr>
        <p:blipFill>
          <a:blip r:embed="rId5"/>
          <a:stretch/>
        </p:blipFill>
        <p:spPr>
          <a:xfrm>
            <a:off x="2657520" y="2997360"/>
            <a:ext cx="2860560" cy="2144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6"/>
          <a:stretch/>
        </p:blipFill>
        <p:spPr>
          <a:xfrm>
            <a:off x="-108000" y="3693960"/>
            <a:ext cx="3268800" cy="24512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0" descr=""/>
          <p:cNvPicPr/>
          <p:nvPr/>
        </p:nvPicPr>
        <p:blipFill>
          <a:blip r:embed="rId7"/>
          <a:stretch/>
        </p:blipFill>
        <p:spPr>
          <a:xfrm>
            <a:off x="2987640" y="5229360"/>
            <a:ext cx="3170160" cy="21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1739880" y="1085760"/>
            <a:ext cx="5689800" cy="4143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3"/>
          <p:cNvSpPr/>
          <p:nvPr/>
        </p:nvSpPr>
        <p:spPr>
          <a:xfrm>
            <a:off x="4288680" y="74880"/>
            <a:ext cx="5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2"/>
          <p:cNvSpPr/>
          <p:nvPr/>
        </p:nvSpPr>
        <p:spPr>
          <a:xfrm>
            <a:off x="3936960" y="3706920"/>
            <a:ext cx="1295280" cy="7048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Классный 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5"/>
          <p:cNvSpPr/>
          <p:nvPr/>
        </p:nvSpPr>
        <p:spPr>
          <a:xfrm>
            <a:off x="4219560" y="303840"/>
            <a:ext cx="7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Calibri"/>
                <a:ea typeface="Calibri"/>
              </a:rPr>
              <a:t>руководитель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7"/>
          <p:cNvSpPr/>
          <p:nvPr/>
        </p:nvSpPr>
        <p:spPr>
          <a:xfrm>
            <a:off x="684000" y="1949400"/>
            <a:ext cx="26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являют инициатив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8"/>
          <p:cNvSpPr/>
          <p:nvPr/>
        </p:nvSpPr>
        <p:spPr>
          <a:xfrm>
            <a:off x="3556800" y="71604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9"/>
          <p:cNvSpPr/>
          <p:nvPr/>
        </p:nvSpPr>
        <p:spPr>
          <a:xfrm>
            <a:off x="5947560" y="176364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ктив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10"/>
          <p:cNvSpPr/>
          <p:nvPr/>
        </p:nvSpPr>
        <p:spPr>
          <a:xfrm>
            <a:off x="6943680" y="3319560"/>
            <a:ext cx="12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1"/>
          <p:cNvSpPr/>
          <p:nvPr/>
        </p:nvSpPr>
        <p:spPr>
          <a:xfrm>
            <a:off x="693000" y="422604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интересов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оугольник 12"/>
          <p:cNvSpPr/>
          <p:nvPr/>
        </p:nvSpPr>
        <p:spPr>
          <a:xfrm>
            <a:off x="3714480" y="5045040"/>
            <a:ext cx="187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ознатель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2"/>
          <a:stretch/>
        </p:blipFill>
        <p:spPr>
          <a:xfrm>
            <a:off x="2805120" y="5730840"/>
            <a:ext cx="6121440" cy="933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3"/>
          <a:stretch/>
        </p:blipFill>
        <p:spPr>
          <a:xfrm>
            <a:off x="6735600" y="3170160"/>
            <a:ext cx="4816800" cy="95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4"/>
          <a:stretch/>
        </p:blipFill>
        <p:spPr>
          <a:xfrm>
            <a:off x="5865840" y="836640"/>
            <a:ext cx="44625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0000"/>
                </a:solidFill>
                <a:latin typeface="Times New Roman"/>
                <a:ea typeface="Calibri"/>
              </a:rPr>
              <a:t>Рецепт счастья:</a:t>
            </a:r>
            <a:br>
              <a:rPr sz="36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0560" y="1600200"/>
            <a:ext cx="52578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i="1" lang="ru-RU" sz="2800" spc="-1" strike="noStrike">
                <a:solidFill>
                  <a:srgbClr val="ff0000"/>
                </a:solidFill>
                <a:latin typeface="Calibri"/>
              </a:rPr>
              <a:t>«Возьмите чашу терпения, влейте в нее полное сердце любви, добавьте две горсти щедрости, посыпьте добротой, плесните немного юмора и добавьте как можно больше веры. Все это хорошо перемешайте. Намажьте на кусок отпущенной вам жизни и предложите каждому, кого встретите на своем пути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Объект 4" descr="http://content.foto.mail.ru/mail/sinkevich58/_blogs/i-3209.jpg"/>
          <p:cNvPicPr/>
          <p:nvPr/>
        </p:nvPicPr>
        <p:blipFill>
          <a:blip r:embed="rId1"/>
          <a:stretch/>
        </p:blipFill>
        <p:spPr>
          <a:xfrm>
            <a:off x="5435640" y="2060640"/>
            <a:ext cx="3600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808200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форизм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5000"/>
              </a:lnSpc>
              <a:spcBef>
                <a:spcPts val="1349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амое сложное в работе с детьми – это работа с их родителями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b050"/>
                </a:solidFill>
                <a:latin typeface="Calibri"/>
              </a:rPr>
              <a:t>ЭТО МОИ ДЕ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55640" y="2133720"/>
            <a:ext cx="77040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522360" y="2133720"/>
            <a:ext cx="46260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547640" y="144360"/>
            <a:ext cx="5796000" cy="60534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3022560" y="5729400"/>
            <a:ext cx="6121440" cy="9363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3"/>
          <a:stretch/>
        </p:blipFill>
        <p:spPr>
          <a:xfrm>
            <a:off x="7093080" y="2781360"/>
            <a:ext cx="4816440" cy="954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4"/>
          <a:stretch/>
        </p:blipFill>
        <p:spPr>
          <a:xfrm>
            <a:off x="6080040" y="692280"/>
            <a:ext cx="445788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ИСТЕМА ВЗАИМОДЕЙСТВИЯ С РОДИТЕЛЯ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1557000"/>
            <a:ext cx="6400800" cy="408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97" name="Рисунок 3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343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425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Родительский комитет - это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186920" y="2276640"/>
            <a:ext cx="7272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режде всего неравнодушные и ответственные люди, которые помогают классному руководителю сплотить класс и организовать внеклассную деятельность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0" y="260280"/>
            <a:ext cx="18795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3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b050"/>
                </a:solidFill>
                <a:latin typeface="Calibri"/>
              </a:rPr>
              <a:t>Следующее направление – просвеще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94920" y="1773000"/>
            <a:ext cx="7993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901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50"/>
                </a:solidFill>
                <a:latin typeface="Times New Roman"/>
                <a:ea typeface="Calibri"/>
              </a:rPr>
              <a:t>В этом направлении использую индивидуальные консультации, родительские собрания, на которых пусть небольшое количество времени, но рассматриваю вопросы психологии, педагогики, интерактивное общение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79280" y="74520"/>
            <a:ext cx="208908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Будь в безопасност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826920" y="2133720"/>
            <a:ext cx="780912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листов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     </a:t>
            </a:r>
            <a:r>
              <a:rPr b="1" lang="ru-RU" sz="4400" spc="-1" strike="noStrike">
                <a:solidFill>
                  <a:srgbClr val="558ed5"/>
                </a:solidFill>
                <a:latin typeface="Times New Roman"/>
                <a:ea typeface="Calibri"/>
              </a:rPr>
              <a:t>Следующее направление – нестандартные родительские собра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899640" y="2060280"/>
            <a:ext cx="748836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b0f0"/>
                </a:solidFill>
                <a:latin typeface="Calibri"/>
              </a:rPr>
              <a:t>Вебинары, круглые столы, тренинги, деловые игры, решение жизненных ситуаций, где родители играют роль своих детей и стараются решить проблему с позиции своего ребёнк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232680" y="4917960"/>
            <a:ext cx="291132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15:48Z</dcterms:created>
  <dc:creator>Павел</dc:creator>
  <dc:description/>
  <dc:language>en-US</dc:language>
  <cp:lastModifiedBy>Пользователь Windows</cp:lastModifiedBy>
  <dcterms:modified xsi:type="dcterms:W3CDTF">2021-03-10T16:52:21Z</dcterms:modified>
  <cp:revision>49</cp:revision>
  <dc:subject/>
  <dc:title>Название  презентации</dc:title>
</cp:coreProperties>
</file>