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81F-0B77-450C-B3D4-212E96B2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612D-6BD0-4142-ADA5-D76138DF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7ACC-EF2A-4151-AD2B-AECFBACD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6EFA-7761-4008-A926-A74AC70A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C199-B5CB-46C3-BF6A-6B7DD4DD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60F9-D278-42CA-8F8B-AA8B1681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FF45-B8F7-495D-BAFE-A610D77F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EEE8-29C5-4E3A-AAFC-48BBB0BD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8AF9-EC4F-428E-B5B5-05F09D3F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E362-4F91-4AD2-91EA-AC1A42E1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4B60-D119-4E3D-90B6-D56E861C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91B2-6219-4C64-AFD9-340ACE6B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AF36-67FC-434D-976B-9A6AED78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7E6D-5184-4717-BCCC-6EA91475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E0D4-13EB-46E5-9766-1718E0B8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504D-6DBD-4CC2-BCAF-1BAAD12A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71B7-8DE7-48DE-96D5-3CB5D019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918F-F6FE-4D3F-BD81-1B104219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357C-3CFF-415C-B491-D091CC4D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918-2BE9-4D4D-93A2-6B306292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2E3E-E432-46CF-9296-D5006249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E9A-6F24-48F0-BA50-335BFFB3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F2A-E602-4232-9E9C-AFBEE1F3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56F-F153-484F-A2D7-369B867F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BB40-7E96-4FAB-B239-29DB4610B6A9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B36C-5216-4579-8AD9-4CCB4DA4CAE6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262160" y="1725480"/>
            <a:ext cx="75578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Коллективно Творческое Дело» (КТ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ющее направление – совместная внеурочная деятельность (КТД по Иванов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321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ое план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ая подготов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ый анали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288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Коллективные 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3059280" y="1519200"/>
            <a:ext cx="2566800" cy="2851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4"/>
          <a:stretch/>
        </p:blipFill>
        <p:spPr>
          <a:xfrm>
            <a:off x="5076720" y="4265640"/>
            <a:ext cx="3399120" cy="254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5807160" y="1454040"/>
            <a:ext cx="3301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Наши дост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Фото сертификатов и грам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ьские ч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7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1612800" cy="158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87200" y="2852640"/>
            <a:ext cx="256248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533920" y="1773360"/>
            <a:ext cx="328608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2749680" y="4365720"/>
            <a:ext cx="319068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Calibri"/>
              </a:rPr>
              <a:t>Следующее направление – совместная проектная деятельност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701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Почему я решила взять – это направл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первых, мне самой эта деятельность очень нрав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вторых, это ещё один из действенных путей к сотрудничест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-третьих, это одна из возможностей научиться понимать мир детства и собственного ребёнка</a:t>
            </a: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1689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про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4920" y="1699920"/>
            <a:ext cx="79930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097440" cy="1741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511440" cy="174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60200" y="777960"/>
            <a:ext cx="2251080" cy="3011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3405240" cy="2554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2657520" y="2997360"/>
            <a:ext cx="2860560" cy="2144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6"/>
          <a:stretch/>
        </p:blipFill>
        <p:spPr>
          <a:xfrm>
            <a:off x="-108000" y="3693960"/>
            <a:ext cx="3268800" cy="245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2987640" y="5229360"/>
            <a:ext cx="31701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39880" y="1085760"/>
            <a:ext cx="5689800" cy="4143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4288680" y="74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"/>
          <p:cNvSpPr/>
          <p:nvPr/>
        </p:nvSpPr>
        <p:spPr>
          <a:xfrm>
            <a:off x="3936960" y="3706920"/>
            <a:ext cx="1295280" cy="70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219560" y="30384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684000" y="19494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ют инициати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3556800" y="71604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5947560" y="176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6943680" y="33195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693000" y="42260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интерес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3714480" y="50450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знате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2805120" y="5730840"/>
            <a:ext cx="612144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6735600" y="3170160"/>
            <a:ext cx="4816800" cy="95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5865840" y="836640"/>
            <a:ext cx="44625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цепт счастья: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560" y="1600200"/>
            <a:ext cx="5257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«Возьмите чашу терпения, влейте в нее полное сердце любви, добавьте две горсти щедрости, посыпьте добротой, плесните немного юмора и добавьте как можно больше веры. Все это хорошо перемешайте. Намажьте на кусок отпущенной вам жизни и предложите каждому, кого встретите на своем пут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Объект 4" descr="http://content.foto.mail.ru/mail/sinkevich58/_blogs/i-3209.jpg"/>
          <p:cNvPicPr/>
          <p:nvPr/>
        </p:nvPicPr>
        <p:blipFill>
          <a:blip r:embed="rId1"/>
          <a:stretch/>
        </p:blipFill>
        <p:spPr>
          <a:xfrm>
            <a:off x="5435640" y="2060640"/>
            <a:ext cx="360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082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ор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 сложное в работе с детьми – это работа с их родителям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ЭТО МОИ Д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64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22360" y="2133720"/>
            <a:ext cx="4626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022560" y="5729400"/>
            <a:ext cx="6121440" cy="93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4816440" cy="95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80040" y="692280"/>
            <a:ext cx="44578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ЕМА ВЗАИМОДЕЙСТВИЯ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2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дительский комитет - эт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2276640"/>
            <a:ext cx="7272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ежде всего неравнодушные и ответственные люди, которые помогают классному руководителю сплотить класс и организовать внеклассную деятель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1879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3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ледующее направление – просве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7993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В этом направлении использую индивидуальные консультации, родительские собрания, на которых пусть небольшое количество времени, но рассматриваю вопросы психологии, педагогики, интерактивное общ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9280" y="74520"/>
            <a:ext cx="2089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дь в безопасност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26920" y="2133720"/>
            <a:ext cx="78091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ист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     </a:t>
            </a: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Следующее направление – нестандартные родительские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Вебинары, круглые столы, тренинги, деловые игры, решение жизненных ситуаций, где родители играют роль своих детей и стараются решить проблему с позиции своего ребён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232680" y="4917960"/>
            <a:ext cx="29113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15:48Z</dcterms:created>
  <dc:creator>Павел</dc:creator>
  <dc:description/>
  <dc:language>en-US</dc:language>
  <cp:lastModifiedBy>Пользователь Windows</cp:lastModifiedBy>
  <dcterms:modified xsi:type="dcterms:W3CDTF">2021-03-10T16:52:21Z</dcterms:modified>
  <cp:revision>49</cp:revision>
  <dc:subject/>
  <dc:title>Название  презентации</dc:title>
</cp:coreProperties>
</file>