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4FE7-CA19-436C-A14E-F25A8C628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3B49-685D-4DD0-8328-494DBD27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7DBC-F4DF-4F6F-88F7-012281FBD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C6F9-594B-41B9-BA37-BCE940DDC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0358-8203-4693-B397-D5C7D1A99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5BCC-5EC0-429E-84BE-CCEBCEE2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0A80-7E64-4FD8-A2BE-D086173E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96B6-2194-47FA-9AC0-2BE5F27C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FAE0-DA8F-487B-B571-F9ECDE54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FC8D-F2D3-411E-B7EA-3B58D4F6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9C2D-5A5D-4A16-A9D2-EFDAD850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B50B-82A2-4D60-BFD2-A048D174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793B-E798-4E93-9EAC-F36611A0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E88C-11D3-41A5-BEF2-BE305B65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47EE-7987-49EA-B850-B71A5EDF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E27F-F9D5-44AB-BF19-CF29B69F2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98BB-6B79-482C-B31B-C9EFC9FD9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99BB-D80B-4D99-96CC-1834D2C6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E948-D7D8-4C73-8F42-17C59CA1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C081-22DC-4CBE-A932-30E6F687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1F12-55AF-4274-8110-128BDB9F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765E-3D65-4642-A367-735936F1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27B0-1469-49FC-8EA3-C7BA52F2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28AC-974C-45C4-A2B5-3BAF109D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0D2F-31A9-4D49-8B3E-8DF177A384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8B27-B210-471D-A80A-14C2CDCEE8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10920" y="404280"/>
            <a:ext cx="604692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7391520" cy="430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74167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зеленение горо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Это может сделать каждый! Сделаем наш город чистым, красивым и уютным!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195640" y="3068640"/>
            <a:ext cx="47196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Только 8 предприятий города готовы соблюдать требования экологического законодательства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Из 68 предприятий города только 8 заключили договора на функционирование санитарно-защитной зоны (СЗЗ)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47280" y="1700280"/>
            <a:ext cx="475164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 городе три главных источника выброса ядовитых веществ в атмосферу: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7920" indent="3780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ыбросы КЦБК "Кама"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7920" indent="3780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ыхлопные газы транспорта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7920" indent="3780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Полигон бытовых отходов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9" name="" descr="КЦБК.jpg, 21179 bytes"/>
          <p:cNvPicPr/>
          <p:nvPr/>
        </p:nvPicPr>
        <p:blipFill>
          <a:blip r:embed="rId1"/>
          <a:stretch/>
        </p:blipFill>
        <p:spPr>
          <a:xfrm>
            <a:off x="6156360" y="1628640"/>
            <a:ext cx="27684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и здоров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00120" y="1777680"/>
            <a:ext cx="7491600" cy="446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В течение нескольких лет более 400 краснокамских детей были обследованы сотрудниками института экология и выявили рост содержащихся в их организме: свинца, хрома, фенола и бензола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В 2000 году фенол влияющий на систему крови, печени и почек, обнаруживался у 25 % обследованных детей, то в 2003 году - уже у 87 %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и здоров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При попадании в организм: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сернистого ангидрида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 - развиваются такие заболевания, как бронхиальная астма, нефрит, хронический отит, ДЦП, сахарный диабет, аномалии системы кровообращения;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фенола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 - бронхиальная астма, стенокардия, сахарный диабет, гипертония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и здоров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Город занимает 18 место по уровню смертности в области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По уровню смертности от новообразований. Краснокамск занимает седьмое место: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53 % - болезни системы кровообращения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4 % - органы пищеварения,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6 % - органы дыхания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По уровню общей заболеваемости на 21 месте, а детей на 7 месте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едприятия город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52400" y="1279080"/>
            <a:ext cx="7491240" cy="431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КЦБК «Кама",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"ТЭЦ-5",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"Свинокомплекс" - 71 % вредных выбросов в воздух и 83 % всех загрязнений окружающей среды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100 тысяч тонн так называемых нефтеочистк находится на небольшой глубине под слоем грунта в водоохраной зоне в районе деревни Шилова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76000" y="404280"/>
            <a:ext cx="7488360" cy="15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ля изменения экологической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безопасност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необходимо решить следующие основные задачи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47640" y="2133360"/>
            <a:ext cx="7345440" cy="42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реализовать комплексные меры по улучшению экологической ситуации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проводить медико-экологическую реабилитацию населения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способствовать снижению техногенной нагрузки на окружающую среду от выбросов и сбросов загрязняющих веществ и размещения отходов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1:28:39Z</dcterms:created>
  <dc:creator>01</dc:creator>
  <dc:description/>
  <dc:language>en-US</dc:language>
  <cp:lastModifiedBy>admin</cp:lastModifiedBy>
  <dcterms:modified xsi:type="dcterms:W3CDTF">2007-01-24T02:26:54Z</dcterms:modified>
  <cp:revision>6</cp:revision>
  <dc:subject/>
  <dc:title>Экология Краснокамска</dc:title>
</cp:coreProperties>
</file>