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52DE2-9558-42BA-A4AC-F063D478C37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8AFA6-D87D-4290-9B03-C95EF15FCF7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86216-6C4D-4306-B15C-9CE00CBCE4C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B8B02-F9CA-49A7-A08F-AA14D1AB38B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C436A-5BD6-4FFD-A342-ED38746815E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983E1-8581-4294-95ED-E2194927BE3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A4435-3F9C-4445-9A6B-3C7495F0CC8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4BD1F-1598-4841-A53A-98D716FB98B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75864-EAA9-46B2-B48B-D973294EDBD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C917D-DBED-473D-8573-4C9391D4AFD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6BFDA-687C-4D14-A2D0-82592979172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278E-68CE-4529-B1B9-CF915D895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4D13-ED88-4903-B5AE-7C6C242E3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1FDA-1A0D-4004-B6D1-C76C2728B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2A45-CE7A-431B-A24C-0D5FB59B6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79A0-5C06-4957-91ED-B545FC55B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E1C8-C25F-40C2-9E11-7B3C37D34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EA58-83A4-4A61-AC06-804BC2D52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D73D-F3A7-4CF1-B3A3-91FE219B9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1D15-96DD-40A5-9F38-65A756398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44F6-A786-4180-BBAF-923AAD2F9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935D-A1E7-409C-AC39-07A3AE68D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E674-CB55-4289-94F0-7B75DF44B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52F5E-39CC-4162-9F24-306E17B8C53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03_03_08_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Organization Chart 7"/>
          <p:cNvGrpSpPr/>
          <p:nvPr/>
        </p:nvGrpSpPr>
        <p:grpSpPr>
          <a:xfrm>
            <a:off x="467280" y="1628640"/>
            <a:ext cx="8138520" cy="3382920"/>
            <a:chOff x="467280" y="1628640"/>
            <a:chExt cx="8138520" cy="3382920"/>
          </a:xfrm>
        </p:grpSpPr>
        <p:cxnSp>
          <p:nvCxnSpPr>
            <p:cNvPr id="72" name="_s2052"/>
            <p:cNvCxnSpPr>
              <a:stCxn id="73" idx="0"/>
              <a:endCxn id="74" idx="2"/>
            </p:cNvCxnSpPr>
            <p:nvPr/>
          </p:nvCxnSpPr>
          <p:spPr>
            <a:xfrm flipV="1" rot="16200000">
              <a:off x="5239800" y="1647000"/>
              <a:ext cx="1257840" cy="2880720"/>
            </a:xfrm>
            <a:prstGeom prst="bentConnector3">
              <a:avLst>
                <a:gd name="adj1" fmla="val 9075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5" name="_s2053"/>
            <p:cNvCxnSpPr>
              <a:stCxn id="76" idx="0"/>
              <a:endCxn id="74" idx="1"/>
            </p:cNvCxnSpPr>
            <p:nvPr/>
          </p:nvCxnSpPr>
          <p:spPr>
            <a:xfrm flipV="1" rot="16200000">
              <a:off x="3871440" y="3015360"/>
              <a:ext cx="1257840" cy="144360"/>
            </a:xfrm>
            <a:prstGeom prst="bentConnector3">
              <a:avLst>
                <a:gd name="adj1" fmla="val 9075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7" name="_s2054"/>
            <p:cNvCxnSpPr>
              <a:stCxn id="78" idx="0"/>
              <a:endCxn id="74" idx="0"/>
            </p:cNvCxnSpPr>
            <p:nvPr/>
          </p:nvCxnSpPr>
          <p:spPr>
            <a:xfrm flipH="1" flipV="1" rot="5400000">
              <a:off x="2467800" y="1755360"/>
              <a:ext cx="1257840" cy="2664360"/>
            </a:xfrm>
            <a:prstGeom prst="bentConnector3">
              <a:avLst>
                <a:gd name="adj1" fmla="val 9075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74" name="_s2055"/>
            <p:cNvSpPr/>
            <p:nvPr/>
          </p:nvSpPr>
          <p:spPr>
            <a:xfrm>
              <a:off x="2483280" y="1628640"/>
              <a:ext cx="3889080" cy="83052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bbe0e3"/>
                </a:gs>
                <a:gs pos="50000">
                  <a:srgbClr val="ffffff"/>
                </a:gs>
                <a:gs pos="100000">
                  <a:srgbClr val="bbe0e3"/>
                </a:gs>
              </a:gsLst>
              <a:lin ang="8100000"/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6960" rIns="66960" tIns="33480" bIns="33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Среды обитания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_s2056"/>
            <p:cNvSpPr/>
            <p:nvPr/>
          </p:nvSpPr>
          <p:spPr>
            <a:xfrm>
              <a:off x="467280" y="3716280"/>
              <a:ext cx="2594880" cy="12952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333399"/>
                </a:gs>
                <a:gs pos="50000">
                  <a:srgbClr val="ffffff"/>
                </a:gs>
                <a:gs pos="100000">
                  <a:srgbClr val="333399"/>
                </a:gs>
              </a:gsLst>
              <a:lin ang="8100000"/>
            </a:gradFill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6960" rIns="66960" tIns="33480" bIns="33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наземно-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воздушная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_s2057"/>
            <p:cNvSpPr/>
            <p:nvPr/>
          </p:nvSpPr>
          <p:spPr>
            <a:xfrm>
              <a:off x="3277080" y="3716280"/>
              <a:ext cx="2591640" cy="12952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333399"/>
                </a:gs>
                <a:gs pos="50000">
                  <a:srgbClr val="ffffff"/>
                </a:gs>
                <a:gs pos="100000">
                  <a:srgbClr val="333399"/>
                </a:gs>
              </a:gsLst>
              <a:lin ang="8100000"/>
            </a:gradFill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6960" rIns="66960" tIns="33480" bIns="33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водная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_s2058"/>
            <p:cNvSpPr/>
            <p:nvPr/>
          </p:nvSpPr>
          <p:spPr>
            <a:xfrm>
              <a:off x="6011280" y="3716280"/>
              <a:ext cx="2594520" cy="12952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333399"/>
                </a:gs>
                <a:gs pos="50000">
                  <a:srgbClr val="ffffff"/>
                </a:gs>
                <a:gs pos="100000">
                  <a:srgbClr val="333399"/>
                </a:gs>
              </a:gsLst>
              <a:lin ang="8100000"/>
            </a:gradFill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6960" rIns="66960" tIns="33480" bIns="33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почвенная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10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Характеристика сред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229600" cy="132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акторы      водная            почвенная        наземно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реды                                                            воздушная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1" descr="KorkinaO2"/>
          <p:cNvPicPr/>
          <p:nvPr/>
        </p:nvPicPr>
        <p:blipFill>
          <a:blip r:embed="rId1"/>
          <a:stretch/>
        </p:blipFill>
        <p:spPr>
          <a:xfrm>
            <a:off x="468360" y="2708280"/>
            <a:ext cx="820728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 Black"/>
              </a:rPr>
              <a:t>АДАПТА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ПРИСПОСОБЛЕНИЯ, ОБЕСПЕЧИВАЮЩИЕ ВОЗМОЖНОСТЬ ОБИТАНИЯ ОРГАНИЗМОВ В УСЛОВИЯХ ВНЕШНЕЙ СРЕ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6" descr="03_05_04_08"/>
          <p:cNvPicPr/>
          <p:nvPr/>
        </p:nvPicPr>
        <p:blipFill>
          <a:blip r:embed="rId1"/>
          <a:stretch/>
        </p:blipFill>
        <p:spPr>
          <a:xfrm>
            <a:off x="4572000" y="1773360"/>
            <a:ext cx="403848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03_03_06_27"/>
          <p:cNvPicPr/>
          <p:nvPr/>
        </p:nvPicPr>
        <p:blipFill>
          <a:blip r:embed="rId1"/>
          <a:stretch/>
        </p:blipFill>
        <p:spPr>
          <a:xfrm>
            <a:off x="0" y="281160"/>
            <a:ext cx="9144000" cy="63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ыводы по уроку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99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Arial"/>
              </a:rPr>
              <a:t>C</a:t>
            </a:r>
            <a:r>
              <a:rPr b="1" i="1" lang="ru-RU" sz="3200" spc="-1" strike="noStrike">
                <a:solidFill>
                  <a:srgbClr val="000099"/>
                </a:solidFill>
                <a:latin typeface="Arial"/>
              </a:rPr>
              <a:t>реда обитания – условия, окружающие организ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99"/>
                </a:solidFill>
                <a:latin typeface="Arial"/>
              </a:rPr>
              <a:t>Различают наземно– воздушную, водную и почвенную среды обит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99"/>
                </a:solidFill>
                <a:latin typeface="Arial"/>
              </a:rPr>
              <a:t>Каждый организм приспособлен к жизни в определенной сре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03_03_08_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03_04_03_03"/>
          <p:cNvPicPr/>
          <p:nvPr/>
        </p:nvPicPr>
        <p:blipFill>
          <a:blip r:embed="rId1"/>
          <a:stretch/>
        </p:blipFill>
        <p:spPr>
          <a:xfrm>
            <a:off x="-757080" y="-243000"/>
            <a:ext cx="9901080" cy="742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8"/>
          <p:cNvSpPr/>
          <p:nvPr/>
        </p:nvSpPr>
        <p:spPr>
          <a:xfrm>
            <a:off x="3098880" y="1652760"/>
            <a:ext cx="12110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Object 5"/>
          <p:cNvGraphicFramePr/>
          <p:nvPr/>
        </p:nvGraphicFramePr>
        <p:xfrm>
          <a:off x="2843280" y="2060640"/>
          <a:ext cx="685800" cy="273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3280" y="2060640"/>
                    <a:ext cx="685800" cy="273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Rectangle 10"/>
          <p:cNvSpPr/>
          <p:nvPr/>
        </p:nvSpPr>
        <p:spPr>
          <a:xfrm>
            <a:off x="3098880" y="1652760"/>
            <a:ext cx="1736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1619280" y="260280"/>
          <a:ext cx="5291280" cy="5473800"/>
        </p:xfrm>
        <a:graphic>
          <a:graphicData uri="http://schemas.openxmlformats.org/drawingml/2006/table">
            <a:tbl>
              <a:tblPr/>
              <a:tblGrid>
                <a:gridCol w="2173320"/>
                <a:gridCol w="3117960"/>
              </a:tblGrid>
              <a:tr h="175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</a:t>
                      </a: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словия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словия царств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текаемая форма те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личие слизи на тел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авник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ас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кожный слой жи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8" descr="03_04_04_02"/>
          <p:cNvPicPr/>
          <p:nvPr/>
        </p:nvPicPr>
        <p:blipFill>
          <a:blip r:embed="rId2"/>
          <a:stretch/>
        </p:blipFill>
        <p:spPr>
          <a:xfrm>
            <a:off x="4788000" y="1484280"/>
            <a:ext cx="4105080" cy="2259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9" descr="03_05_04_26"/>
          <p:cNvPicPr/>
          <p:nvPr/>
        </p:nvPicPr>
        <p:blipFill>
          <a:blip r:embed="rId3"/>
          <a:stretch/>
        </p:blipFill>
        <p:spPr>
          <a:xfrm>
            <a:off x="4788000" y="3933720"/>
            <a:ext cx="417672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03_03_06_31"/>
          <p:cNvPicPr/>
          <p:nvPr/>
        </p:nvPicPr>
        <p:blipFill>
          <a:blip r:embed="rId1"/>
          <a:stretch/>
        </p:blipFill>
        <p:spPr>
          <a:xfrm>
            <a:off x="142920" y="1357200"/>
            <a:ext cx="4714920" cy="40212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827600" y="907560"/>
            <a:ext cx="43164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рыл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нечност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для передвижения по твердой поверх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шерст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испособления для экономного расходования влаг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испособления для опыления раст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8229600" cy="25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орошо развиты органы: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корень,  стебель, листья 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способления к опылению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яркая окраска цветков, арома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способления к сохранению вла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2" descr="03_03_05_06"/>
          <p:cNvPicPr/>
          <p:nvPr/>
        </p:nvPicPr>
        <p:blipFill>
          <a:blip r:embed="rId1">
            <a:lum bright="8000"/>
          </a:blip>
          <a:stretch/>
        </p:blipFill>
        <p:spPr>
          <a:xfrm>
            <a:off x="0" y="3429000"/>
            <a:ext cx="3635280" cy="32846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3" descr="03_05_03_22"/>
          <p:cNvPicPr/>
          <p:nvPr/>
        </p:nvPicPr>
        <p:blipFill>
          <a:blip r:embed="rId2"/>
          <a:stretch/>
        </p:blipFill>
        <p:spPr>
          <a:xfrm>
            <a:off x="3635280" y="3141720"/>
            <a:ext cx="529272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1" descr="03_04_03_07"/>
          <p:cNvPicPr/>
          <p:nvPr/>
        </p:nvPicPr>
        <p:blipFill>
          <a:blip r:embed="rId1"/>
          <a:stretch/>
        </p:blipFill>
        <p:spPr>
          <a:xfrm>
            <a:off x="4788000" y="3573360"/>
            <a:ext cx="4103640" cy="2718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0" descr="03_04_03_06"/>
          <p:cNvPicPr/>
          <p:nvPr/>
        </p:nvPicPr>
        <p:blipFill>
          <a:blip r:embed="rId2"/>
          <a:stretch/>
        </p:blipFill>
        <p:spPr>
          <a:xfrm>
            <a:off x="4788000" y="476280"/>
            <a:ext cx="4038480" cy="236844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16"/>
          <p:cNvSpPr/>
          <p:nvPr/>
        </p:nvSpPr>
        <p:spPr>
          <a:xfrm>
            <a:off x="250920" y="1125360"/>
            <a:ext cx="4316400" cy="49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рганы зрения развиты слабо либо отсутствую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нечности роющего типа либо отсутствую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орошо развитое обоня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 Black"/>
              </a:rPr>
              <a:t>СРЕДА ОБИТ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условия, окружающие организ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03_04_03_07"/>
          <p:cNvPicPr/>
          <p:nvPr/>
        </p:nvPicPr>
        <p:blipFill>
          <a:blip r:embed="rId1"/>
          <a:stretch/>
        </p:blipFill>
        <p:spPr>
          <a:xfrm>
            <a:off x="4648320" y="2523960"/>
            <a:ext cx="403848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5T15:30:59Z</dcterms:created>
  <dc:creator>2</dc:creator>
  <dc:description/>
  <dc:language>en-US</dc:language>
  <cp:lastModifiedBy>Владелец</cp:lastModifiedBy>
  <dcterms:modified xsi:type="dcterms:W3CDTF">2009-02-02T07:50:23Z</dcterms:modified>
  <cp:revision>36</cp:revision>
  <dc:subject/>
  <dc:title>Среды обитания организмов. Приспособленность организмов к среде обитания.</dc:title>
</cp:coreProperties>
</file>